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47B-9B05-4D7B-83E2-D3748CE6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CA2-54E7-447F-B24A-615E4360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164-D03F-40E4-830F-7EA71A5A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958-EA2F-4C0A-B66E-2C4D2396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65D-1B47-47ED-A598-90060888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CE6-5200-4E3C-B97C-4231900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6D07-DB96-4751-8D2F-B2DFFD5C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6586-0866-4F89-9752-196BF96F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F25-8B39-4A39-87C3-66B02A0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BE06-357B-478E-9140-99326491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005-2BFC-4693-8075-C6A1153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810-ACAE-40A7-B79E-207079E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926C-A375-4DB5-A0E4-C90981A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4724-F40F-4CBF-8891-6F678C5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B311-FC2A-4CD9-AEEA-D8806B5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B025-D4CE-4B50-B2EB-3A524909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A5D-A38D-4739-B359-97FF358C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98D-38BF-4D09-8974-B80810C8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7FB-503E-4B32-B216-F7F7249D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F59-061D-447C-8596-06AF6F89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473-1F76-46E3-8430-DE4DE32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D5B-753B-4949-A14C-3D6E679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39A-F80F-4299-9F4D-FEFBEC7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64A-6125-4CD8-920F-2E2BDFE7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4EB-B11E-45BA-9367-E015CF518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6E4D-0CE7-4CAA-A6F0-4DA326983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ree_graph_downloads/handygraph1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ednesday, February 18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omponent form of a vector PQ with initial point (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and terminal point (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) i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&lt;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equal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98760" y="2759040"/>
            <a:ext cx="1830240" cy="938160"/>
          </a:xfrm>
          <a:custGeom>
            <a:avLst/>
            <a:gdLst/>
            <a:ahLst/>
            <a:rect l="l" t="t" r="r" b="b"/>
            <a:pathLst>
              <a:path w="5086" h="2605">
                <a:moveTo>
                  <a:pt x="6449" y="8632"/>
                </a:moveTo>
                <a:cubicBezTo>
                  <a:pt x="6439" y="8661"/>
                  <a:pt x="6429" y="8674"/>
                  <a:pt x="6400" y="8706"/>
                </a:cubicBezTo>
                <a:cubicBezTo>
                  <a:pt x="6351" y="8761"/>
                  <a:pt x="6305" y="8810"/>
                  <a:pt x="6276" y="8880"/>
                </a:cubicBezTo>
                <a:cubicBezTo>
                  <a:pt x="6234" y="8982"/>
                  <a:pt x="6187" y="9072"/>
                  <a:pt x="6152" y="9178"/>
                </a:cubicBezTo>
                <a:cubicBezTo>
                  <a:pt x="6119" y="9277"/>
                  <a:pt x="6127" y="9371"/>
                  <a:pt x="6127" y="9475"/>
                </a:cubicBezTo>
                <a:cubicBezTo>
                  <a:pt x="6127" y="9580"/>
                  <a:pt x="6139" y="9629"/>
                  <a:pt x="6176" y="9723"/>
                </a:cubicBezTo>
                <a:cubicBezTo>
                  <a:pt x="6196" y="9774"/>
                  <a:pt x="6226" y="9926"/>
                  <a:pt x="6226" y="9872"/>
                </a:cubicBezTo>
                <a:cubicBezTo>
                  <a:pt x="6226" y="9847"/>
                  <a:pt x="6226" y="9839"/>
                  <a:pt x="6251" y="9847"/>
                </a:cubicBezTo>
              </a:path>
              <a:path w="5086" h="2605">
                <a:moveTo>
                  <a:pt x="9252" y="8731"/>
                </a:moveTo>
                <a:cubicBezTo>
                  <a:pt x="9284" y="8841"/>
                  <a:pt x="9306" y="8928"/>
                  <a:pt x="9351" y="9029"/>
                </a:cubicBezTo>
                <a:cubicBezTo>
                  <a:pt x="9422" y="9187"/>
                  <a:pt x="9452" y="9336"/>
                  <a:pt x="9500" y="9500"/>
                </a:cubicBezTo>
                <a:cubicBezTo>
                  <a:pt x="9526" y="9591"/>
                  <a:pt x="9541" y="9667"/>
                  <a:pt x="9500" y="9748"/>
                </a:cubicBezTo>
                <a:cubicBezTo>
                  <a:pt x="9470" y="9808"/>
                  <a:pt x="9423" y="9860"/>
                  <a:pt x="9351" y="9872"/>
                </a:cubicBezTo>
                <a:cubicBezTo>
                  <a:pt x="9277" y="9885"/>
                  <a:pt x="9203" y="9891"/>
                  <a:pt x="9128" y="9897"/>
                </a:cubicBezTo>
              </a:path>
              <a:path w="5086" h="2605">
                <a:moveTo>
                  <a:pt x="6474" y="9401"/>
                </a:moveTo>
                <a:cubicBezTo>
                  <a:pt x="6580" y="9401"/>
                  <a:pt x="6629" y="9414"/>
                  <a:pt x="6722" y="9426"/>
                </a:cubicBezTo>
                <a:cubicBezTo>
                  <a:pt x="6817" y="9439"/>
                  <a:pt x="6924" y="9426"/>
                  <a:pt x="7020" y="9426"/>
                </a:cubicBezTo>
              </a:path>
              <a:path w="5086" h="2605">
                <a:moveTo>
                  <a:pt x="7293" y="9029"/>
                </a:moveTo>
                <a:cubicBezTo>
                  <a:pt x="7293" y="9135"/>
                  <a:pt x="7272" y="9223"/>
                  <a:pt x="7268" y="9327"/>
                </a:cubicBezTo>
                <a:cubicBezTo>
                  <a:pt x="7264" y="9436"/>
                  <a:pt x="7243" y="9539"/>
                  <a:pt x="7243" y="9649"/>
                </a:cubicBezTo>
                <a:cubicBezTo>
                  <a:pt x="7243" y="9707"/>
                  <a:pt x="7243" y="9765"/>
                  <a:pt x="7243" y="9823"/>
                </a:cubicBezTo>
              </a:path>
              <a:path w="5086" h="2605">
                <a:moveTo>
                  <a:pt x="7615" y="9847"/>
                </a:moveTo>
                <a:cubicBezTo>
                  <a:pt x="7590" y="9966"/>
                  <a:pt x="7550" y="10100"/>
                  <a:pt x="7541" y="10220"/>
                </a:cubicBezTo>
                <a:cubicBezTo>
                  <a:pt x="7541" y="10244"/>
                  <a:pt x="7541" y="10253"/>
                  <a:pt x="7541" y="10269"/>
                </a:cubicBezTo>
              </a:path>
              <a:path w="5086" h="2605">
                <a:moveTo>
                  <a:pt x="8086" y="9203"/>
                </a:moveTo>
                <a:cubicBezTo>
                  <a:pt x="8197" y="9161"/>
                  <a:pt x="8216" y="9153"/>
                  <a:pt x="8334" y="9153"/>
                </a:cubicBezTo>
                <a:cubicBezTo>
                  <a:pt x="8386" y="9153"/>
                  <a:pt x="8501" y="9147"/>
                  <a:pt x="8533" y="9203"/>
                </a:cubicBezTo>
                <a:cubicBezTo>
                  <a:pt x="8556" y="9244"/>
                  <a:pt x="8523" y="9323"/>
                  <a:pt x="8508" y="9351"/>
                </a:cubicBezTo>
                <a:cubicBezTo>
                  <a:pt x="8465" y="9431"/>
                  <a:pt x="8398" y="9486"/>
                  <a:pt x="8334" y="9550"/>
                </a:cubicBezTo>
                <a:cubicBezTo>
                  <a:pt x="8272" y="9612"/>
                  <a:pt x="8209" y="9676"/>
                  <a:pt x="8161" y="9748"/>
                </a:cubicBezTo>
                <a:cubicBezTo>
                  <a:pt x="8125" y="9802"/>
                  <a:pt x="8128" y="9843"/>
                  <a:pt x="8161" y="9897"/>
                </a:cubicBezTo>
                <a:cubicBezTo>
                  <a:pt x="8192" y="9947"/>
                  <a:pt x="8308" y="9967"/>
                  <a:pt x="8359" y="9971"/>
                </a:cubicBezTo>
                <a:cubicBezTo>
                  <a:pt x="8483" y="9980"/>
                  <a:pt x="8609" y="9990"/>
                  <a:pt x="8731" y="9996"/>
                </a:cubicBezTo>
                <a:cubicBezTo>
                  <a:pt x="8776" y="9998"/>
                  <a:pt x="8855" y="10016"/>
                  <a:pt x="8855" y="9971"/>
                </a:cubicBezTo>
                <a:cubicBezTo>
                  <a:pt x="8855" y="9910"/>
                  <a:pt x="8836" y="9966"/>
                  <a:pt x="8830" y="9971"/>
                </a:cubicBezTo>
              </a:path>
              <a:path w="5086" h="2605">
                <a:moveTo>
                  <a:pt x="4688" y="9128"/>
                </a:moveTo>
                <a:cubicBezTo>
                  <a:pt x="4688" y="9078"/>
                  <a:pt x="4688" y="9177"/>
                  <a:pt x="4688" y="9227"/>
                </a:cubicBezTo>
                <a:cubicBezTo>
                  <a:pt x="4688" y="9330"/>
                  <a:pt x="4710" y="9423"/>
                  <a:pt x="4713" y="9525"/>
                </a:cubicBezTo>
                <a:cubicBezTo>
                  <a:pt x="4716" y="9631"/>
                  <a:pt x="4750" y="9723"/>
                  <a:pt x="4762" y="9823"/>
                </a:cubicBezTo>
                <a:cubicBezTo>
                  <a:pt x="4772" y="9901"/>
                  <a:pt x="4787" y="9966"/>
                  <a:pt x="4787" y="10046"/>
                </a:cubicBezTo>
                <a:cubicBezTo>
                  <a:pt x="4787" y="10071"/>
                  <a:pt x="4787" y="10079"/>
                  <a:pt x="4787" y="10096"/>
                </a:cubicBezTo>
                <a:cubicBezTo>
                  <a:pt x="4787" y="10054"/>
                  <a:pt x="4787" y="10013"/>
                  <a:pt x="4787" y="9971"/>
                </a:cubicBezTo>
              </a:path>
              <a:path w="5086" h="2605">
                <a:moveTo>
                  <a:pt x="4440" y="9103"/>
                </a:moveTo>
                <a:cubicBezTo>
                  <a:pt x="4507" y="8986"/>
                  <a:pt x="4532" y="8943"/>
                  <a:pt x="4663" y="8905"/>
                </a:cubicBezTo>
                <a:cubicBezTo>
                  <a:pt x="4793" y="8867"/>
                  <a:pt x="4955" y="8862"/>
                  <a:pt x="5085" y="8905"/>
                </a:cubicBezTo>
                <a:cubicBezTo>
                  <a:pt x="5200" y="8943"/>
                  <a:pt x="5328" y="9003"/>
                  <a:pt x="5358" y="9128"/>
                </a:cubicBezTo>
                <a:cubicBezTo>
                  <a:pt x="5384" y="9236"/>
                  <a:pt x="5341" y="9274"/>
                  <a:pt x="5259" y="9327"/>
                </a:cubicBezTo>
                <a:cubicBezTo>
                  <a:pt x="5140" y="9404"/>
                  <a:pt x="5019" y="9475"/>
                  <a:pt x="4887" y="9525"/>
                </a:cubicBezTo>
                <a:cubicBezTo>
                  <a:pt x="4879" y="9528"/>
                  <a:pt x="4718" y="9580"/>
                  <a:pt x="4713" y="9575"/>
                </a:cubicBezTo>
                <a:cubicBezTo>
                  <a:pt x="4713" y="9567"/>
                  <a:pt x="4713" y="9558"/>
                  <a:pt x="4713" y="9550"/>
                </a:cubicBezTo>
              </a:path>
              <a:path w="5086" h="2605">
                <a:moveTo>
                  <a:pt x="6251" y="7665"/>
                </a:moveTo>
                <a:cubicBezTo>
                  <a:pt x="6251" y="7785"/>
                  <a:pt x="6262" y="7899"/>
                  <a:pt x="6276" y="8012"/>
                </a:cubicBezTo>
                <a:cubicBezTo>
                  <a:pt x="6288" y="8110"/>
                  <a:pt x="6289" y="8212"/>
                  <a:pt x="6300" y="8310"/>
                </a:cubicBezTo>
                <a:cubicBezTo>
                  <a:pt x="6307" y="8366"/>
                  <a:pt x="6300" y="8427"/>
                  <a:pt x="6300" y="8483"/>
                </a:cubicBezTo>
              </a:path>
              <a:path w="5086" h="2605">
                <a:moveTo>
                  <a:pt x="5854" y="8508"/>
                </a:moveTo>
                <a:cubicBezTo>
                  <a:pt x="5945" y="8538"/>
                  <a:pt x="6029" y="8533"/>
                  <a:pt x="6127" y="8533"/>
                </a:cubicBezTo>
                <a:cubicBezTo>
                  <a:pt x="6272" y="8533"/>
                  <a:pt x="6408" y="8524"/>
                  <a:pt x="6548" y="8508"/>
                </a:cubicBezTo>
                <a:cubicBezTo>
                  <a:pt x="6563" y="8506"/>
                  <a:pt x="6704" y="8521"/>
                  <a:pt x="6697" y="8458"/>
                </a:cubicBezTo>
                <a:cubicBezTo>
                  <a:pt x="6689" y="8450"/>
                  <a:pt x="6680" y="8442"/>
                  <a:pt x="6672" y="8434"/>
                </a:cubicBezTo>
              </a:path>
              <a:path w="5086" h="2605">
                <a:moveTo>
                  <a:pt x="5904" y="7838"/>
                </a:moveTo>
                <a:cubicBezTo>
                  <a:pt x="5995" y="7768"/>
                  <a:pt x="6066" y="7767"/>
                  <a:pt x="6176" y="7739"/>
                </a:cubicBezTo>
                <a:cubicBezTo>
                  <a:pt x="6292" y="7710"/>
                  <a:pt x="6407" y="7677"/>
                  <a:pt x="6524" y="7665"/>
                </a:cubicBezTo>
                <a:cubicBezTo>
                  <a:pt x="6588" y="7658"/>
                  <a:pt x="6657" y="7665"/>
                  <a:pt x="6722" y="7665"/>
                </a:cubicBezTo>
              </a:path>
              <a:path w="5086" h="2605">
                <a:moveTo>
                  <a:pt x="6722" y="8334"/>
                </a:moveTo>
                <a:cubicBezTo>
                  <a:pt x="6689" y="8469"/>
                  <a:pt x="6672" y="8501"/>
                  <a:pt x="6672" y="8607"/>
                </a:cubicBezTo>
                <a:cubicBezTo>
                  <a:pt x="6672" y="8615"/>
                  <a:pt x="6672" y="8624"/>
                  <a:pt x="6672" y="8632"/>
                </a:cubicBezTo>
                <a:cubicBezTo>
                  <a:pt x="6682" y="8593"/>
                  <a:pt x="6685" y="8550"/>
                  <a:pt x="6697" y="8508"/>
                </a:cubicBezTo>
                <a:cubicBezTo>
                  <a:pt x="6721" y="8426"/>
                  <a:pt x="6755" y="8363"/>
                  <a:pt x="6796" y="8285"/>
                </a:cubicBezTo>
                <a:cubicBezTo>
                  <a:pt x="6824" y="8231"/>
                  <a:pt x="6849" y="8186"/>
                  <a:pt x="6921" y="8210"/>
                </a:cubicBezTo>
                <a:cubicBezTo>
                  <a:pt x="7013" y="8241"/>
                  <a:pt x="6989" y="8318"/>
                  <a:pt x="7020" y="8384"/>
                </a:cubicBezTo>
                <a:cubicBezTo>
                  <a:pt x="7044" y="8435"/>
                  <a:pt x="7045" y="8470"/>
                  <a:pt x="7045" y="8533"/>
                </a:cubicBezTo>
                <a:cubicBezTo>
                  <a:pt x="7045" y="8570"/>
                  <a:pt x="7038" y="8592"/>
                  <a:pt x="7020" y="8558"/>
                </a:cubicBezTo>
              </a:path>
              <a:path w="5086" h="2605">
                <a:moveTo>
                  <a:pt x="7268" y="8334"/>
                </a:moveTo>
                <a:cubicBezTo>
                  <a:pt x="7268" y="8349"/>
                  <a:pt x="7268" y="8543"/>
                  <a:pt x="7268" y="8483"/>
                </a:cubicBezTo>
                <a:cubicBezTo>
                  <a:pt x="7268" y="8475"/>
                  <a:pt x="7268" y="8466"/>
                  <a:pt x="7268" y="8458"/>
                </a:cubicBezTo>
              </a:path>
              <a:path w="5086" h="2605">
                <a:moveTo>
                  <a:pt x="7615" y="7913"/>
                </a:moveTo>
                <a:cubicBezTo>
                  <a:pt x="7608" y="8010"/>
                  <a:pt x="7558" y="8142"/>
                  <a:pt x="7565" y="8235"/>
                </a:cubicBezTo>
                <a:cubicBezTo>
                  <a:pt x="7570" y="8307"/>
                  <a:pt x="7603" y="8397"/>
                  <a:pt x="7615" y="8458"/>
                </a:cubicBezTo>
                <a:cubicBezTo>
                  <a:pt x="7625" y="8509"/>
                  <a:pt x="7652" y="8570"/>
                  <a:pt x="7615" y="8533"/>
                </a:cubicBezTo>
                <a:cubicBezTo>
                  <a:pt x="7607" y="8525"/>
                  <a:pt x="7598" y="8516"/>
                  <a:pt x="7590" y="8508"/>
                </a:cubicBezTo>
              </a:path>
              <a:path w="5086" h="2605">
                <a:moveTo>
                  <a:pt x="7392" y="8285"/>
                </a:moveTo>
                <a:cubicBezTo>
                  <a:pt x="7522" y="8270"/>
                  <a:pt x="7636" y="8260"/>
                  <a:pt x="7764" y="8260"/>
                </a:cubicBezTo>
                <a:cubicBezTo>
                  <a:pt x="7834" y="8260"/>
                  <a:pt x="7872" y="8313"/>
                  <a:pt x="7888" y="8384"/>
                </a:cubicBezTo>
                <a:cubicBezTo>
                  <a:pt x="7901" y="8444"/>
                  <a:pt x="7940" y="8503"/>
                  <a:pt x="7913" y="8558"/>
                </a:cubicBezTo>
                <a:cubicBezTo>
                  <a:pt x="7898" y="8588"/>
                  <a:pt x="7888" y="8516"/>
                  <a:pt x="7888" y="8483"/>
                </a:cubicBezTo>
              </a:path>
              <a:path w="5086" h="2605">
                <a:moveTo>
                  <a:pt x="7962" y="8086"/>
                </a:moveTo>
                <a:cubicBezTo>
                  <a:pt x="7970" y="8086"/>
                  <a:pt x="7979" y="8086"/>
                  <a:pt x="7987" y="8086"/>
                </a:cubicBezTo>
              </a:path>
              <a:path w="5086" h="2605">
                <a:moveTo>
                  <a:pt x="8210" y="8334"/>
                </a:moveTo>
                <a:cubicBezTo>
                  <a:pt x="8178" y="8385"/>
                  <a:pt x="8125" y="8451"/>
                  <a:pt x="8111" y="8508"/>
                </a:cubicBezTo>
                <a:cubicBezTo>
                  <a:pt x="8118" y="8523"/>
                  <a:pt x="8165" y="8525"/>
                  <a:pt x="8186" y="8483"/>
                </a:cubicBezTo>
                <a:cubicBezTo>
                  <a:pt x="8202" y="8450"/>
                  <a:pt x="8216" y="8391"/>
                  <a:pt x="8235" y="8359"/>
                </a:cubicBezTo>
                <a:cubicBezTo>
                  <a:pt x="8243" y="8351"/>
                  <a:pt x="8252" y="8342"/>
                  <a:pt x="8260" y="8334"/>
                </a:cubicBezTo>
                <a:cubicBezTo>
                  <a:pt x="8260" y="8411"/>
                  <a:pt x="8253" y="8427"/>
                  <a:pt x="8334" y="8434"/>
                </a:cubicBezTo>
                <a:cubicBezTo>
                  <a:pt x="8367" y="8437"/>
                  <a:pt x="8465" y="8424"/>
                  <a:pt x="8483" y="8409"/>
                </a:cubicBezTo>
                <a:cubicBezTo>
                  <a:pt x="8491" y="8392"/>
                  <a:pt x="8500" y="8376"/>
                  <a:pt x="8508" y="8359"/>
                </a:cubicBezTo>
              </a:path>
              <a:path w="5086" h="2605">
                <a:moveTo>
                  <a:pt x="8582" y="7863"/>
                </a:moveTo>
                <a:cubicBezTo>
                  <a:pt x="8582" y="7982"/>
                  <a:pt x="8573" y="8104"/>
                  <a:pt x="8582" y="8210"/>
                </a:cubicBezTo>
                <a:cubicBezTo>
                  <a:pt x="8589" y="8298"/>
                  <a:pt x="8603" y="8372"/>
                  <a:pt x="8607" y="8458"/>
                </a:cubicBezTo>
                <a:cubicBezTo>
                  <a:pt x="8607" y="8475"/>
                  <a:pt x="8607" y="8491"/>
                  <a:pt x="8607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7120" y="3017880"/>
            <a:ext cx="1901880" cy="1000080"/>
          </a:xfrm>
          <a:custGeom>
            <a:avLst/>
            <a:gdLst/>
            <a:ahLst/>
            <a:rect l="l" t="t" r="r" b="b"/>
            <a:pathLst>
              <a:path w="5285" h="2779">
                <a:moveTo>
                  <a:pt x="11311" y="9203"/>
                </a:moveTo>
                <a:cubicBezTo>
                  <a:pt x="11241" y="9235"/>
                  <a:pt x="11191" y="9261"/>
                  <a:pt x="11137" y="9327"/>
                </a:cubicBezTo>
                <a:cubicBezTo>
                  <a:pt x="11029" y="9459"/>
                  <a:pt x="10910" y="9620"/>
                  <a:pt x="10840" y="9773"/>
                </a:cubicBezTo>
                <a:cubicBezTo>
                  <a:pt x="10777" y="9911"/>
                  <a:pt x="10716" y="10121"/>
                  <a:pt x="10765" y="10269"/>
                </a:cubicBezTo>
                <a:cubicBezTo>
                  <a:pt x="10834" y="10478"/>
                  <a:pt x="10928" y="10520"/>
                  <a:pt x="11137" y="10542"/>
                </a:cubicBezTo>
                <a:cubicBezTo>
                  <a:pt x="11264" y="10555"/>
                  <a:pt x="11462" y="10503"/>
                  <a:pt x="11559" y="10418"/>
                </a:cubicBezTo>
                <a:cubicBezTo>
                  <a:pt x="11682" y="10310"/>
                  <a:pt x="11764" y="10159"/>
                  <a:pt x="11782" y="9996"/>
                </a:cubicBezTo>
                <a:cubicBezTo>
                  <a:pt x="11797" y="9860"/>
                  <a:pt x="11756" y="9654"/>
                  <a:pt x="11658" y="9550"/>
                </a:cubicBezTo>
                <a:cubicBezTo>
                  <a:pt x="11603" y="9492"/>
                  <a:pt x="11378" y="9272"/>
                  <a:pt x="11237" y="9277"/>
                </a:cubicBezTo>
                <a:cubicBezTo>
                  <a:pt x="11168" y="9280"/>
                  <a:pt x="11171" y="9298"/>
                  <a:pt x="11162" y="9351"/>
                </a:cubicBezTo>
                <a:cubicBezTo>
                  <a:pt x="11162" y="9359"/>
                  <a:pt x="11162" y="9368"/>
                  <a:pt x="11162" y="9376"/>
                </a:cubicBezTo>
              </a:path>
              <a:path w="5285" h="2779">
                <a:moveTo>
                  <a:pt x="11410" y="10269"/>
                </a:moveTo>
                <a:cubicBezTo>
                  <a:pt x="11443" y="10367"/>
                  <a:pt x="11463" y="10441"/>
                  <a:pt x="11534" y="10517"/>
                </a:cubicBezTo>
                <a:cubicBezTo>
                  <a:pt x="11633" y="10621"/>
                  <a:pt x="11736" y="10739"/>
                  <a:pt x="11857" y="10815"/>
                </a:cubicBezTo>
              </a:path>
              <a:path w="5285" h="2779">
                <a:moveTo>
                  <a:pt x="13022" y="9227"/>
                </a:moveTo>
                <a:cubicBezTo>
                  <a:pt x="13054" y="9344"/>
                  <a:pt x="13031" y="9384"/>
                  <a:pt x="12998" y="9500"/>
                </a:cubicBezTo>
                <a:cubicBezTo>
                  <a:pt x="12960" y="9635"/>
                  <a:pt x="12867" y="9739"/>
                  <a:pt x="12824" y="9872"/>
                </a:cubicBezTo>
                <a:cubicBezTo>
                  <a:pt x="12780" y="10011"/>
                  <a:pt x="12739" y="10154"/>
                  <a:pt x="12700" y="10294"/>
                </a:cubicBezTo>
                <a:cubicBezTo>
                  <a:pt x="12645" y="10490"/>
                  <a:pt x="12662" y="10641"/>
                  <a:pt x="12700" y="10840"/>
                </a:cubicBezTo>
              </a:path>
              <a:path w="5285" h="2779">
                <a:moveTo>
                  <a:pt x="13345" y="9748"/>
                </a:moveTo>
                <a:cubicBezTo>
                  <a:pt x="13365" y="9690"/>
                  <a:pt x="13393" y="9678"/>
                  <a:pt x="13469" y="9674"/>
                </a:cubicBezTo>
                <a:cubicBezTo>
                  <a:pt x="13561" y="9670"/>
                  <a:pt x="13714" y="9647"/>
                  <a:pt x="13791" y="9699"/>
                </a:cubicBezTo>
                <a:cubicBezTo>
                  <a:pt x="13853" y="9741"/>
                  <a:pt x="13856" y="9788"/>
                  <a:pt x="13816" y="9847"/>
                </a:cubicBezTo>
                <a:cubicBezTo>
                  <a:pt x="13773" y="9911"/>
                  <a:pt x="13713" y="9961"/>
                  <a:pt x="13643" y="9996"/>
                </a:cubicBezTo>
                <a:cubicBezTo>
                  <a:pt x="13570" y="10033"/>
                  <a:pt x="13466" y="10009"/>
                  <a:pt x="13444" y="10096"/>
                </a:cubicBezTo>
                <a:cubicBezTo>
                  <a:pt x="13504" y="10108"/>
                  <a:pt x="13560" y="10124"/>
                  <a:pt x="13618" y="10145"/>
                </a:cubicBezTo>
                <a:cubicBezTo>
                  <a:pt x="13740" y="10188"/>
                  <a:pt x="13795" y="10205"/>
                  <a:pt x="13866" y="10319"/>
                </a:cubicBezTo>
                <a:cubicBezTo>
                  <a:pt x="13908" y="10386"/>
                  <a:pt x="13862" y="10482"/>
                  <a:pt x="13816" y="10542"/>
                </a:cubicBezTo>
                <a:cubicBezTo>
                  <a:pt x="13757" y="10619"/>
                  <a:pt x="13707" y="10650"/>
                  <a:pt x="13618" y="10666"/>
                </a:cubicBezTo>
                <a:cubicBezTo>
                  <a:pt x="13539" y="10681"/>
                  <a:pt x="13437" y="10720"/>
                  <a:pt x="13370" y="10666"/>
                </a:cubicBezTo>
                <a:cubicBezTo>
                  <a:pt x="13362" y="10658"/>
                  <a:pt x="13353" y="10649"/>
                  <a:pt x="13345" y="10641"/>
                </a:cubicBezTo>
              </a:path>
              <a:path w="5285" h="2779">
                <a:moveTo>
                  <a:pt x="13990" y="10864"/>
                </a:moveTo>
                <a:cubicBezTo>
                  <a:pt x="13989" y="10866"/>
                  <a:pt x="13851" y="11249"/>
                  <a:pt x="13915" y="11112"/>
                </a:cubicBezTo>
                <a:cubicBezTo>
                  <a:pt x="13923" y="11096"/>
                  <a:pt x="13932" y="11079"/>
                  <a:pt x="13940" y="11063"/>
                </a:cubicBezTo>
              </a:path>
              <a:path w="5285" h="2779">
                <a:moveTo>
                  <a:pt x="14560" y="9922"/>
                </a:moveTo>
                <a:cubicBezTo>
                  <a:pt x="14695" y="9864"/>
                  <a:pt x="14790" y="9838"/>
                  <a:pt x="14932" y="9823"/>
                </a:cubicBezTo>
                <a:cubicBezTo>
                  <a:pt x="15009" y="9815"/>
                  <a:pt x="15088" y="9844"/>
                  <a:pt x="15156" y="9798"/>
                </a:cubicBezTo>
                <a:cubicBezTo>
                  <a:pt x="15178" y="9776"/>
                  <a:pt x="15189" y="9767"/>
                  <a:pt x="15156" y="9773"/>
                </a:cubicBezTo>
              </a:path>
              <a:path w="5285" h="2779">
                <a:moveTo>
                  <a:pt x="14635" y="9971"/>
                </a:moveTo>
                <a:cubicBezTo>
                  <a:pt x="14578" y="10049"/>
                  <a:pt x="14486" y="10123"/>
                  <a:pt x="14486" y="10220"/>
                </a:cubicBezTo>
                <a:cubicBezTo>
                  <a:pt x="14524" y="10247"/>
                  <a:pt x="14538" y="10244"/>
                  <a:pt x="14585" y="10244"/>
                </a:cubicBezTo>
                <a:cubicBezTo>
                  <a:pt x="14648" y="10244"/>
                  <a:pt x="14689" y="10220"/>
                  <a:pt x="14759" y="10220"/>
                </a:cubicBezTo>
                <a:cubicBezTo>
                  <a:pt x="14860" y="10220"/>
                  <a:pt x="14920" y="10266"/>
                  <a:pt x="14982" y="10344"/>
                </a:cubicBezTo>
                <a:cubicBezTo>
                  <a:pt x="15062" y="10446"/>
                  <a:pt x="15100" y="10587"/>
                  <a:pt x="15081" y="10716"/>
                </a:cubicBezTo>
                <a:cubicBezTo>
                  <a:pt x="15069" y="10798"/>
                  <a:pt x="15057" y="10915"/>
                  <a:pt x="14957" y="10939"/>
                </a:cubicBezTo>
                <a:cubicBezTo>
                  <a:pt x="14859" y="10962"/>
                  <a:pt x="14806" y="10933"/>
                  <a:pt x="14734" y="10889"/>
                </a:cubicBezTo>
                <a:cubicBezTo>
                  <a:pt x="14673" y="10852"/>
                  <a:pt x="14667" y="10830"/>
                  <a:pt x="14635" y="10765"/>
                </a:cubicBezTo>
              </a:path>
              <a:path w="5285" h="2779">
                <a:moveTo>
                  <a:pt x="15701" y="9575"/>
                </a:moveTo>
                <a:cubicBezTo>
                  <a:pt x="15816" y="9739"/>
                  <a:pt x="15905" y="9889"/>
                  <a:pt x="15925" y="10096"/>
                </a:cubicBezTo>
                <a:cubicBezTo>
                  <a:pt x="15943" y="10280"/>
                  <a:pt x="15924" y="10447"/>
                  <a:pt x="15875" y="10616"/>
                </a:cubicBezTo>
                <a:cubicBezTo>
                  <a:pt x="15831" y="10766"/>
                  <a:pt x="15790" y="10838"/>
                  <a:pt x="15677" y="10939"/>
                </a:cubicBezTo>
                <a:cubicBezTo>
                  <a:pt x="15577" y="11029"/>
                  <a:pt x="15473" y="10964"/>
                  <a:pt x="15354" y="10939"/>
                </a:cubicBezTo>
              </a:path>
              <a:path w="5285" h="2779">
                <a:moveTo>
                  <a:pt x="13047" y="8483"/>
                </a:moveTo>
                <a:cubicBezTo>
                  <a:pt x="13047" y="8660"/>
                  <a:pt x="13053" y="8832"/>
                  <a:pt x="13072" y="9004"/>
                </a:cubicBezTo>
                <a:cubicBezTo>
                  <a:pt x="13081" y="9089"/>
                  <a:pt x="13097" y="9166"/>
                  <a:pt x="13097" y="9252"/>
                </a:cubicBezTo>
                <a:cubicBezTo>
                  <a:pt x="13097" y="9272"/>
                  <a:pt x="13113" y="9357"/>
                  <a:pt x="13097" y="9302"/>
                </a:cubicBezTo>
                <a:cubicBezTo>
                  <a:pt x="13089" y="9277"/>
                  <a:pt x="13080" y="9252"/>
                  <a:pt x="13072" y="9227"/>
                </a:cubicBezTo>
              </a:path>
              <a:path w="5285" h="2779">
                <a:moveTo>
                  <a:pt x="12502" y="8483"/>
                </a:moveTo>
                <a:cubicBezTo>
                  <a:pt x="12650" y="8459"/>
                  <a:pt x="12801" y="8424"/>
                  <a:pt x="12948" y="8409"/>
                </a:cubicBezTo>
                <a:cubicBezTo>
                  <a:pt x="13072" y="8397"/>
                  <a:pt x="13195" y="8384"/>
                  <a:pt x="13320" y="8384"/>
                </a:cubicBezTo>
              </a:path>
              <a:path w="5285" h="2779">
                <a:moveTo>
                  <a:pt x="13246" y="9128"/>
                </a:moveTo>
                <a:cubicBezTo>
                  <a:pt x="13349" y="9096"/>
                  <a:pt x="13473" y="9071"/>
                  <a:pt x="13543" y="8979"/>
                </a:cubicBezTo>
                <a:cubicBezTo>
                  <a:pt x="13594" y="8913"/>
                  <a:pt x="13593" y="8834"/>
                  <a:pt x="13593" y="8756"/>
                </a:cubicBezTo>
              </a:path>
              <a:path w="5285" h="2779">
                <a:moveTo>
                  <a:pt x="13568" y="8731"/>
                </a:moveTo>
                <a:cubicBezTo>
                  <a:pt x="13426" y="8824"/>
                  <a:pt x="13398" y="8861"/>
                  <a:pt x="13320" y="9004"/>
                </a:cubicBezTo>
                <a:cubicBezTo>
                  <a:pt x="13290" y="9058"/>
                  <a:pt x="13268" y="9175"/>
                  <a:pt x="13320" y="9227"/>
                </a:cubicBezTo>
                <a:cubicBezTo>
                  <a:pt x="13401" y="9307"/>
                  <a:pt x="13498" y="9281"/>
                  <a:pt x="13593" y="9252"/>
                </a:cubicBezTo>
              </a:path>
              <a:path w="5285" h="2779">
                <a:moveTo>
                  <a:pt x="13791" y="9079"/>
                </a:moveTo>
                <a:cubicBezTo>
                  <a:pt x="13799" y="9104"/>
                  <a:pt x="13808" y="9128"/>
                  <a:pt x="13816" y="9153"/>
                </a:cubicBezTo>
                <a:cubicBezTo>
                  <a:pt x="13782" y="9119"/>
                  <a:pt x="13791" y="9047"/>
                  <a:pt x="13791" y="8979"/>
                </a:cubicBezTo>
                <a:cubicBezTo>
                  <a:pt x="13791" y="8888"/>
                  <a:pt x="13833" y="8836"/>
                  <a:pt x="13891" y="8781"/>
                </a:cubicBezTo>
                <a:cubicBezTo>
                  <a:pt x="13968" y="8708"/>
                  <a:pt x="13991" y="8694"/>
                  <a:pt x="14089" y="8731"/>
                </a:cubicBezTo>
              </a:path>
              <a:path w="5285" h="2779">
                <a:moveTo>
                  <a:pt x="14163" y="8954"/>
                </a:moveTo>
                <a:cubicBezTo>
                  <a:pt x="14163" y="9040"/>
                  <a:pt x="14105" y="9124"/>
                  <a:pt x="14139" y="9203"/>
                </a:cubicBezTo>
                <a:cubicBezTo>
                  <a:pt x="14147" y="9211"/>
                  <a:pt x="14155" y="9219"/>
                  <a:pt x="14163" y="9227"/>
                </a:cubicBezTo>
                <a:cubicBezTo>
                  <a:pt x="14174" y="9185"/>
                  <a:pt x="14192" y="9146"/>
                  <a:pt x="14213" y="9103"/>
                </a:cubicBezTo>
                <a:cubicBezTo>
                  <a:pt x="14234" y="9059"/>
                  <a:pt x="14262" y="8976"/>
                  <a:pt x="14312" y="8954"/>
                </a:cubicBezTo>
                <a:cubicBezTo>
                  <a:pt x="14364" y="8931"/>
                  <a:pt x="14399" y="8990"/>
                  <a:pt x="14412" y="9029"/>
                </a:cubicBezTo>
                <a:cubicBezTo>
                  <a:pt x="14417" y="9045"/>
                  <a:pt x="14412" y="9190"/>
                  <a:pt x="14412" y="9128"/>
                </a:cubicBezTo>
                <a:cubicBezTo>
                  <a:pt x="14412" y="9069"/>
                  <a:pt x="14413" y="8981"/>
                  <a:pt x="14436" y="8930"/>
                </a:cubicBezTo>
                <a:cubicBezTo>
                  <a:pt x="14474" y="8873"/>
                  <a:pt x="14469" y="8848"/>
                  <a:pt x="14511" y="8855"/>
                </a:cubicBezTo>
                <a:cubicBezTo>
                  <a:pt x="14558" y="8915"/>
                  <a:pt x="14585" y="8966"/>
                  <a:pt x="14610" y="9029"/>
                </a:cubicBezTo>
                <a:cubicBezTo>
                  <a:pt x="14614" y="9039"/>
                  <a:pt x="14673" y="9182"/>
                  <a:pt x="14684" y="9178"/>
                </a:cubicBezTo>
                <a:cubicBezTo>
                  <a:pt x="14684" y="9170"/>
                  <a:pt x="14684" y="9161"/>
                  <a:pt x="14684" y="9153"/>
                </a:cubicBezTo>
              </a:path>
              <a:path w="5285" h="2779">
                <a:moveTo>
                  <a:pt x="14858" y="9054"/>
                </a:moveTo>
                <a:cubicBezTo>
                  <a:pt x="14866" y="9095"/>
                  <a:pt x="14875" y="9137"/>
                  <a:pt x="14883" y="9178"/>
                </a:cubicBezTo>
              </a:path>
              <a:path w="5285" h="2779">
                <a:moveTo>
                  <a:pt x="14734" y="8558"/>
                </a:moveTo>
                <a:cubicBezTo>
                  <a:pt x="14762" y="8558"/>
                  <a:pt x="14773" y="8560"/>
                  <a:pt x="14784" y="8582"/>
                </a:cubicBezTo>
              </a:path>
              <a:path w="5285" h="2779">
                <a:moveTo>
                  <a:pt x="14957" y="9054"/>
                </a:moveTo>
                <a:cubicBezTo>
                  <a:pt x="14965" y="9070"/>
                  <a:pt x="14974" y="9087"/>
                  <a:pt x="14982" y="9103"/>
                </a:cubicBezTo>
                <a:cubicBezTo>
                  <a:pt x="14993" y="9049"/>
                  <a:pt x="15008" y="8999"/>
                  <a:pt x="15032" y="8954"/>
                </a:cubicBezTo>
                <a:cubicBezTo>
                  <a:pt x="15062" y="8898"/>
                  <a:pt x="15075" y="8855"/>
                  <a:pt x="15131" y="8905"/>
                </a:cubicBezTo>
                <a:cubicBezTo>
                  <a:pt x="15193" y="8960"/>
                  <a:pt x="15203" y="9058"/>
                  <a:pt x="15230" y="9128"/>
                </a:cubicBezTo>
                <a:cubicBezTo>
                  <a:pt x="15254" y="9190"/>
                  <a:pt x="15244" y="9203"/>
                  <a:pt x="15304" y="9203"/>
                </a:cubicBezTo>
              </a:path>
              <a:path w="5285" h="2779">
                <a:moveTo>
                  <a:pt x="15453" y="8954"/>
                </a:moveTo>
                <a:cubicBezTo>
                  <a:pt x="15453" y="8954"/>
                  <a:pt x="15352" y="9163"/>
                  <a:pt x="15379" y="9203"/>
                </a:cubicBezTo>
                <a:cubicBezTo>
                  <a:pt x="15396" y="9219"/>
                  <a:pt x="15412" y="9236"/>
                  <a:pt x="15429" y="9252"/>
                </a:cubicBezTo>
                <a:cubicBezTo>
                  <a:pt x="15465" y="9224"/>
                  <a:pt x="15493" y="9213"/>
                  <a:pt x="15528" y="9178"/>
                </a:cubicBezTo>
                <a:cubicBezTo>
                  <a:pt x="15570" y="9136"/>
                  <a:pt x="15530" y="9095"/>
                  <a:pt x="15577" y="9079"/>
                </a:cubicBezTo>
                <a:cubicBezTo>
                  <a:pt x="15540" y="9098"/>
                  <a:pt x="15580" y="9112"/>
                  <a:pt x="15602" y="9128"/>
                </a:cubicBezTo>
                <a:cubicBezTo>
                  <a:pt x="15648" y="9162"/>
                  <a:pt x="15723" y="9152"/>
                  <a:pt x="15776" y="9128"/>
                </a:cubicBezTo>
                <a:cubicBezTo>
                  <a:pt x="15849" y="9094"/>
                  <a:pt x="15877" y="8997"/>
                  <a:pt x="15900" y="8930"/>
                </a:cubicBezTo>
                <a:cubicBezTo>
                  <a:pt x="15938" y="8820"/>
                  <a:pt x="15942" y="8673"/>
                  <a:pt x="15925" y="8558"/>
                </a:cubicBezTo>
                <a:cubicBezTo>
                  <a:pt x="15915" y="8493"/>
                  <a:pt x="15905" y="8434"/>
                  <a:pt x="15875" y="8384"/>
                </a:cubicBezTo>
                <a:cubicBezTo>
                  <a:pt x="15807" y="8486"/>
                  <a:pt x="15825" y="8577"/>
                  <a:pt x="15825" y="8706"/>
                </a:cubicBezTo>
                <a:cubicBezTo>
                  <a:pt x="15825" y="8857"/>
                  <a:pt x="15873" y="8972"/>
                  <a:pt x="15949" y="9103"/>
                </a:cubicBezTo>
                <a:cubicBezTo>
                  <a:pt x="16001" y="9181"/>
                  <a:pt x="16019" y="9210"/>
                  <a:pt x="16024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9880" y="4000680"/>
            <a:ext cx="588960" cy="536400"/>
          </a:xfrm>
          <a:custGeom>
            <a:avLst/>
            <a:gdLst/>
            <a:ahLst/>
            <a:rect l="l" t="t" r="r" b="b"/>
            <a:pathLst>
              <a:path w="1638" h="1490">
                <a:moveTo>
                  <a:pt x="3448" y="12278"/>
                </a:moveTo>
                <a:cubicBezTo>
                  <a:pt x="3505" y="12142"/>
                  <a:pt x="3522" y="12084"/>
                  <a:pt x="3522" y="11931"/>
                </a:cubicBezTo>
                <a:cubicBezTo>
                  <a:pt x="3522" y="11783"/>
                  <a:pt x="3500" y="11630"/>
                  <a:pt x="3473" y="11485"/>
                </a:cubicBezTo>
                <a:cubicBezTo>
                  <a:pt x="3455" y="11391"/>
                  <a:pt x="3435" y="11214"/>
                  <a:pt x="3373" y="11137"/>
                </a:cubicBezTo>
                <a:cubicBezTo>
                  <a:pt x="3373" y="11104"/>
                  <a:pt x="3373" y="11104"/>
                  <a:pt x="3373" y="11162"/>
                </a:cubicBezTo>
                <a:cubicBezTo>
                  <a:pt x="3416" y="11300"/>
                  <a:pt x="3472" y="11424"/>
                  <a:pt x="3522" y="11559"/>
                </a:cubicBezTo>
                <a:cubicBezTo>
                  <a:pt x="3590" y="11744"/>
                  <a:pt x="3680" y="11905"/>
                  <a:pt x="3770" y="12080"/>
                </a:cubicBezTo>
                <a:cubicBezTo>
                  <a:pt x="3822" y="12181"/>
                  <a:pt x="3870" y="12277"/>
                  <a:pt x="3845" y="12378"/>
                </a:cubicBezTo>
                <a:cubicBezTo>
                  <a:pt x="3744" y="12386"/>
                  <a:pt x="3691" y="12361"/>
                  <a:pt x="3572" y="12303"/>
                </a:cubicBezTo>
                <a:cubicBezTo>
                  <a:pt x="3351" y="12195"/>
                  <a:pt x="3115" y="12072"/>
                  <a:pt x="2877" y="12005"/>
                </a:cubicBezTo>
                <a:cubicBezTo>
                  <a:pt x="2762" y="11972"/>
                  <a:pt x="2624" y="11937"/>
                  <a:pt x="2505" y="11931"/>
                </a:cubicBezTo>
                <a:cubicBezTo>
                  <a:pt x="2489" y="11931"/>
                  <a:pt x="2472" y="11931"/>
                  <a:pt x="2456" y="11931"/>
                </a:cubicBezTo>
                <a:cubicBezTo>
                  <a:pt x="2522" y="11872"/>
                  <a:pt x="2607" y="11828"/>
                  <a:pt x="2704" y="11782"/>
                </a:cubicBezTo>
                <a:cubicBezTo>
                  <a:pt x="2938" y="11670"/>
                  <a:pt x="3162" y="11542"/>
                  <a:pt x="3398" y="11435"/>
                </a:cubicBezTo>
                <a:cubicBezTo>
                  <a:pt x="3579" y="11353"/>
                  <a:pt x="3754" y="11290"/>
                  <a:pt x="3944" y="11237"/>
                </a:cubicBezTo>
                <a:cubicBezTo>
                  <a:pt x="3925" y="11347"/>
                  <a:pt x="3909" y="11374"/>
                  <a:pt x="3770" y="11460"/>
                </a:cubicBezTo>
                <a:cubicBezTo>
                  <a:pt x="3526" y="11611"/>
                  <a:pt x="3338" y="11790"/>
                  <a:pt x="3125" y="11981"/>
                </a:cubicBezTo>
                <a:cubicBezTo>
                  <a:pt x="2968" y="12121"/>
                  <a:pt x="2801" y="12280"/>
                  <a:pt x="2629" y="12402"/>
                </a:cubicBezTo>
                <a:cubicBezTo>
                  <a:pt x="2569" y="12444"/>
                  <a:pt x="2490" y="12494"/>
                  <a:pt x="2431" y="12526"/>
                </a:cubicBezTo>
                <a:cubicBezTo>
                  <a:pt x="2410" y="12537"/>
                  <a:pt x="2354" y="12595"/>
                  <a:pt x="2332" y="12601"/>
                </a:cubicBezTo>
                <a:cubicBezTo>
                  <a:pt x="2332" y="12593"/>
                  <a:pt x="2332" y="12584"/>
                  <a:pt x="2332" y="125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28880" y="4037040"/>
            <a:ext cx="2519280" cy="615960"/>
          </a:xfrm>
          <a:custGeom>
            <a:avLst/>
            <a:gdLst/>
            <a:ahLst/>
            <a:rect l="l" t="t" r="r" b="b"/>
            <a:pathLst>
              <a:path w="6996" h="1712">
                <a:moveTo>
                  <a:pt x="6449" y="11460"/>
                </a:moveTo>
                <a:cubicBezTo>
                  <a:pt x="6427" y="11624"/>
                  <a:pt x="6412" y="11791"/>
                  <a:pt x="6400" y="11956"/>
                </a:cubicBezTo>
                <a:cubicBezTo>
                  <a:pt x="6387" y="12133"/>
                  <a:pt x="6386" y="12333"/>
                  <a:pt x="6424" y="12502"/>
                </a:cubicBezTo>
                <a:cubicBezTo>
                  <a:pt x="6424" y="12510"/>
                  <a:pt x="6424" y="12518"/>
                  <a:pt x="6424" y="12526"/>
                </a:cubicBezTo>
                <a:cubicBezTo>
                  <a:pt x="6390" y="12515"/>
                  <a:pt x="6389" y="12450"/>
                  <a:pt x="6375" y="12402"/>
                </a:cubicBezTo>
              </a:path>
              <a:path w="6996" h="1712">
                <a:moveTo>
                  <a:pt x="5358" y="11237"/>
                </a:moveTo>
                <a:cubicBezTo>
                  <a:pt x="5454" y="11237"/>
                  <a:pt x="5535" y="11214"/>
                  <a:pt x="5631" y="11212"/>
                </a:cubicBezTo>
                <a:cubicBezTo>
                  <a:pt x="6077" y="11201"/>
                  <a:pt x="7008" y="10775"/>
                  <a:pt x="6921" y="11212"/>
                </a:cubicBezTo>
                <a:cubicBezTo>
                  <a:pt x="6913" y="11220"/>
                  <a:pt x="6904" y="11229"/>
                  <a:pt x="6896" y="11237"/>
                </a:cubicBezTo>
              </a:path>
              <a:path w="6996" h="1712">
                <a:moveTo>
                  <a:pt x="6672" y="12204"/>
                </a:moveTo>
                <a:cubicBezTo>
                  <a:pt x="6849" y="12279"/>
                  <a:pt x="6854" y="12292"/>
                  <a:pt x="7020" y="12229"/>
                </a:cubicBezTo>
                <a:cubicBezTo>
                  <a:pt x="7110" y="12195"/>
                  <a:pt x="7164" y="12152"/>
                  <a:pt x="7193" y="12055"/>
                </a:cubicBezTo>
                <a:cubicBezTo>
                  <a:pt x="7193" y="12022"/>
                  <a:pt x="7193" y="12006"/>
                  <a:pt x="7193" y="11981"/>
                </a:cubicBezTo>
                <a:cubicBezTo>
                  <a:pt x="7105" y="11930"/>
                  <a:pt x="7061" y="11924"/>
                  <a:pt x="6970" y="11956"/>
                </a:cubicBezTo>
                <a:cubicBezTo>
                  <a:pt x="6880" y="11988"/>
                  <a:pt x="6807" y="12052"/>
                  <a:pt x="6747" y="12129"/>
                </a:cubicBezTo>
                <a:cubicBezTo>
                  <a:pt x="6672" y="12225"/>
                  <a:pt x="6661" y="12293"/>
                  <a:pt x="6697" y="12402"/>
                </a:cubicBezTo>
                <a:cubicBezTo>
                  <a:pt x="6734" y="12514"/>
                  <a:pt x="6787" y="12576"/>
                  <a:pt x="6896" y="12626"/>
                </a:cubicBezTo>
                <a:cubicBezTo>
                  <a:pt x="6969" y="12660"/>
                  <a:pt x="7099" y="12674"/>
                  <a:pt x="7169" y="12626"/>
                </a:cubicBezTo>
                <a:cubicBezTo>
                  <a:pt x="7185" y="12609"/>
                  <a:pt x="7202" y="12593"/>
                  <a:pt x="7218" y="12576"/>
                </a:cubicBezTo>
              </a:path>
              <a:path w="6996" h="1712">
                <a:moveTo>
                  <a:pt x="7367" y="12105"/>
                </a:moveTo>
                <a:cubicBezTo>
                  <a:pt x="7343" y="12193"/>
                  <a:pt x="7342" y="12261"/>
                  <a:pt x="7342" y="12353"/>
                </a:cubicBezTo>
                <a:cubicBezTo>
                  <a:pt x="7342" y="12449"/>
                  <a:pt x="7365" y="12490"/>
                  <a:pt x="7392" y="12576"/>
                </a:cubicBezTo>
                <a:cubicBezTo>
                  <a:pt x="7392" y="12584"/>
                  <a:pt x="7392" y="12593"/>
                  <a:pt x="7392" y="12601"/>
                </a:cubicBezTo>
                <a:cubicBezTo>
                  <a:pt x="7362" y="12552"/>
                  <a:pt x="7329" y="12465"/>
                  <a:pt x="7317" y="12402"/>
                </a:cubicBezTo>
                <a:cubicBezTo>
                  <a:pt x="7294" y="12284"/>
                  <a:pt x="7344" y="12191"/>
                  <a:pt x="7417" y="12105"/>
                </a:cubicBezTo>
                <a:cubicBezTo>
                  <a:pt x="7486" y="12025"/>
                  <a:pt x="7564" y="12009"/>
                  <a:pt x="7665" y="12005"/>
                </a:cubicBezTo>
                <a:cubicBezTo>
                  <a:pt x="7690" y="12005"/>
                  <a:pt x="7714" y="12005"/>
                  <a:pt x="7739" y="12005"/>
                </a:cubicBezTo>
              </a:path>
              <a:path w="6996" h="1712">
                <a:moveTo>
                  <a:pt x="7888" y="12402"/>
                </a:moveTo>
                <a:cubicBezTo>
                  <a:pt x="7864" y="12501"/>
                  <a:pt x="7838" y="12575"/>
                  <a:pt x="7838" y="12675"/>
                </a:cubicBezTo>
                <a:cubicBezTo>
                  <a:pt x="7838" y="12692"/>
                  <a:pt x="7838" y="12708"/>
                  <a:pt x="7838" y="12725"/>
                </a:cubicBezTo>
                <a:cubicBezTo>
                  <a:pt x="7861" y="12709"/>
                  <a:pt x="7880" y="12624"/>
                  <a:pt x="7888" y="12576"/>
                </a:cubicBezTo>
                <a:cubicBezTo>
                  <a:pt x="7902" y="12493"/>
                  <a:pt x="7908" y="12408"/>
                  <a:pt x="7938" y="12328"/>
                </a:cubicBezTo>
                <a:cubicBezTo>
                  <a:pt x="7952" y="12290"/>
                  <a:pt x="7990" y="12193"/>
                  <a:pt x="8037" y="12179"/>
                </a:cubicBezTo>
                <a:cubicBezTo>
                  <a:pt x="8126" y="12153"/>
                  <a:pt x="8181" y="12265"/>
                  <a:pt x="8210" y="12328"/>
                </a:cubicBezTo>
                <a:cubicBezTo>
                  <a:pt x="8247" y="12409"/>
                  <a:pt x="8294" y="12513"/>
                  <a:pt x="8310" y="12601"/>
                </a:cubicBezTo>
                <a:cubicBezTo>
                  <a:pt x="8321" y="12662"/>
                  <a:pt x="8314" y="12727"/>
                  <a:pt x="8285" y="12774"/>
                </a:cubicBezTo>
                <a:cubicBezTo>
                  <a:pt x="8285" y="12629"/>
                  <a:pt x="8280" y="12517"/>
                  <a:pt x="8334" y="12378"/>
                </a:cubicBezTo>
                <a:cubicBezTo>
                  <a:pt x="8356" y="12322"/>
                  <a:pt x="8407" y="12225"/>
                  <a:pt x="8483" y="12229"/>
                </a:cubicBezTo>
                <a:cubicBezTo>
                  <a:pt x="8569" y="12234"/>
                  <a:pt x="8613" y="12325"/>
                  <a:pt x="8657" y="12378"/>
                </a:cubicBezTo>
                <a:cubicBezTo>
                  <a:pt x="8726" y="12461"/>
                  <a:pt x="8731" y="12526"/>
                  <a:pt x="8756" y="12626"/>
                </a:cubicBezTo>
                <a:cubicBezTo>
                  <a:pt x="8773" y="12693"/>
                  <a:pt x="8806" y="12893"/>
                  <a:pt x="8806" y="12824"/>
                </a:cubicBezTo>
                <a:cubicBezTo>
                  <a:pt x="8806" y="12816"/>
                  <a:pt x="8806" y="12807"/>
                  <a:pt x="8806" y="12799"/>
                </a:cubicBezTo>
              </a:path>
              <a:path w="6996" h="1712">
                <a:moveTo>
                  <a:pt x="9103" y="12551"/>
                </a:moveTo>
                <a:cubicBezTo>
                  <a:pt x="9113" y="12675"/>
                  <a:pt x="9180" y="12996"/>
                  <a:pt x="9103" y="12898"/>
                </a:cubicBezTo>
                <a:cubicBezTo>
                  <a:pt x="9103" y="12890"/>
                  <a:pt x="9103" y="12882"/>
                  <a:pt x="9103" y="12874"/>
                </a:cubicBezTo>
              </a:path>
              <a:path w="6996" h="1712">
                <a:moveTo>
                  <a:pt x="9004" y="11981"/>
                </a:moveTo>
                <a:cubicBezTo>
                  <a:pt x="9077" y="11950"/>
                  <a:pt x="9080" y="11950"/>
                  <a:pt x="9153" y="11981"/>
                </a:cubicBezTo>
              </a:path>
              <a:path w="6996" h="1712">
                <a:moveTo>
                  <a:pt x="9302" y="12551"/>
                </a:moveTo>
                <a:cubicBezTo>
                  <a:pt x="9302" y="12642"/>
                  <a:pt x="9302" y="12733"/>
                  <a:pt x="9302" y="12824"/>
                </a:cubicBezTo>
                <a:cubicBezTo>
                  <a:pt x="9335" y="12770"/>
                  <a:pt x="9338" y="12691"/>
                  <a:pt x="9351" y="12626"/>
                </a:cubicBezTo>
                <a:cubicBezTo>
                  <a:pt x="9373" y="12516"/>
                  <a:pt x="9378" y="12440"/>
                  <a:pt x="9475" y="12378"/>
                </a:cubicBezTo>
                <a:cubicBezTo>
                  <a:pt x="9532" y="12341"/>
                  <a:pt x="9603" y="12349"/>
                  <a:pt x="9649" y="12402"/>
                </a:cubicBezTo>
                <a:cubicBezTo>
                  <a:pt x="9700" y="12461"/>
                  <a:pt x="9741" y="12604"/>
                  <a:pt x="9773" y="12675"/>
                </a:cubicBezTo>
                <a:cubicBezTo>
                  <a:pt x="9804" y="12745"/>
                  <a:pt x="9803" y="12843"/>
                  <a:pt x="9847" y="12898"/>
                </a:cubicBezTo>
                <a:cubicBezTo>
                  <a:pt x="9883" y="12943"/>
                  <a:pt x="9900" y="12918"/>
                  <a:pt x="9947" y="12898"/>
                </a:cubicBezTo>
              </a:path>
              <a:path w="6996" h="1712">
                <a:moveTo>
                  <a:pt x="10244" y="12452"/>
                </a:moveTo>
                <a:cubicBezTo>
                  <a:pt x="10174" y="12458"/>
                  <a:pt x="10051" y="12471"/>
                  <a:pt x="9996" y="12526"/>
                </a:cubicBezTo>
                <a:cubicBezTo>
                  <a:pt x="9923" y="12599"/>
                  <a:pt x="9917" y="12643"/>
                  <a:pt x="9947" y="12725"/>
                </a:cubicBezTo>
                <a:cubicBezTo>
                  <a:pt x="9961" y="12765"/>
                  <a:pt x="9998" y="12827"/>
                  <a:pt x="10046" y="12824"/>
                </a:cubicBezTo>
                <a:cubicBezTo>
                  <a:pt x="10110" y="12820"/>
                  <a:pt x="10114" y="12747"/>
                  <a:pt x="10145" y="12700"/>
                </a:cubicBezTo>
                <a:cubicBezTo>
                  <a:pt x="10145" y="12588"/>
                  <a:pt x="10147" y="12737"/>
                  <a:pt x="10170" y="12774"/>
                </a:cubicBezTo>
                <a:cubicBezTo>
                  <a:pt x="10210" y="12839"/>
                  <a:pt x="10294" y="12887"/>
                  <a:pt x="10368" y="12898"/>
                </a:cubicBezTo>
                <a:cubicBezTo>
                  <a:pt x="10505" y="12919"/>
                  <a:pt x="10557" y="12847"/>
                  <a:pt x="10616" y="12750"/>
                </a:cubicBezTo>
                <a:cubicBezTo>
                  <a:pt x="10687" y="12635"/>
                  <a:pt x="10728" y="12490"/>
                  <a:pt x="10740" y="12353"/>
                </a:cubicBezTo>
                <a:cubicBezTo>
                  <a:pt x="10751" y="12232"/>
                  <a:pt x="10747" y="12073"/>
                  <a:pt x="10716" y="11956"/>
                </a:cubicBezTo>
                <a:cubicBezTo>
                  <a:pt x="10708" y="11939"/>
                  <a:pt x="10699" y="11923"/>
                  <a:pt x="10691" y="11906"/>
                </a:cubicBezTo>
                <a:cubicBezTo>
                  <a:pt x="10669" y="11956"/>
                  <a:pt x="10643" y="12085"/>
                  <a:pt x="10641" y="12179"/>
                </a:cubicBezTo>
                <a:cubicBezTo>
                  <a:pt x="10638" y="12311"/>
                  <a:pt x="10667" y="12452"/>
                  <a:pt x="10716" y="12576"/>
                </a:cubicBezTo>
                <a:cubicBezTo>
                  <a:pt x="10756" y="12676"/>
                  <a:pt x="10795" y="12768"/>
                  <a:pt x="10815" y="12874"/>
                </a:cubicBezTo>
                <a:cubicBezTo>
                  <a:pt x="10815" y="12882"/>
                  <a:pt x="10815" y="12890"/>
                  <a:pt x="10815" y="12898"/>
                </a:cubicBezTo>
              </a:path>
              <a:path w="6996" h="1712">
                <a:moveTo>
                  <a:pt x="11485" y="12452"/>
                </a:moveTo>
                <a:cubicBezTo>
                  <a:pt x="11783" y="12452"/>
                  <a:pt x="12591" y="12606"/>
                  <a:pt x="12353" y="12427"/>
                </a:cubicBezTo>
                <a:cubicBezTo>
                  <a:pt x="12328" y="12427"/>
                  <a:pt x="12320" y="12427"/>
                  <a:pt x="12328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68920" y="4214880"/>
            <a:ext cx="1258920" cy="598320"/>
          </a:xfrm>
          <a:custGeom>
            <a:avLst/>
            <a:gdLst/>
            <a:ahLst/>
            <a:rect l="l" t="t" r="r" b="b"/>
            <a:pathLst>
              <a:path w="3498" h="1663">
                <a:moveTo>
                  <a:pt x="13246" y="11708"/>
                </a:moveTo>
                <a:cubicBezTo>
                  <a:pt x="13257" y="11807"/>
                  <a:pt x="13287" y="11905"/>
                  <a:pt x="13295" y="12005"/>
                </a:cubicBezTo>
                <a:cubicBezTo>
                  <a:pt x="13310" y="12191"/>
                  <a:pt x="13310" y="12365"/>
                  <a:pt x="13345" y="12551"/>
                </a:cubicBezTo>
                <a:cubicBezTo>
                  <a:pt x="13370" y="12685"/>
                  <a:pt x="13370" y="12811"/>
                  <a:pt x="13370" y="12948"/>
                </a:cubicBezTo>
                <a:cubicBezTo>
                  <a:pt x="13370" y="13009"/>
                  <a:pt x="13356" y="13071"/>
                  <a:pt x="13395" y="13097"/>
                </a:cubicBezTo>
              </a:path>
              <a:path w="3498" h="1663">
                <a:moveTo>
                  <a:pt x="13767" y="12774"/>
                </a:moveTo>
                <a:cubicBezTo>
                  <a:pt x="13779" y="12894"/>
                  <a:pt x="13791" y="12984"/>
                  <a:pt x="13791" y="13097"/>
                </a:cubicBezTo>
                <a:cubicBezTo>
                  <a:pt x="13791" y="13164"/>
                  <a:pt x="13791" y="13013"/>
                  <a:pt x="13791" y="12998"/>
                </a:cubicBezTo>
                <a:cubicBezTo>
                  <a:pt x="13791" y="12916"/>
                  <a:pt x="13790" y="12851"/>
                  <a:pt x="13816" y="12774"/>
                </a:cubicBezTo>
                <a:cubicBezTo>
                  <a:pt x="13839" y="12707"/>
                  <a:pt x="13890" y="12621"/>
                  <a:pt x="13965" y="12601"/>
                </a:cubicBezTo>
                <a:cubicBezTo>
                  <a:pt x="14086" y="12569"/>
                  <a:pt x="14106" y="12680"/>
                  <a:pt x="14163" y="12750"/>
                </a:cubicBezTo>
                <a:cubicBezTo>
                  <a:pt x="14250" y="12857"/>
                  <a:pt x="14290" y="12966"/>
                  <a:pt x="14337" y="13097"/>
                </a:cubicBezTo>
                <a:cubicBezTo>
                  <a:pt x="14338" y="13099"/>
                  <a:pt x="14393" y="13290"/>
                  <a:pt x="14436" y="13246"/>
                </a:cubicBezTo>
                <a:cubicBezTo>
                  <a:pt x="14440" y="13241"/>
                  <a:pt x="14456" y="13136"/>
                  <a:pt x="14461" y="13122"/>
                </a:cubicBezTo>
              </a:path>
              <a:path w="3498" h="1663">
                <a:moveTo>
                  <a:pt x="14610" y="12700"/>
                </a:moveTo>
                <a:cubicBezTo>
                  <a:pt x="14631" y="12826"/>
                  <a:pt x="14634" y="13005"/>
                  <a:pt x="14684" y="13122"/>
                </a:cubicBezTo>
                <a:cubicBezTo>
                  <a:pt x="14694" y="13144"/>
                  <a:pt x="14709" y="13193"/>
                  <a:pt x="14709" y="13146"/>
                </a:cubicBezTo>
              </a:path>
              <a:path w="3498" h="1663">
                <a:moveTo>
                  <a:pt x="14610" y="12303"/>
                </a:moveTo>
                <a:cubicBezTo>
                  <a:pt x="14635" y="12261"/>
                  <a:pt x="14650" y="12239"/>
                  <a:pt x="14684" y="12204"/>
                </a:cubicBezTo>
              </a:path>
              <a:path w="3498" h="1663">
                <a:moveTo>
                  <a:pt x="15032" y="12303"/>
                </a:moveTo>
                <a:cubicBezTo>
                  <a:pt x="15065" y="12482"/>
                  <a:pt x="15105" y="12653"/>
                  <a:pt x="15156" y="12824"/>
                </a:cubicBezTo>
                <a:cubicBezTo>
                  <a:pt x="15185" y="12921"/>
                  <a:pt x="15199" y="13036"/>
                  <a:pt x="15255" y="13122"/>
                </a:cubicBezTo>
                <a:cubicBezTo>
                  <a:pt x="15272" y="13148"/>
                  <a:pt x="15280" y="13190"/>
                  <a:pt x="15280" y="13146"/>
                </a:cubicBezTo>
              </a:path>
              <a:path w="3498" h="1663">
                <a:moveTo>
                  <a:pt x="14883" y="12601"/>
                </a:moveTo>
                <a:cubicBezTo>
                  <a:pt x="14974" y="12616"/>
                  <a:pt x="15065" y="12629"/>
                  <a:pt x="15156" y="12650"/>
                </a:cubicBezTo>
                <a:cubicBezTo>
                  <a:pt x="15270" y="12676"/>
                  <a:pt x="15389" y="12733"/>
                  <a:pt x="15503" y="12750"/>
                </a:cubicBezTo>
                <a:cubicBezTo>
                  <a:pt x="15525" y="12753"/>
                  <a:pt x="15655" y="12762"/>
                  <a:pt x="15652" y="12824"/>
                </a:cubicBezTo>
                <a:cubicBezTo>
                  <a:pt x="15646" y="12938"/>
                  <a:pt x="15637" y="13002"/>
                  <a:pt x="15652" y="13122"/>
                </a:cubicBezTo>
                <a:cubicBezTo>
                  <a:pt x="15653" y="13127"/>
                  <a:pt x="15704" y="13297"/>
                  <a:pt x="15726" y="13246"/>
                </a:cubicBezTo>
                <a:cubicBezTo>
                  <a:pt x="15726" y="13229"/>
                  <a:pt x="15726" y="13213"/>
                  <a:pt x="15726" y="13196"/>
                </a:cubicBezTo>
              </a:path>
              <a:path w="3498" h="1663">
                <a:moveTo>
                  <a:pt x="15627" y="12452"/>
                </a:moveTo>
                <a:cubicBezTo>
                  <a:pt x="15640" y="12362"/>
                  <a:pt x="15662" y="12378"/>
                  <a:pt x="15751" y="12378"/>
                </a:cubicBezTo>
              </a:path>
              <a:path w="3498" h="1663">
                <a:moveTo>
                  <a:pt x="16123" y="12700"/>
                </a:moveTo>
                <a:cubicBezTo>
                  <a:pt x="16113" y="12714"/>
                  <a:pt x="15896" y="12974"/>
                  <a:pt x="15925" y="13072"/>
                </a:cubicBezTo>
                <a:cubicBezTo>
                  <a:pt x="15937" y="13112"/>
                  <a:pt x="16010" y="13159"/>
                  <a:pt x="16049" y="13146"/>
                </a:cubicBezTo>
                <a:cubicBezTo>
                  <a:pt x="16089" y="13133"/>
                  <a:pt x="16137" y="13094"/>
                  <a:pt x="16148" y="13047"/>
                </a:cubicBezTo>
                <a:cubicBezTo>
                  <a:pt x="16165" y="12978"/>
                  <a:pt x="16155" y="12908"/>
                  <a:pt x="16148" y="12849"/>
                </a:cubicBezTo>
                <a:cubicBezTo>
                  <a:pt x="16148" y="12832"/>
                  <a:pt x="16148" y="12816"/>
                  <a:pt x="16148" y="12799"/>
                </a:cubicBezTo>
                <a:cubicBezTo>
                  <a:pt x="16159" y="12852"/>
                  <a:pt x="16187" y="12928"/>
                  <a:pt x="16222" y="12973"/>
                </a:cubicBezTo>
                <a:cubicBezTo>
                  <a:pt x="16301" y="13073"/>
                  <a:pt x="16348" y="13088"/>
                  <a:pt x="16470" y="13097"/>
                </a:cubicBezTo>
              </a:path>
              <a:path w="3498" h="1663">
                <a:moveTo>
                  <a:pt x="16495" y="11981"/>
                </a:moveTo>
                <a:cubicBezTo>
                  <a:pt x="16517" y="12175"/>
                  <a:pt x="16539" y="12363"/>
                  <a:pt x="16594" y="12551"/>
                </a:cubicBezTo>
                <a:cubicBezTo>
                  <a:pt x="16641" y="12711"/>
                  <a:pt x="16701" y="12879"/>
                  <a:pt x="16718" y="13047"/>
                </a:cubicBezTo>
                <a:cubicBezTo>
                  <a:pt x="16729" y="13157"/>
                  <a:pt x="16727" y="13262"/>
                  <a:pt x="16743" y="13370"/>
                </a:cubicBezTo>
                <a:cubicBezTo>
                  <a:pt x="16743" y="13329"/>
                  <a:pt x="16743" y="13304"/>
                  <a:pt x="16743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1840" y="4991040"/>
            <a:ext cx="1785960" cy="876240"/>
          </a:xfrm>
          <a:custGeom>
            <a:avLst/>
            <a:gdLst/>
            <a:ahLst/>
            <a:rect l="l" t="t" r="r" b="b"/>
            <a:pathLst>
              <a:path w="4962" h="2432">
                <a:moveTo>
                  <a:pt x="3894" y="14139"/>
                </a:moveTo>
                <a:cubicBezTo>
                  <a:pt x="3933" y="14188"/>
                  <a:pt x="3945" y="14202"/>
                  <a:pt x="3969" y="14263"/>
                </a:cubicBezTo>
                <a:cubicBezTo>
                  <a:pt x="4005" y="14353"/>
                  <a:pt x="4035" y="14445"/>
                  <a:pt x="4068" y="14536"/>
                </a:cubicBezTo>
                <a:cubicBezTo>
                  <a:pt x="4131" y="14710"/>
                  <a:pt x="4201" y="14886"/>
                  <a:pt x="4266" y="15056"/>
                </a:cubicBezTo>
                <a:cubicBezTo>
                  <a:pt x="4312" y="15175"/>
                  <a:pt x="4374" y="15282"/>
                  <a:pt x="4415" y="15404"/>
                </a:cubicBezTo>
                <a:cubicBezTo>
                  <a:pt x="4440" y="15479"/>
                  <a:pt x="4459" y="15556"/>
                  <a:pt x="4490" y="15627"/>
                </a:cubicBezTo>
                <a:cubicBezTo>
                  <a:pt x="4490" y="15655"/>
                  <a:pt x="4492" y="15666"/>
                  <a:pt x="4514" y="15677"/>
                </a:cubicBezTo>
                <a:cubicBezTo>
                  <a:pt x="4526" y="15570"/>
                  <a:pt x="4576" y="15502"/>
                  <a:pt x="4614" y="15404"/>
                </a:cubicBezTo>
                <a:cubicBezTo>
                  <a:pt x="4667" y="15265"/>
                  <a:pt x="4705" y="15118"/>
                  <a:pt x="4762" y="14982"/>
                </a:cubicBezTo>
                <a:cubicBezTo>
                  <a:pt x="4820" y="14844"/>
                  <a:pt x="4851" y="14706"/>
                  <a:pt x="4887" y="14560"/>
                </a:cubicBezTo>
                <a:cubicBezTo>
                  <a:pt x="4916" y="14442"/>
                  <a:pt x="4944" y="14308"/>
                  <a:pt x="4961" y="14188"/>
                </a:cubicBezTo>
                <a:cubicBezTo>
                  <a:pt x="4973" y="14105"/>
                  <a:pt x="4986" y="14025"/>
                  <a:pt x="4986" y="13940"/>
                </a:cubicBezTo>
                <a:cubicBezTo>
                  <a:pt x="4986" y="13858"/>
                  <a:pt x="4990" y="13900"/>
                  <a:pt x="5011" y="13866"/>
                </a:cubicBezTo>
                <a:cubicBezTo>
                  <a:pt x="5025" y="13905"/>
                  <a:pt x="5029" y="13919"/>
                  <a:pt x="5035" y="13965"/>
                </a:cubicBezTo>
              </a:path>
              <a:path w="4962" h="2432">
                <a:moveTo>
                  <a:pt x="5184" y="14982"/>
                </a:moveTo>
                <a:cubicBezTo>
                  <a:pt x="5329" y="14988"/>
                  <a:pt x="5470" y="15014"/>
                  <a:pt x="5606" y="15032"/>
                </a:cubicBezTo>
                <a:cubicBezTo>
                  <a:pt x="5631" y="15032"/>
                  <a:pt x="5655" y="15032"/>
                  <a:pt x="5680" y="15032"/>
                </a:cubicBezTo>
              </a:path>
              <a:path w="4962" h="2432">
                <a:moveTo>
                  <a:pt x="5259" y="15304"/>
                </a:moveTo>
                <a:cubicBezTo>
                  <a:pt x="5391" y="15349"/>
                  <a:pt x="5444" y="15349"/>
                  <a:pt x="5581" y="15329"/>
                </a:cubicBezTo>
                <a:cubicBezTo>
                  <a:pt x="5647" y="15321"/>
                  <a:pt x="5713" y="15312"/>
                  <a:pt x="5779" y="15304"/>
                </a:cubicBezTo>
              </a:path>
              <a:path w="4962" h="2432">
                <a:moveTo>
                  <a:pt x="7689" y="13990"/>
                </a:moveTo>
                <a:cubicBezTo>
                  <a:pt x="7632" y="14054"/>
                  <a:pt x="7590" y="14087"/>
                  <a:pt x="7516" y="14139"/>
                </a:cubicBezTo>
                <a:cubicBezTo>
                  <a:pt x="7413" y="14211"/>
                  <a:pt x="7283" y="14254"/>
                  <a:pt x="7169" y="14312"/>
                </a:cubicBezTo>
                <a:cubicBezTo>
                  <a:pt x="7049" y="14373"/>
                  <a:pt x="6914" y="14397"/>
                  <a:pt x="6796" y="14461"/>
                </a:cubicBezTo>
                <a:cubicBezTo>
                  <a:pt x="6718" y="14503"/>
                  <a:pt x="6618" y="14501"/>
                  <a:pt x="6548" y="14560"/>
                </a:cubicBezTo>
                <a:cubicBezTo>
                  <a:pt x="6501" y="14600"/>
                  <a:pt x="6486" y="14642"/>
                  <a:pt x="6449" y="14684"/>
                </a:cubicBezTo>
                <a:cubicBezTo>
                  <a:pt x="6476" y="14726"/>
                  <a:pt x="6495" y="14771"/>
                  <a:pt x="6524" y="14808"/>
                </a:cubicBezTo>
                <a:cubicBezTo>
                  <a:pt x="6560" y="14854"/>
                  <a:pt x="6574" y="14883"/>
                  <a:pt x="6598" y="14932"/>
                </a:cubicBezTo>
                <a:cubicBezTo>
                  <a:pt x="6647" y="15032"/>
                  <a:pt x="6705" y="15115"/>
                  <a:pt x="6772" y="15205"/>
                </a:cubicBezTo>
                <a:cubicBezTo>
                  <a:pt x="6889" y="15362"/>
                  <a:pt x="7054" y="15488"/>
                  <a:pt x="7193" y="15627"/>
                </a:cubicBezTo>
                <a:cubicBezTo>
                  <a:pt x="7353" y="15787"/>
                  <a:pt x="7521" y="15930"/>
                  <a:pt x="7689" y="16073"/>
                </a:cubicBezTo>
                <a:cubicBezTo>
                  <a:pt x="7756" y="16130"/>
                  <a:pt x="7837" y="16221"/>
                  <a:pt x="7888" y="16272"/>
                </a:cubicBezTo>
                <a:cubicBezTo>
                  <a:pt x="7896" y="16280"/>
                  <a:pt x="7905" y="16289"/>
                  <a:pt x="7913" y="16297"/>
                </a:cubicBezTo>
                <a:cubicBezTo>
                  <a:pt x="7928" y="16267"/>
                  <a:pt x="7957" y="16208"/>
                  <a:pt x="7962" y="16197"/>
                </a:cubicBezTo>
              </a:path>
              <a:path w="4962" h="2432">
                <a:moveTo>
                  <a:pt x="7863" y="14412"/>
                </a:moveTo>
                <a:cubicBezTo>
                  <a:pt x="7882" y="14364"/>
                  <a:pt x="7950" y="14183"/>
                  <a:pt x="7913" y="14337"/>
                </a:cubicBezTo>
                <a:cubicBezTo>
                  <a:pt x="7896" y="14408"/>
                  <a:pt x="7855" y="14474"/>
                  <a:pt x="7838" y="14536"/>
                </a:cubicBezTo>
                <a:cubicBezTo>
                  <a:pt x="7816" y="14616"/>
                  <a:pt x="7829" y="14704"/>
                  <a:pt x="7813" y="14784"/>
                </a:cubicBezTo>
                <a:cubicBezTo>
                  <a:pt x="7797" y="14865"/>
                  <a:pt x="7789" y="14924"/>
                  <a:pt x="7789" y="15007"/>
                </a:cubicBezTo>
                <a:cubicBezTo>
                  <a:pt x="7789" y="15061"/>
                  <a:pt x="7808" y="15139"/>
                  <a:pt x="7838" y="15180"/>
                </a:cubicBezTo>
                <a:cubicBezTo>
                  <a:pt x="7869" y="15223"/>
                  <a:pt x="7873" y="15243"/>
                  <a:pt x="7938" y="15255"/>
                </a:cubicBezTo>
                <a:cubicBezTo>
                  <a:pt x="7990" y="15264"/>
                  <a:pt x="8036" y="15265"/>
                  <a:pt x="8086" y="15280"/>
                </a:cubicBezTo>
                <a:cubicBezTo>
                  <a:pt x="8177" y="15307"/>
                  <a:pt x="8268" y="15309"/>
                  <a:pt x="8359" y="15329"/>
                </a:cubicBezTo>
                <a:cubicBezTo>
                  <a:pt x="8460" y="15351"/>
                  <a:pt x="8534" y="15370"/>
                  <a:pt x="8632" y="15329"/>
                </a:cubicBezTo>
                <a:cubicBezTo>
                  <a:pt x="8718" y="15293"/>
                  <a:pt x="8744" y="15236"/>
                  <a:pt x="8781" y="15156"/>
                </a:cubicBezTo>
              </a:path>
              <a:path w="4962" h="2432">
                <a:moveTo>
                  <a:pt x="8781" y="14139"/>
                </a:moveTo>
                <a:cubicBezTo>
                  <a:pt x="8745" y="14238"/>
                  <a:pt x="8717" y="14330"/>
                  <a:pt x="8706" y="14436"/>
                </a:cubicBezTo>
                <a:cubicBezTo>
                  <a:pt x="8678" y="14711"/>
                  <a:pt x="8694" y="15034"/>
                  <a:pt x="8731" y="15304"/>
                </a:cubicBezTo>
                <a:cubicBezTo>
                  <a:pt x="8754" y="15469"/>
                  <a:pt x="8786" y="15634"/>
                  <a:pt x="8806" y="15801"/>
                </a:cubicBezTo>
                <a:cubicBezTo>
                  <a:pt x="8825" y="15960"/>
                  <a:pt x="8822" y="16081"/>
                  <a:pt x="8855" y="16222"/>
                </a:cubicBezTo>
                <a:cubicBezTo>
                  <a:pt x="8855" y="16230"/>
                  <a:pt x="8855" y="16239"/>
                  <a:pt x="8855" y="162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4760" y="4973760"/>
            <a:ext cx="1428480" cy="1268280"/>
          </a:xfrm>
          <a:custGeom>
            <a:avLst/>
            <a:gdLst/>
            <a:ahLst/>
            <a:rect l="l" t="t" r="r" b="b"/>
            <a:pathLst>
              <a:path w="3970" h="3523">
                <a:moveTo>
                  <a:pt x="13022" y="13816"/>
                </a:moveTo>
                <a:cubicBezTo>
                  <a:pt x="13063" y="13906"/>
                  <a:pt x="13092" y="13921"/>
                  <a:pt x="13171" y="13990"/>
                </a:cubicBezTo>
                <a:cubicBezTo>
                  <a:pt x="13344" y="14142"/>
                  <a:pt x="13544" y="14240"/>
                  <a:pt x="13742" y="14362"/>
                </a:cubicBezTo>
                <a:cubicBezTo>
                  <a:pt x="13959" y="14496"/>
                  <a:pt x="14195" y="14599"/>
                  <a:pt x="14412" y="14734"/>
                </a:cubicBezTo>
                <a:cubicBezTo>
                  <a:pt x="14508" y="14794"/>
                  <a:pt x="14590" y="14845"/>
                  <a:pt x="14684" y="14883"/>
                </a:cubicBezTo>
                <a:cubicBezTo>
                  <a:pt x="14709" y="14893"/>
                  <a:pt x="14753" y="14929"/>
                  <a:pt x="14759" y="14932"/>
                </a:cubicBezTo>
                <a:cubicBezTo>
                  <a:pt x="14738" y="14996"/>
                  <a:pt x="14725" y="15066"/>
                  <a:pt x="14684" y="15131"/>
                </a:cubicBezTo>
                <a:cubicBezTo>
                  <a:pt x="14623" y="15228"/>
                  <a:pt x="14535" y="15291"/>
                  <a:pt x="14461" y="15379"/>
                </a:cubicBezTo>
                <a:cubicBezTo>
                  <a:pt x="14349" y="15513"/>
                  <a:pt x="14239" y="15668"/>
                  <a:pt x="14163" y="15825"/>
                </a:cubicBezTo>
                <a:cubicBezTo>
                  <a:pt x="14066" y="16024"/>
                  <a:pt x="14027" y="16255"/>
                  <a:pt x="13915" y="16446"/>
                </a:cubicBezTo>
                <a:cubicBezTo>
                  <a:pt x="13882" y="16495"/>
                  <a:pt x="13849" y="16545"/>
                  <a:pt x="13816" y="16594"/>
                </a:cubicBezTo>
              </a:path>
              <a:path w="3970" h="3523">
                <a:moveTo>
                  <a:pt x="11088" y="16073"/>
                </a:moveTo>
                <a:cubicBezTo>
                  <a:pt x="11058" y="16192"/>
                  <a:pt x="11053" y="16299"/>
                  <a:pt x="11038" y="16421"/>
                </a:cubicBezTo>
                <a:cubicBezTo>
                  <a:pt x="11015" y="16605"/>
                  <a:pt x="11022" y="16812"/>
                  <a:pt x="10964" y="16991"/>
                </a:cubicBezTo>
                <a:cubicBezTo>
                  <a:pt x="10923" y="17116"/>
                  <a:pt x="10872" y="17237"/>
                  <a:pt x="10790" y="17338"/>
                </a:cubicBezTo>
              </a:path>
              <a:path w="3970" h="3523">
                <a:moveTo>
                  <a:pt x="11807" y="14436"/>
                </a:moveTo>
                <a:cubicBezTo>
                  <a:pt x="11826" y="14399"/>
                  <a:pt x="11841" y="14341"/>
                  <a:pt x="11881" y="14312"/>
                </a:cubicBezTo>
                <a:cubicBezTo>
                  <a:pt x="11933" y="14274"/>
                  <a:pt x="12023" y="14280"/>
                  <a:pt x="12080" y="14263"/>
                </a:cubicBezTo>
                <a:cubicBezTo>
                  <a:pt x="12160" y="14240"/>
                  <a:pt x="12265" y="14221"/>
                  <a:pt x="12353" y="14238"/>
                </a:cubicBezTo>
                <a:cubicBezTo>
                  <a:pt x="12443" y="14255"/>
                  <a:pt x="12523" y="14314"/>
                  <a:pt x="12576" y="14387"/>
                </a:cubicBezTo>
                <a:cubicBezTo>
                  <a:pt x="12617" y="14443"/>
                  <a:pt x="12612" y="14529"/>
                  <a:pt x="12576" y="14585"/>
                </a:cubicBezTo>
                <a:cubicBezTo>
                  <a:pt x="12488" y="14722"/>
                  <a:pt x="12389" y="14769"/>
                  <a:pt x="12254" y="14858"/>
                </a:cubicBezTo>
                <a:cubicBezTo>
                  <a:pt x="12216" y="14883"/>
                  <a:pt x="12161" y="14910"/>
                  <a:pt x="12129" y="14932"/>
                </a:cubicBezTo>
                <a:cubicBezTo>
                  <a:pt x="12121" y="14940"/>
                  <a:pt x="12113" y="14949"/>
                  <a:pt x="12105" y="14957"/>
                </a:cubicBezTo>
                <a:cubicBezTo>
                  <a:pt x="12192" y="14957"/>
                  <a:pt x="12270" y="14950"/>
                  <a:pt x="12353" y="14982"/>
                </a:cubicBezTo>
                <a:cubicBezTo>
                  <a:pt x="12455" y="15021"/>
                  <a:pt x="12482" y="15079"/>
                  <a:pt x="12551" y="15156"/>
                </a:cubicBezTo>
                <a:cubicBezTo>
                  <a:pt x="12660" y="15279"/>
                  <a:pt x="12693" y="15386"/>
                  <a:pt x="12700" y="15553"/>
                </a:cubicBezTo>
                <a:cubicBezTo>
                  <a:pt x="12707" y="15708"/>
                  <a:pt x="12714" y="15864"/>
                  <a:pt x="12626" y="15999"/>
                </a:cubicBezTo>
                <a:cubicBezTo>
                  <a:pt x="12587" y="16058"/>
                  <a:pt x="12489" y="16116"/>
                  <a:pt x="12427" y="16123"/>
                </a:cubicBezTo>
                <a:cubicBezTo>
                  <a:pt x="12343" y="16133"/>
                  <a:pt x="12304" y="16102"/>
                  <a:pt x="12229" y="16073"/>
                </a:cubicBezTo>
                <a:cubicBezTo>
                  <a:pt x="12151" y="16043"/>
                  <a:pt x="12151" y="16025"/>
                  <a:pt x="12105" y="15949"/>
                </a:cubicBezTo>
                <a:cubicBezTo>
                  <a:pt x="12080" y="15908"/>
                  <a:pt x="12046" y="15876"/>
                  <a:pt x="12030" y="15850"/>
                </a:cubicBezTo>
                <a:cubicBezTo>
                  <a:pt x="12005" y="15809"/>
                  <a:pt x="11984" y="15779"/>
                  <a:pt x="11981" y="15701"/>
                </a:cubicBezTo>
                <a:cubicBezTo>
                  <a:pt x="11981" y="15657"/>
                  <a:pt x="11984" y="15643"/>
                  <a:pt x="11956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5240" y="1785960"/>
            <a:ext cx="44640" cy="1339920"/>
          </a:xfrm>
          <a:custGeom>
            <a:avLst/>
            <a:gdLst/>
            <a:ahLst/>
            <a:rect l="l" t="t" r="r" b="b"/>
            <a:pathLst>
              <a:path w="125" h="3722">
                <a:moveTo>
                  <a:pt x="2307" y="4961"/>
                </a:moveTo>
                <a:cubicBezTo>
                  <a:pt x="2307" y="5371"/>
                  <a:pt x="2345" y="5795"/>
                  <a:pt x="2332" y="6201"/>
                </a:cubicBezTo>
                <a:cubicBezTo>
                  <a:pt x="2322" y="6520"/>
                  <a:pt x="2308" y="6850"/>
                  <a:pt x="2282" y="7169"/>
                </a:cubicBezTo>
                <a:cubicBezTo>
                  <a:pt x="2261" y="7425"/>
                  <a:pt x="2253" y="7683"/>
                  <a:pt x="2232" y="7938"/>
                </a:cubicBezTo>
                <a:cubicBezTo>
                  <a:pt x="2217" y="8120"/>
                  <a:pt x="2227" y="8277"/>
                  <a:pt x="2232" y="8458"/>
                </a:cubicBezTo>
                <a:cubicBezTo>
                  <a:pt x="2234" y="8532"/>
                  <a:pt x="2215" y="8646"/>
                  <a:pt x="2208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0120" y="2509920"/>
            <a:ext cx="1081080" cy="79200"/>
          </a:xfrm>
          <a:custGeom>
            <a:avLst/>
            <a:gdLst/>
            <a:ahLst/>
            <a:rect l="l" t="t" r="r" b="b"/>
            <a:pathLst>
              <a:path w="3002" h="224">
                <a:moveTo>
                  <a:pt x="918" y="7193"/>
                </a:moveTo>
                <a:cubicBezTo>
                  <a:pt x="1005" y="7193"/>
                  <a:pt x="1080" y="7172"/>
                  <a:pt x="1166" y="7169"/>
                </a:cubicBezTo>
                <a:cubicBezTo>
                  <a:pt x="1358" y="7163"/>
                  <a:pt x="1546" y="7122"/>
                  <a:pt x="1736" y="7094"/>
                </a:cubicBezTo>
                <a:cubicBezTo>
                  <a:pt x="2006" y="7055"/>
                  <a:pt x="2287" y="7015"/>
                  <a:pt x="2555" y="6995"/>
                </a:cubicBezTo>
                <a:cubicBezTo>
                  <a:pt x="2837" y="6974"/>
                  <a:pt x="3140" y="6947"/>
                  <a:pt x="3423" y="6970"/>
                </a:cubicBezTo>
                <a:cubicBezTo>
                  <a:pt x="3562" y="6981"/>
                  <a:pt x="3729" y="7026"/>
                  <a:pt x="3870" y="6995"/>
                </a:cubicBezTo>
                <a:cubicBezTo>
                  <a:pt x="3892" y="6972"/>
                  <a:pt x="3897" y="6964"/>
                  <a:pt x="3919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5320" y="2554200"/>
            <a:ext cx="972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736" y="7094"/>
                </a:moveTo>
                <a:cubicBezTo>
                  <a:pt x="1736" y="7170"/>
                  <a:pt x="1776" y="7274"/>
                  <a:pt x="1761" y="7342"/>
                </a:cubicBezTo>
                <a:cubicBezTo>
                  <a:pt x="1739" y="7386"/>
                  <a:pt x="1726" y="7398"/>
                  <a:pt x="1761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0960" y="2401920"/>
            <a:ext cx="169920" cy="27000"/>
          </a:xfrm>
          <a:custGeom>
            <a:avLst/>
            <a:gdLst/>
            <a:ahLst/>
            <a:rect l="l" t="t" r="r" b="b"/>
            <a:pathLst>
              <a:path w="472" h="76">
                <a:moveTo>
                  <a:pt x="2084" y="6747"/>
                </a:moveTo>
                <a:cubicBezTo>
                  <a:pt x="2196" y="6747"/>
                  <a:pt x="2298" y="6753"/>
                  <a:pt x="2406" y="6722"/>
                </a:cubicBezTo>
                <a:cubicBezTo>
                  <a:pt x="2480" y="6697"/>
                  <a:pt x="2505" y="6688"/>
                  <a:pt x="2555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1240" y="2205000"/>
            <a:ext cx="231840" cy="19080"/>
          </a:xfrm>
          <a:custGeom>
            <a:avLst/>
            <a:gdLst/>
            <a:ahLst/>
            <a:rect l="l" t="t" r="r" b="b"/>
            <a:pathLst>
              <a:path w="646" h="50">
                <a:moveTo>
                  <a:pt x="2059" y="6176"/>
                </a:moveTo>
                <a:cubicBezTo>
                  <a:pt x="2206" y="6176"/>
                  <a:pt x="2337" y="6166"/>
                  <a:pt x="2480" y="6152"/>
                </a:cubicBezTo>
                <a:cubicBezTo>
                  <a:pt x="2557" y="6145"/>
                  <a:pt x="2626" y="6133"/>
                  <a:pt x="2704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1960" y="2251080"/>
            <a:ext cx="7308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1662" y="6325"/>
                </a:moveTo>
                <a:cubicBezTo>
                  <a:pt x="1663" y="6330"/>
                  <a:pt x="1695" y="6442"/>
                  <a:pt x="1736" y="6400"/>
                </a:cubicBezTo>
                <a:cubicBezTo>
                  <a:pt x="1736" y="6392"/>
                  <a:pt x="1736" y="6383"/>
                  <a:pt x="1736" y="6375"/>
                </a:cubicBezTo>
                <a:cubicBezTo>
                  <a:pt x="1768" y="6364"/>
                  <a:pt x="1765" y="6320"/>
                  <a:pt x="1736" y="6300"/>
                </a:cubicBezTo>
                <a:cubicBezTo>
                  <a:pt x="1707" y="6280"/>
                  <a:pt x="1655" y="6309"/>
                  <a:pt x="1637" y="6325"/>
                </a:cubicBezTo>
                <a:cubicBezTo>
                  <a:pt x="1603" y="6355"/>
                  <a:pt x="1574" y="6383"/>
                  <a:pt x="1563" y="6424"/>
                </a:cubicBezTo>
                <a:cubicBezTo>
                  <a:pt x="1618" y="6424"/>
                  <a:pt x="1670" y="6437"/>
                  <a:pt x="1712" y="6400"/>
                </a:cubicBezTo>
                <a:cubicBezTo>
                  <a:pt x="1746" y="6370"/>
                  <a:pt x="1786" y="6326"/>
                  <a:pt x="1761" y="6276"/>
                </a:cubicBezTo>
                <a:cubicBezTo>
                  <a:pt x="1753" y="6268"/>
                  <a:pt x="1744" y="6259"/>
                  <a:pt x="1736" y="6251"/>
                </a:cubicBezTo>
                <a:cubicBezTo>
                  <a:pt x="1663" y="6251"/>
                  <a:pt x="1656" y="6272"/>
                  <a:pt x="1612" y="6325"/>
                </a:cubicBezTo>
                <a:cubicBezTo>
                  <a:pt x="1578" y="6366"/>
                  <a:pt x="1563" y="6370"/>
                  <a:pt x="1563" y="6424"/>
                </a:cubicBezTo>
                <a:cubicBezTo>
                  <a:pt x="1563" y="6432"/>
                  <a:pt x="1563" y="6441"/>
                  <a:pt x="1563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2490840"/>
            <a:ext cx="9360" cy="108000"/>
          </a:xfrm>
          <a:custGeom>
            <a:avLst/>
            <a:gdLst/>
            <a:ahLst/>
            <a:rect l="l" t="t" r="r" b="b"/>
            <a:pathLst>
              <a:path w="25" h="298">
                <a:moveTo>
                  <a:pt x="3101" y="6921"/>
                </a:moveTo>
                <a:cubicBezTo>
                  <a:pt x="3101" y="7034"/>
                  <a:pt x="3115" y="7095"/>
                  <a:pt x="3125" y="7193"/>
                </a:cubicBezTo>
                <a:cubicBezTo>
                  <a:pt x="3125" y="7201"/>
                  <a:pt x="3125" y="7210"/>
                  <a:pt x="3125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6200" y="2536920"/>
            <a:ext cx="972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3547" y="7045"/>
                </a:moveTo>
                <a:cubicBezTo>
                  <a:pt x="3552" y="7118"/>
                  <a:pt x="3572" y="7174"/>
                  <a:pt x="3572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6120" y="2536920"/>
            <a:ext cx="27000" cy="79200"/>
          </a:xfrm>
          <a:custGeom>
            <a:avLst/>
            <a:gdLst/>
            <a:ahLst/>
            <a:rect l="l" t="t" r="r" b="b"/>
            <a:pathLst>
              <a:path w="76" h="224">
                <a:moveTo>
                  <a:pt x="4018" y="7045"/>
                </a:moveTo>
                <a:cubicBezTo>
                  <a:pt x="4036" y="7146"/>
                  <a:pt x="4026" y="7201"/>
                  <a:pt x="4093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6880" y="201780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2406" y="5631"/>
                </a:moveTo>
                <a:cubicBezTo>
                  <a:pt x="2447" y="5623"/>
                  <a:pt x="2489" y="5614"/>
                  <a:pt x="2530" y="56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1240" y="1901880"/>
            <a:ext cx="10800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2059" y="5432"/>
                </a:moveTo>
                <a:cubicBezTo>
                  <a:pt x="2163" y="5389"/>
                  <a:pt x="2259" y="5340"/>
                  <a:pt x="2356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80" y="1704960"/>
            <a:ext cx="204840" cy="63360"/>
          </a:xfrm>
          <a:custGeom>
            <a:avLst/>
            <a:gdLst/>
            <a:ahLst/>
            <a:rect l="l" t="t" r="r" b="b"/>
            <a:pathLst>
              <a:path w="571" h="174">
                <a:moveTo>
                  <a:pt x="2332" y="4911"/>
                </a:moveTo>
                <a:cubicBezTo>
                  <a:pt x="2477" y="4848"/>
                  <a:pt x="2622" y="4796"/>
                  <a:pt x="2778" y="4762"/>
                </a:cubicBezTo>
                <a:cubicBezTo>
                  <a:pt x="2819" y="4754"/>
                  <a:pt x="2861" y="4746"/>
                  <a:pt x="2902" y="47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54120" y="1660680"/>
            <a:ext cx="81000" cy="6336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4390" y="4663"/>
                </a:moveTo>
                <a:cubicBezTo>
                  <a:pt x="4364" y="4726"/>
                  <a:pt x="4354" y="4714"/>
                  <a:pt x="4390" y="4762"/>
                </a:cubicBezTo>
                <a:cubicBezTo>
                  <a:pt x="4428" y="4753"/>
                  <a:pt x="4460" y="4740"/>
                  <a:pt x="4490" y="4713"/>
                </a:cubicBezTo>
                <a:cubicBezTo>
                  <a:pt x="4542" y="4665"/>
                  <a:pt x="4528" y="4670"/>
                  <a:pt x="4514" y="4614"/>
                </a:cubicBezTo>
                <a:cubicBezTo>
                  <a:pt x="4457" y="4625"/>
                  <a:pt x="4430" y="4647"/>
                  <a:pt x="4390" y="4688"/>
                </a:cubicBezTo>
                <a:cubicBezTo>
                  <a:pt x="4361" y="4717"/>
                  <a:pt x="4320" y="4734"/>
                  <a:pt x="4316" y="4762"/>
                </a:cubicBezTo>
                <a:cubicBezTo>
                  <a:pt x="4316" y="4770"/>
                  <a:pt x="4316" y="4779"/>
                  <a:pt x="4316" y="47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8320" y="1687680"/>
            <a:ext cx="1036800" cy="661680"/>
          </a:xfrm>
          <a:custGeom>
            <a:avLst/>
            <a:gdLst/>
            <a:ahLst/>
            <a:rect l="l" t="t" r="r" b="b"/>
            <a:pathLst>
              <a:path w="2878" h="1837">
                <a:moveTo>
                  <a:pt x="1687" y="6524"/>
                </a:moveTo>
                <a:cubicBezTo>
                  <a:pt x="1699" y="6493"/>
                  <a:pt x="1661" y="6495"/>
                  <a:pt x="1687" y="6474"/>
                </a:cubicBezTo>
                <a:cubicBezTo>
                  <a:pt x="1782" y="6397"/>
                  <a:pt x="1905" y="6319"/>
                  <a:pt x="2009" y="6251"/>
                </a:cubicBezTo>
                <a:cubicBezTo>
                  <a:pt x="2235" y="6104"/>
                  <a:pt x="2486" y="5986"/>
                  <a:pt x="2704" y="5829"/>
                </a:cubicBezTo>
                <a:cubicBezTo>
                  <a:pt x="2902" y="5687"/>
                  <a:pt x="3095" y="5543"/>
                  <a:pt x="3299" y="5407"/>
                </a:cubicBezTo>
                <a:cubicBezTo>
                  <a:pt x="3485" y="5283"/>
                  <a:pt x="3652" y="5141"/>
                  <a:pt x="3845" y="5035"/>
                </a:cubicBezTo>
                <a:cubicBezTo>
                  <a:pt x="3984" y="4959"/>
                  <a:pt x="4096" y="4885"/>
                  <a:pt x="4217" y="4787"/>
                </a:cubicBezTo>
                <a:cubicBezTo>
                  <a:pt x="4279" y="4737"/>
                  <a:pt x="4317" y="4712"/>
                  <a:pt x="4390" y="4688"/>
                </a:cubicBezTo>
                <a:cubicBezTo>
                  <a:pt x="4398" y="4688"/>
                  <a:pt x="4407" y="4688"/>
                  <a:pt x="4415" y="4688"/>
                </a:cubicBezTo>
                <a:cubicBezTo>
                  <a:pt x="4378" y="4704"/>
                  <a:pt x="4376" y="4717"/>
                  <a:pt x="4316" y="4738"/>
                </a:cubicBezTo>
                <a:cubicBezTo>
                  <a:pt x="4259" y="4758"/>
                  <a:pt x="4200" y="4767"/>
                  <a:pt x="4142" y="4787"/>
                </a:cubicBezTo>
                <a:cubicBezTo>
                  <a:pt x="4002" y="4836"/>
                  <a:pt x="3866" y="4875"/>
                  <a:pt x="3721" y="4911"/>
                </a:cubicBezTo>
                <a:cubicBezTo>
                  <a:pt x="3637" y="4932"/>
                  <a:pt x="3554" y="4967"/>
                  <a:pt x="3473" y="4986"/>
                </a:cubicBezTo>
                <a:cubicBezTo>
                  <a:pt x="3465" y="4986"/>
                  <a:pt x="3456" y="4986"/>
                  <a:pt x="3448" y="4986"/>
                </a:cubicBezTo>
                <a:cubicBezTo>
                  <a:pt x="3515" y="4947"/>
                  <a:pt x="3570" y="4914"/>
                  <a:pt x="3646" y="4887"/>
                </a:cubicBezTo>
                <a:cubicBezTo>
                  <a:pt x="3780" y="4840"/>
                  <a:pt x="3869" y="4757"/>
                  <a:pt x="4018" y="4738"/>
                </a:cubicBezTo>
                <a:cubicBezTo>
                  <a:pt x="4095" y="4728"/>
                  <a:pt x="4204" y="4735"/>
                  <a:pt x="4266" y="4787"/>
                </a:cubicBezTo>
                <a:cubicBezTo>
                  <a:pt x="4306" y="4821"/>
                  <a:pt x="4377" y="4959"/>
                  <a:pt x="4415" y="5011"/>
                </a:cubicBezTo>
                <a:cubicBezTo>
                  <a:pt x="4457" y="5068"/>
                  <a:pt x="4531" y="5156"/>
                  <a:pt x="4539" y="5234"/>
                </a:cubicBezTo>
                <a:cubicBezTo>
                  <a:pt x="4531" y="5242"/>
                  <a:pt x="4522" y="5251"/>
                  <a:pt x="4514" y="52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25760" y="1490760"/>
            <a:ext cx="1527120" cy="696960"/>
          </a:xfrm>
          <a:custGeom>
            <a:avLst/>
            <a:gdLst/>
            <a:ahLst/>
            <a:rect l="l" t="t" r="r" b="b"/>
            <a:pathLst>
              <a:path w="4243" h="1936">
                <a:moveTo>
                  <a:pt x="5035" y="4291"/>
                </a:moveTo>
                <a:cubicBezTo>
                  <a:pt x="5070" y="4338"/>
                  <a:pt x="5060" y="4378"/>
                  <a:pt x="5060" y="4440"/>
                </a:cubicBezTo>
                <a:cubicBezTo>
                  <a:pt x="5060" y="4527"/>
                  <a:pt x="5084" y="4601"/>
                  <a:pt x="5085" y="4688"/>
                </a:cubicBezTo>
                <a:cubicBezTo>
                  <a:pt x="5088" y="4882"/>
                  <a:pt x="5110" y="5046"/>
                  <a:pt x="5110" y="5234"/>
                </a:cubicBezTo>
                <a:cubicBezTo>
                  <a:pt x="5110" y="5327"/>
                  <a:pt x="5098" y="5403"/>
                  <a:pt x="5110" y="5482"/>
                </a:cubicBezTo>
                <a:cubicBezTo>
                  <a:pt x="5112" y="5498"/>
                  <a:pt x="5127" y="5589"/>
                  <a:pt x="5110" y="5531"/>
                </a:cubicBezTo>
                <a:cubicBezTo>
                  <a:pt x="5102" y="5506"/>
                  <a:pt x="5093" y="5482"/>
                  <a:pt x="5085" y="5457"/>
                </a:cubicBezTo>
              </a:path>
              <a:path w="4243" h="1936">
                <a:moveTo>
                  <a:pt x="4514" y="4415"/>
                </a:moveTo>
                <a:cubicBezTo>
                  <a:pt x="4611" y="4301"/>
                  <a:pt x="4665" y="4259"/>
                  <a:pt x="4812" y="4217"/>
                </a:cubicBezTo>
                <a:cubicBezTo>
                  <a:pt x="4954" y="4176"/>
                  <a:pt x="5095" y="4191"/>
                  <a:pt x="5234" y="4242"/>
                </a:cubicBezTo>
                <a:cubicBezTo>
                  <a:pt x="5391" y="4299"/>
                  <a:pt x="5473" y="4325"/>
                  <a:pt x="5482" y="4490"/>
                </a:cubicBezTo>
                <a:cubicBezTo>
                  <a:pt x="5486" y="4566"/>
                  <a:pt x="5391" y="4642"/>
                  <a:pt x="5333" y="4688"/>
                </a:cubicBezTo>
                <a:cubicBezTo>
                  <a:pt x="5266" y="4741"/>
                  <a:pt x="5181" y="4829"/>
                  <a:pt x="5110" y="4862"/>
                </a:cubicBezTo>
                <a:cubicBezTo>
                  <a:pt x="5102" y="4862"/>
                  <a:pt x="5093" y="4862"/>
                  <a:pt x="5085" y="4862"/>
                </a:cubicBezTo>
                <a:cubicBezTo>
                  <a:pt x="5061" y="4862"/>
                  <a:pt x="5120" y="4818"/>
                  <a:pt x="5159" y="4762"/>
                </a:cubicBezTo>
              </a:path>
              <a:path w="4243" h="1936">
                <a:moveTo>
                  <a:pt x="6176" y="4142"/>
                </a:moveTo>
                <a:cubicBezTo>
                  <a:pt x="6075" y="4246"/>
                  <a:pt x="5995" y="4334"/>
                  <a:pt x="5928" y="4465"/>
                </a:cubicBezTo>
                <a:cubicBezTo>
                  <a:pt x="5853" y="4611"/>
                  <a:pt x="5779" y="4753"/>
                  <a:pt x="5730" y="4911"/>
                </a:cubicBezTo>
                <a:cubicBezTo>
                  <a:pt x="5695" y="5026"/>
                  <a:pt x="5705" y="5140"/>
                  <a:pt x="5705" y="5259"/>
                </a:cubicBezTo>
                <a:cubicBezTo>
                  <a:pt x="5705" y="5325"/>
                  <a:pt x="5718" y="5413"/>
                  <a:pt x="5779" y="5457"/>
                </a:cubicBezTo>
                <a:cubicBezTo>
                  <a:pt x="5799" y="5472"/>
                  <a:pt x="5880" y="5510"/>
                  <a:pt x="5904" y="5507"/>
                </a:cubicBezTo>
                <a:cubicBezTo>
                  <a:pt x="5904" y="5499"/>
                  <a:pt x="5904" y="5490"/>
                  <a:pt x="5904" y="5482"/>
                </a:cubicBezTo>
              </a:path>
              <a:path w="4243" h="1936">
                <a:moveTo>
                  <a:pt x="7640" y="5581"/>
                </a:moveTo>
                <a:cubicBezTo>
                  <a:pt x="7631" y="5668"/>
                  <a:pt x="7627" y="5881"/>
                  <a:pt x="7590" y="5978"/>
                </a:cubicBezTo>
                <a:cubicBezTo>
                  <a:pt x="7578" y="6010"/>
                  <a:pt x="7538" y="6049"/>
                  <a:pt x="7516" y="6077"/>
                </a:cubicBezTo>
              </a:path>
              <a:path w="4243" h="1936">
                <a:moveTo>
                  <a:pt x="6449" y="4514"/>
                </a:moveTo>
                <a:cubicBezTo>
                  <a:pt x="6513" y="4514"/>
                  <a:pt x="6564" y="4497"/>
                  <a:pt x="6623" y="4490"/>
                </a:cubicBezTo>
                <a:cubicBezTo>
                  <a:pt x="6704" y="4480"/>
                  <a:pt x="6791" y="4468"/>
                  <a:pt x="6871" y="4465"/>
                </a:cubicBezTo>
                <a:cubicBezTo>
                  <a:pt x="6951" y="4462"/>
                  <a:pt x="7012" y="4440"/>
                  <a:pt x="7094" y="4440"/>
                </a:cubicBezTo>
                <a:cubicBezTo>
                  <a:pt x="7111" y="4440"/>
                  <a:pt x="7127" y="4440"/>
                  <a:pt x="7144" y="4440"/>
                </a:cubicBezTo>
                <a:cubicBezTo>
                  <a:pt x="7132" y="4486"/>
                  <a:pt x="7108" y="4516"/>
                  <a:pt x="7094" y="4564"/>
                </a:cubicBezTo>
                <a:cubicBezTo>
                  <a:pt x="7052" y="4709"/>
                  <a:pt x="7028" y="4844"/>
                  <a:pt x="6995" y="4986"/>
                </a:cubicBezTo>
                <a:cubicBezTo>
                  <a:pt x="6977" y="5062"/>
                  <a:pt x="6970" y="5127"/>
                  <a:pt x="6970" y="5209"/>
                </a:cubicBezTo>
                <a:cubicBezTo>
                  <a:pt x="6970" y="5265"/>
                  <a:pt x="6995" y="5278"/>
                  <a:pt x="6995" y="5333"/>
                </a:cubicBezTo>
              </a:path>
              <a:path w="4243" h="1936">
                <a:moveTo>
                  <a:pt x="8161" y="4465"/>
                </a:moveTo>
                <a:cubicBezTo>
                  <a:pt x="8214" y="4411"/>
                  <a:pt x="8240" y="4408"/>
                  <a:pt x="8310" y="4390"/>
                </a:cubicBezTo>
                <a:cubicBezTo>
                  <a:pt x="8403" y="4366"/>
                  <a:pt x="8488" y="4364"/>
                  <a:pt x="8582" y="4390"/>
                </a:cubicBezTo>
                <a:cubicBezTo>
                  <a:pt x="8654" y="4410"/>
                  <a:pt x="8734" y="4512"/>
                  <a:pt x="8731" y="4589"/>
                </a:cubicBezTo>
                <a:cubicBezTo>
                  <a:pt x="8728" y="4654"/>
                  <a:pt x="8652" y="4794"/>
                  <a:pt x="8607" y="4837"/>
                </a:cubicBezTo>
                <a:cubicBezTo>
                  <a:pt x="8567" y="4875"/>
                  <a:pt x="8489" y="4942"/>
                  <a:pt x="8434" y="4961"/>
                </a:cubicBezTo>
                <a:cubicBezTo>
                  <a:pt x="8323" y="4998"/>
                  <a:pt x="8459" y="4963"/>
                  <a:pt x="8508" y="4961"/>
                </a:cubicBezTo>
                <a:cubicBezTo>
                  <a:pt x="8584" y="4957"/>
                  <a:pt x="8641" y="4967"/>
                  <a:pt x="8706" y="5011"/>
                </a:cubicBezTo>
                <a:cubicBezTo>
                  <a:pt x="8753" y="5043"/>
                  <a:pt x="8777" y="5131"/>
                  <a:pt x="8756" y="5184"/>
                </a:cubicBezTo>
                <a:cubicBezTo>
                  <a:pt x="8739" y="5228"/>
                  <a:pt x="8622" y="5312"/>
                  <a:pt x="8582" y="5333"/>
                </a:cubicBezTo>
                <a:cubicBezTo>
                  <a:pt x="8507" y="5373"/>
                  <a:pt x="8393" y="5396"/>
                  <a:pt x="8310" y="5407"/>
                </a:cubicBezTo>
                <a:cubicBezTo>
                  <a:pt x="8304" y="5408"/>
                  <a:pt x="8124" y="5418"/>
                  <a:pt x="8136" y="5383"/>
                </a:cubicBezTo>
                <a:cubicBezTo>
                  <a:pt x="8161" y="5383"/>
                  <a:pt x="8169" y="5383"/>
                  <a:pt x="8161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0920" y="1482840"/>
            <a:ext cx="54000" cy="392040"/>
          </a:xfrm>
          <a:custGeom>
            <a:avLst/>
            <a:gdLst/>
            <a:ahLst/>
            <a:rect l="l" t="t" r="r" b="b"/>
            <a:pathLst>
              <a:path w="149" h="1092">
                <a:moveTo>
                  <a:pt x="9748" y="4118"/>
                </a:moveTo>
                <a:cubicBezTo>
                  <a:pt x="9765" y="4199"/>
                  <a:pt x="9791" y="4278"/>
                  <a:pt x="9798" y="4366"/>
                </a:cubicBezTo>
                <a:cubicBezTo>
                  <a:pt x="9808" y="4491"/>
                  <a:pt x="9803" y="4615"/>
                  <a:pt x="9823" y="4738"/>
                </a:cubicBezTo>
                <a:cubicBezTo>
                  <a:pt x="9838" y="4828"/>
                  <a:pt x="9871" y="4942"/>
                  <a:pt x="9847" y="5035"/>
                </a:cubicBezTo>
                <a:cubicBezTo>
                  <a:pt x="9834" y="5086"/>
                  <a:pt x="9794" y="5154"/>
                  <a:pt x="9748" y="5184"/>
                </a:cubicBezTo>
                <a:cubicBezTo>
                  <a:pt x="9732" y="5192"/>
                  <a:pt x="9715" y="5201"/>
                  <a:pt x="9699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05160" y="1581120"/>
            <a:ext cx="277920" cy="428760"/>
          </a:xfrm>
          <a:custGeom>
            <a:avLst/>
            <a:gdLst/>
            <a:ahLst/>
            <a:rect l="l" t="t" r="r" b="b"/>
            <a:pathLst>
              <a:path w="770" h="1192">
                <a:moveTo>
                  <a:pt x="11981" y="4390"/>
                </a:moveTo>
                <a:cubicBezTo>
                  <a:pt x="11922" y="4449"/>
                  <a:pt x="11897" y="4494"/>
                  <a:pt x="11857" y="4564"/>
                </a:cubicBezTo>
                <a:cubicBezTo>
                  <a:pt x="11771" y="4712"/>
                  <a:pt x="11742" y="4844"/>
                  <a:pt x="11708" y="5011"/>
                </a:cubicBezTo>
                <a:cubicBezTo>
                  <a:pt x="11682" y="5139"/>
                  <a:pt x="11659" y="5345"/>
                  <a:pt x="11757" y="5457"/>
                </a:cubicBezTo>
                <a:cubicBezTo>
                  <a:pt x="11817" y="5526"/>
                  <a:pt x="11931" y="5526"/>
                  <a:pt x="12005" y="5507"/>
                </a:cubicBezTo>
                <a:cubicBezTo>
                  <a:pt x="12109" y="5480"/>
                  <a:pt x="12233" y="5387"/>
                  <a:pt x="12303" y="5308"/>
                </a:cubicBezTo>
                <a:cubicBezTo>
                  <a:pt x="12418" y="5179"/>
                  <a:pt x="12439" y="5031"/>
                  <a:pt x="12452" y="4862"/>
                </a:cubicBezTo>
                <a:cubicBezTo>
                  <a:pt x="12461" y="4740"/>
                  <a:pt x="12404" y="4612"/>
                  <a:pt x="12328" y="4514"/>
                </a:cubicBezTo>
                <a:cubicBezTo>
                  <a:pt x="12289" y="4464"/>
                  <a:pt x="12170" y="4401"/>
                  <a:pt x="12105" y="4390"/>
                </a:cubicBezTo>
                <a:cubicBezTo>
                  <a:pt x="12020" y="4375"/>
                  <a:pt x="11926" y="4401"/>
                  <a:pt x="11881" y="4415"/>
                </a:cubicBezTo>
                <a:cubicBezTo>
                  <a:pt x="11873" y="4415"/>
                  <a:pt x="11865" y="4415"/>
                  <a:pt x="11857" y="4415"/>
                </a:cubicBezTo>
              </a:path>
              <a:path w="770" h="1192">
                <a:moveTo>
                  <a:pt x="11981" y="5085"/>
                </a:moveTo>
                <a:cubicBezTo>
                  <a:pt x="12008" y="5169"/>
                  <a:pt x="12036" y="5235"/>
                  <a:pt x="12080" y="5308"/>
                </a:cubicBezTo>
                <a:cubicBezTo>
                  <a:pt x="12111" y="5360"/>
                  <a:pt x="12138" y="5412"/>
                  <a:pt x="12179" y="5457"/>
                </a:cubicBezTo>
                <a:cubicBezTo>
                  <a:pt x="12201" y="5482"/>
                  <a:pt x="12229" y="5543"/>
                  <a:pt x="12254" y="5556"/>
                </a:cubicBezTo>
                <a:cubicBezTo>
                  <a:pt x="12286" y="5572"/>
                  <a:pt x="12267" y="5569"/>
                  <a:pt x="12303" y="5581"/>
                </a:cubicBezTo>
                <a:cubicBezTo>
                  <a:pt x="12271" y="5570"/>
                  <a:pt x="12264" y="5563"/>
                  <a:pt x="12254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05200" y="1446120"/>
            <a:ext cx="393840" cy="527040"/>
          </a:xfrm>
          <a:custGeom>
            <a:avLst/>
            <a:gdLst/>
            <a:ahLst/>
            <a:rect l="l" t="t" r="r" b="b"/>
            <a:pathLst>
              <a:path w="1092" h="1465">
                <a:moveTo>
                  <a:pt x="13494" y="4043"/>
                </a:moveTo>
                <a:cubicBezTo>
                  <a:pt x="13502" y="4035"/>
                  <a:pt x="13511" y="4026"/>
                  <a:pt x="13519" y="4018"/>
                </a:cubicBezTo>
                <a:cubicBezTo>
                  <a:pt x="13498" y="4044"/>
                  <a:pt x="13448" y="4098"/>
                  <a:pt x="13419" y="4142"/>
                </a:cubicBezTo>
                <a:cubicBezTo>
                  <a:pt x="13361" y="4230"/>
                  <a:pt x="13320" y="4345"/>
                  <a:pt x="13271" y="4440"/>
                </a:cubicBezTo>
                <a:cubicBezTo>
                  <a:pt x="13200" y="4577"/>
                  <a:pt x="13142" y="4714"/>
                  <a:pt x="13097" y="4862"/>
                </a:cubicBezTo>
                <a:cubicBezTo>
                  <a:pt x="13066" y="4962"/>
                  <a:pt x="13052" y="5104"/>
                  <a:pt x="13072" y="5209"/>
                </a:cubicBezTo>
                <a:cubicBezTo>
                  <a:pt x="13090" y="5307"/>
                  <a:pt x="13102" y="5338"/>
                  <a:pt x="13171" y="5407"/>
                </a:cubicBezTo>
                <a:cubicBezTo>
                  <a:pt x="13188" y="5424"/>
                  <a:pt x="13248" y="5484"/>
                  <a:pt x="13271" y="5482"/>
                </a:cubicBezTo>
                <a:cubicBezTo>
                  <a:pt x="13333" y="5476"/>
                  <a:pt x="13273" y="5462"/>
                  <a:pt x="13271" y="5457"/>
                </a:cubicBezTo>
              </a:path>
              <a:path w="1092" h="1465">
                <a:moveTo>
                  <a:pt x="13891" y="4440"/>
                </a:moveTo>
                <a:cubicBezTo>
                  <a:pt x="13847" y="4505"/>
                  <a:pt x="13816" y="4571"/>
                  <a:pt x="13791" y="4638"/>
                </a:cubicBezTo>
                <a:cubicBezTo>
                  <a:pt x="13765" y="4708"/>
                  <a:pt x="13767" y="4762"/>
                  <a:pt x="13767" y="4837"/>
                </a:cubicBezTo>
                <a:cubicBezTo>
                  <a:pt x="13767" y="4880"/>
                  <a:pt x="13801" y="4907"/>
                  <a:pt x="13841" y="4911"/>
                </a:cubicBezTo>
                <a:cubicBezTo>
                  <a:pt x="13899" y="4917"/>
                  <a:pt x="13937" y="4899"/>
                  <a:pt x="13990" y="4887"/>
                </a:cubicBezTo>
                <a:cubicBezTo>
                  <a:pt x="14064" y="4871"/>
                  <a:pt x="14098" y="4827"/>
                  <a:pt x="14139" y="4762"/>
                </a:cubicBezTo>
                <a:cubicBezTo>
                  <a:pt x="14147" y="4746"/>
                  <a:pt x="14155" y="4729"/>
                  <a:pt x="14163" y="4713"/>
                </a:cubicBezTo>
              </a:path>
              <a:path w="1092" h="1465">
                <a:moveTo>
                  <a:pt x="14114" y="4341"/>
                </a:moveTo>
                <a:cubicBezTo>
                  <a:pt x="14093" y="4520"/>
                  <a:pt x="14064" y="4684"/>
                  <a:pt x="14064" y="4862"/>
                </a:cubicBezTo>
                <a:cubicBezTo>
                  <a:pt x="14064" y="4962"/>
                  <a:pt x="14053" y="5040"/>
                  <a:pt x="14039" y="5135"/>
                </a:cubicBezTo>
                <a:cubicBezTo>
                  <a:pt x="14030" y="5199"/>
                  <a:pt x="14005" y="5243"/>
                  <a:pt x="13990" y="5308"/>
                </a:cubicBezTo>
                <a:cubicBezTo>
                  <a:pt x="13990" y="5333"/>
                  <a:pt x="13990" y="5341"/>
                  <a:pt x="13990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57880" y="1919160"/>
            <a:ext cx="36360" cy="14472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14982" y="5333"/>
                </a:moveTo>
                <a:cubicBezTo>
                  <a:pt x="14960" y="5431"/>
                  <a:pt x="14915" y="5534"/>
                  <a:pt x="14908" y="5631"/>
                </a:cubicBezTo>
                <a:cubicBezTo>
                  <a:pt x="14905" y="5671"/>
                  <a:pt x="14883" y="5685"/>
                  <a:pt x="14883" y="57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49920" y="1581120"/>
            <a:ext cx="63360" cy="384120"/>
          </a:xfrm>
          <a:custGeom>
            <a:avLst/>
            <a:gdLst/>
            <a:ahLst/>
            <a:rect l="l" t="t" r="r" b="b"/>
            <a:pathLst>
              <a:path w="175" h="1068">
                <a:moveTo>
                  <a:pt x="16123" y="4390"/>
                </a:moveTo>
                <a:cubicBezTo>
                  <a:pt x="16123" y="4598"/>
                  <a:pt x="16168" y="4902"/>
                  <a:pt x="16148" y="5110"/>
                </a:cubicBezTo>
                <a:cubicBezTo>
                  <a:pt x="16145" y="5143"/>
                  <a:pt x="16115" y="5283"/>
                  <a:pt x="16098" y="5308"/>
                </a:cubicBezTo>
                <a:cubicBezTo>
                  <a:pt x="16057" y="5358"/>
                  <a:pt x="16015" y="5407"/>
                  <a:pt x="15974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75240" y="1419120"/>
            <a:ext cx="54000" cy="385920"/>
          </a:xfrm>
          <a:custGeom>
            <a:avLst/>
            <a:gdLst/>
            <a:ahLst/>
            <a:rect l="l" t="t" r="r" b="b"/>
            <a:pathLst>
              <a:path w="149" h="1068">
                <a:moveTo>
                  <a:pt x="17711" y="3944"/>
                </a:moveTo>
                <a:cubicBezTo>
                  <a:pt x="17828" y="4142"/>
                  <a:pt x="17810" y="4198"/>
                  <a:pt x="17835" y="4415"/>
                </a:cubicBezTo>
                <a:cubicBezTo>
                  <a:pt x="17849" y="4535"/>
                  <a:pt x="17859" y="4640"/>
                  <a:pt x="17859" y="4762"/>
                </a:cubicBezTo>
                <a:cubicBezTo>
                  <a:pt x="17859" y="4828"/>
                  <a:pt x="17876" y="4909"/>
                  <a:pt x="17835" y="4961"/>
                </a:cubicBezTo>
                <a:cubicBezTo>
                  <a:pt x="17800" y="4996"/>
                  <a:pt x="17778" y="5009"/>
                  <a:pt x="17735" y="50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97240" y="2803680"/>
            <a:ext cx="1446480" cy="831600"/>
          </a:xfrm>
          <a:custGeom>
            <a:avLst/>
            <a:gdLst/>
            <a:ahLst/>
            <a:rect l="l" t="t" r="r" b="b"/>
            <a:pathLst>
              <a:path w="4020" h="2308">
                <a:moveTo>
                  <a:pt x="14387" y="7789"/>
                </a:moveTo>
                <a:cubicBezTo>
                  <a:pt x="14380" y="7845"/>
                  <a:pt x="14348" y="7832"/>
                  <a:pt x="14412" y="7888"/>
                </a:cubicBezTo>
                <a:cubicBezTo>
                  <a:pt x="14492" y="7958"/>
                  <a:pt x="14600" y="7998"/>
                  <a:pt x="14684" y="8062"/>
                </a:cubicBezTo>
                <a:cubicBezTo>
                  <a:pt x="14810" y="8158"/>
                  <a:pt x="14940" y="8283"/>
                  <a:pt x="15081" y="8359"/>
                </a:cubicBezTo>
                <a:cubicBezTo>
                  <a:pt x="15241" y="8445"/>
                  <a:pt x="15396" y="8538"/>
                  <a:pt x="15553" y="8632"/>
                </a:cubicBezTo>
                <a:cubicBezTo>
                  <a:pt x="15593" y="8656"/>
                  <a:pt x="15660" y="8723"/>
                  <a:pt x="15677" y="8731"/>
                </a:cubicBezTo>
                <a:cubicBezTo>
                  <a:pt x="15677" y="8723"/>
                  <a:pt x="15677" y="8714"/>
                  <a:pt x="15677" y="8706"/>
                </a:cubicBezTo>
                <a:cubicBezTo>
                  <a:pt x="15644" y="8729"/>
                  <a:pt x="15627" y="8753"/>
                  <a:pt x="15602" y="8781"/>
                </a:cubicBezTo>
                <a:cubicBezTo>
                  <a:pt x="15536" y="8856"/>
                  <a:pt x="15472" y="8932"/>
                  <a:pt x="15404" y="9004"/>
                </a:cubicBezTo>
                <a:cubicBezTo>
                  <a:pt x="15294" y="9119"/>
                  <a:pt x="15182" y="9229"/>
                  <a:pt x="15056" y="9327"/>
                </a:cubicBezTo>
                <a:cubicBezTo>
                  <a:pt x="14928" y="9426"/>
                  <a:pt x="14811" y="9528"/>
                  <a:pt x="14684" y="9624"/>
                </a:cubicBezTo>
                <a:cubicBezTo>
                  <a:pt x="14576" y="9705"/>
                  <a:pt x="14410" y="9771"/>
                  <a:pt x="14362" y="9897"/>
                </a:cubicBezTo>
                <a:cubicBezTo>
                  <a:pt x="14350" y="9928"/>
                  <a:pt x="14389" y="9917"/>
                  <a:pt x="14362" y="9897"/>
                </a:cubicBezTo>
                <a:cubicBezTo>
                  <a:pt x="14354" y="9889"/>
                  <a:pt x="14345" y="9880"/>
                  <a:pt x="14337" y="9872"/>
                </a:cubicBezTo>
              </a:path>
              <a:path w="4020" h="2308">
                <a:moveTo>
                  <a:pt x="11658" y="8880"/>
                </a:moveTo>
                <a:cubicBezTo>
                  <a:pt x="11793" y="8888"/>
                  <a:pt x="11922" y="8917"/>
                  <a:pt x="12055" y="8930"/>
                </a:cubicBezTo>
                <a:cubicBezTo>
                  <a:pt x="12129" y="8930"/>
                  <a:pt x="12154" y="8930"/>
                  <a:pt x="12204" y="8930"/>
                </a:cubicBezTo>
              </a:path>
              <a:path w="4020" h="2308">
                <a:moveTo>
                  <a:pt x="12576" y="8384"/>
                </a:moveTo>
                <a:cubicBezTo>
                  <a:pt x="12689" y="8335"/>
                  <a:pt x="12736" y="8322"/>
                  <a:pt x="12849" y="8334"/>
                </a:cubicBezTo>
                <a:cubicBezTo>
                  <a:pt x="12938" y="8343"/>
                  <a:pt x="13016" y="8370"/>
                  <a:pt x="13097" y="8409"/>
                </a:cubicBezTo>
                <a:cubicBezTo>
                  <a:pt x="13172" y="8445"/>
                  <a:pt x="13205" y="8470"/>
                  <a:pt x="13246" y="8533"/>
                </a:cubicBezTo>
                <a:cubicBezTo>
                  <a:pt x="13294" y="8606"/>
                  <a:pt x="13274" y="8704"/>
                  <a:pt x="13246" y="8781"/>
                </a:cubicBezTo>
                <a:cubicBezTo>
                  <a:pt x="13199" y="8909"/>
                  <a:pt x="13130" y="9009"/>
                  <a:pt x="13072" y="9128"/>
                </a:cubicBezTo>
                <a:cubicBezTo>
                  <a:pt x="13018" y="9241"/>
                  <a:pt x="12959" y="9342"/>
                  <a:pt x="12898" y="9451"/>
                </a:cubicBezTo>
                <a:cubicBezTo>
                  <a:pt x="12837" y="9559"/>
                  <a:pt x="12769" y="9648"/>
                  <a:pt x="12700" y="9748"/>
                </a:cubicBezTo>
                <a:cubicBezTo>
                  <a:pt x="12662" y="9803"/>
                  <a:pt x="12633" y="9870"/>
                  <a:pt x="12601" y="9922"/>
                </a:cubicBezTo>
                <a:cubicBezTo>
                  <a:pt x="12576" y="9922"/>
                  <a:pt x="12568" y="9922"/>
                  <a:pt x="12576" y="9947"/>
                </a:cubicBezTo>
                <a:cubicBezTo>
                  <a:pt x="12620" y="9932"/>
                  <a:pt x="12652" y="9935"/>
                  <a:pt x="12700" y="9922"/>
                </a:cubicBezTo>
                <a:cubicBezTo>
                  <a:pt x="12829" y="9888"/>
                  <a:pt x="12917" y="9911"/>
                  <a:pt x="13047" y="9922"/>
                </a:cubicBezTo>
                <a:cubicBezTo>
                  <a:pt x="13184" y="9934"/>
                  <a:pt x="13310" y="9959"/>
                  <a:pt x="13444" y="9996"/>
                </a:cubicBezTo>
                <a:cubicBezTo>
                  <a:pt x="13553" y="10026"/>
                  <a:pt x="13681" y="10078"/>
                  <a:pt x="13791" y="10096"/>
                </a:cubicBezTo>
                <a:cubicBezTo>
                  <a:pt x="13816" y="10096"/>
                  <a:pt x="13824" y="10096"/>
                  <a:pt x="13841" y="10096"/>
                </a:cubicBezTo>
                <a:cubicBezTo>
                  <a:pt x="13813" y="10068"/>
                  <a:pt x="13823" y="10071"/>
                  <a:pt x="13791" y="10046"/>
                </a:cubicBezTo>
                <a:cubicBezTo>
                  <a:pt x="13766" y="10029"/>
                  <a:pt x="13742" y="10013"/>
                  <a:pt x="13717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6160" y="2367000"/>
            <a:ext cx="1581120" cy="963720"/>
          </a:xfrm>
          <a:custGeom>
            <a:avLst/>
            <a:gdLst/>
            <a:ahLst/>
            <a:rect l="l" t="t" r="r" b="b"/>
            <a:pathLst>
              <a:path w="4392" h="2680">
                <a:moveTo>
                  <a:pt x="19075" y="8235"/>
                </a:moveTo>
                <a:cubicBezTo>
                  <a:pt x="19094" y="8364"/>
                  <a:pt x="19100" y="8477"/>
                  <a:pt x="19100" y="8607"/>
                </a:cubicBezTo>
                <a:cubicBezTo>
                  <a:pt x="19100" y="8674"/>
                  <a:pt x="19124" y="8717"/>
                  <a:pt x="19124" y="8781"/>
                </a:cubicBezTo>
                <a:cubicBezTo>
                  <a:pt x="19124" y="8789"/>
                  <a:pt x="19124" y="8798"/>
                  <a:pt x="19124" y="8806"/>
                </a:cubicBezTo>
              </a:path>
              <a:path w="4392" h="2680">
                <a:moveTo>
                  <a:pt x="19521" y="8285"/>
                </a:moveTo>
                <a:cubicBezTo>
                  <a:pt x="19540" y="8398"/>
                  <a:pt x="19546" y="8493"/>
                  <a:pt x="19546" y="8607"/>
                </a:cubicBezTo>
                <a:cubicBezTo>
                  <a:pt x="19546" y="8686"/>
                  <a:pt x="19522" y="8715"/>
                  <a:pt x="19571" y="8731"/>
                </a:cubicBezTo>
              </a:path>
              <a:path w="4392" h="2680">
                <a:moveTo>
                  <a:pt x="19918" y="8285"/>
                </a:moveTo>
                <a:cubicBezTo>
                  <a:pt x="19941" y="8389"/>
                  <a:pt x="19968" y="8477"/>
                  <a:pt x="19968" y="8582"/>
                </a:cubicBezTo>
                <a:cubicBezTo>
                  <a:pt x="19968" y="8623"/>
                  <a:pt x="19968" y="8665"/>
                  <a:pt x="19968" y="8706"/>
                </a:cubicBezTo>
              </a:path>
              <a:path w="4392" h="2680">
                <a:moveTo>
                  <a:pt x="20389" y="8310"/>
                </a:moveTo>
                <a:cubicBezTo>
                  <a:pt x="20407" y="8415"/>
                  <a:pt x="20414" y="8502"/>
                  <a:pt x="20414" y="8607"/>
                </a:cubicBezTo>
                <a:cubicBezTo>
                  <a:pt x="20414" y="8648"/>
                  <a:pt x="20414" y="8690"/>
                  <a:pt x="20414" y="8731"/>
                </a:cubicBezTo>
              </a:path>
              <a:path w="4392" h="2680">
                <a:moveTo>
                  <a:pt x="20836" y="8235"/>
                </a:moveTo>
                <a:cubicBezTo>
                  <a:pt x="20872" y="8342"/>
                  <a:pt x="20886" y="8420"/>
                  <a:pt x="20886" y="8533"/>
                </a:cubicBezTo>
                <a:cubicBezTo>
                  <a:pt x="20886" y="8600"/>
                  <a:pt x="20852" y="8652"/>
                  <a:pt x="20836" y="8706"/>
                </a:cubicBezTo>
                <a:cubicBezTo>
                  <a:pt x="20823" y="8750"/>
                  <a:pt x="20853" y="8730"/>
                  <a:pt x="20861" y="8706"/>
                </a:cubicBezTo>
              </a:path>
              <a:path w="4392" h="2680">
                <a:moveTo>
                  <a:pt x="21282" y="8285"/>
                </a:moveTo>
                <a:cubicBezTo>
                  <a:pt x="21278" y="8365"/>
                  <a:pt x="21283" y="8502"/>
                  <a:pt x="21258" y="8582"/>
                </a:cubicBezTo>
                <a:cubicBezTo>
                  <a:pt x="21236" y="8626"/>
                  <a:pt x="21223" y="8638"/>
                  <a:pt x="21258" y="8657"/>
                </a:cubicBezTo>
              </a:path>
              <a:path w="4392" h="2680">
                <a:moveTo>
                  <a:pt x="21754" y="8235"/>
                </a:moveTo>
                <a:cubicBezTo>
                  <a:pt x="21737" y="8335"/>
                  <a:pt x="21709" y="8436"/>
                  <a:pt x="21704" y="8533"/>
                </a:cubicBezTo>
                <a:cubicBezTo>
                  <a:pt x="21700" y="8608"/>
                  <a:pt x="21711" y="8667"/>
                  <a:pt x="21679" y="8731"/>
                </a:cubicBezTo>
              </a:path>
              <a:path w="4392" h="2680">
                <a:moveTo>
                  <a:pt x="18430" y="7987"/>
                </a:moveTo>
                <a:cubicBezTo>
                  <a:pt x="18513" y="7987"/>
                  <a:pt x="18577" y="7972"/>
                  <a:pt x="18653" y="7962"/>
                </a:cubicBezTo>
                <a:cubicBezTo>
                  <a:pt x="18678" y="7962"/>
                  <a:pt x="18703" y="7962"/>
                  <a:pt x="18728" y="7962"/>
                </a:cubicBezTo>
              </a:path>
              <a:path w="4392" h="2680">
                <a:moveTo>
                  <a:pt x="18479" y="7665"/>
                </a:moveTo>
                <a:cubicBezTo>
                  <a:pt x="18579" y="7659"/>
                  <a:pt x="18654" y="7640"/>
                  <a:pt x="18752" y="7640"/>
                </a:cubicBezTo>
                <a:cubicBezTo>
                  <a:pt x="18760" y="7640"/>
                  <a:pt x="18769" y="7640"/>
                  <a:pt x="18777" y="7640"/>
                </a:cubicBezTo>
              </a:path>
              <a:path w="4392" h="2680">
                <a:moveTo>
                  <a:pt x="18405" y="7268"/>
                </a:moveTo>
                <a:cubicBezTo>
                  <a:pt x="18562" y="7268"/>
                  <a:pt x="18719" y="7268"/>
                  <a:pt x="18876" y="7268"/>
                </a:cubicBezTo>
              </a:path>
              <a:path w="4392" h="2680">
                <a:moveTo>
                  <a:pt x="21754" y="7342"/>
                </a:moveTo>
                <a:cubicBezTo>
                  <a:pt x="21754" y="7385"/>
                  <a:pt x="21744" y="7380"/>
                  <a:pt x="21779" y="7392"/>
                </a:cubicBezTo>
                <a:cubicBezTo>
                  <a:pt x="21791" y="7388"/>
                  <a:pt x="21831" y="7341"/>
                  <a:pt x="21803" y="7317"/>
                </a:cubicBezTo>
                <a:cubicBezTo>
                  <a:pt x="21779" y="7297"/>
                  <a:pt x="21705" y="7383"/>
                  <a:pt x="21704" y="7392"/>
                </a:cubicBezTo>
                <a:cubicBezTo>
                  <a:pt x="21704" y="7400"/>
                  <a:pt x="21704" y="7409"/>
                  <a:pt x="21704" y="7417"/>
                </a:cubicBezTo>
                <a:cubicBezTo>
                  <a:pt x="21723" y="7411"/>
                  <a:pt x="21765" y="7379"/>
                  <a:pt x="21754" y="7342"/>
                </a:cubicBezTo>
                <a:cubicBezTo>
                  <a:pt x="21746" y="7326"/>
                  <a:pt x="21737" y="7309"/>
                  <a:pt x="21729" y="7293"/>
                </a:cubicBezTo>
                <a:cubicBezTo>
                  <a:pt x="21711" y="7297"/>
                  <a:pt x="21637" y="7331"/>
                  <a:pt x="21630" y="7342"/>
                </a:cubicBezTo>
                <a:cubicBezTo>
                  <a:pt x="21630" y="7367"/>
                  <a:pt x="21630" y="7375"/>
                  <a:pt x="21630" y="7392"/>
                </a:cubicBezTo>
                <a:cubicBezTo>
                  <a:pt x="21671" y="7424"/>
                  <a:pt x="21687" y="7429"/>
                  <a:pt x="21729" y="7392"/>
                </a:cubicBezTo>
                <a:cubicBezTo>
                  <a:pt x="21775" y="7351"/>
                  <a:pt x="21764" y="7299"/>
                  <a:pt x="21704" y="7293"/>
                </a:cubicBezTo>
                <a:cubicBezTo>
                  <a:pt x="21651" y="7287"/>
                  <a:pt x="21619" y="7307"/>
                  <a:pt x="21580" y="7342"/>
                </a:cubicBezTo>
                <a:cubicBezTo>
                  <a:pt x="21557" y="7365"/>
                  <a:pt x="21553" y="7373"/>
                  <a:pt x="21530" y="7367"/>
                </a:cubicBezTo>
              </a:path>
              <a:path w="4392" h="2680">
                <a:moveTo>
                  <a:pt x="20365" y="8111"/>
                </a:moveTo>
                <a:cubicBezTo>
                  <a:pt x="20357" y="8119"/>
                  <a:pt x="20348" y="8128"/>
                  <a:pt x="20340" y="8136"/>
                </a:cubicBezTo>
                <a:cubicBezTo>
                  <a:pt x="20371" y="8136"/>
                  <a:pt x="20406" y="8128"/>
                  <a:pt x="20414" y="8111"/>
                </a:cubicBezTo>
                <a:cubicBezTo>
                  <a:pt x="20422" y="8094"/>
                  <a:pt x="20380" y="8054"/>
                  <a:pt x="20365" y="8062"/>
                </a:cubicBezTo>
                <a:cubicBezTo>
                  <a:pt x="20332" y="8078"/>
                  <a:pt x="20322" y="8107"/>
                  <a:pt x="20315" y="8136"/>
                </a:cubicBezTo>
                <a:cubicBezTo>
                  <a:pt x="20361" y="8136"/>
                  <a:pt x="20383" y="8138"/>
                  <a:pt x="20389" y="8086"/>
                </a:cubicBezTo>
                <a:cubicBezTo>
                  <a:pt x="20389" y="8062"/>
                  <a:pt x="20389" y="8053"/>
                  <a:pt x="20389" y="8037"/>
                </a:cubicBezTo>
                <a:cubicBezTo>
                  <a:pt x="20353" y="8037"/>
                  <a:pt x="20317" y="8045"/>
                  <a:pt x="20290" y="8062"/>
                </a:cubicBezTo>
                <a:cubicBezTo>
                  <a:pt x="20267" y="8084"/>
                  <a:pt x="20259" y="8089"/>
                  <a:pt x="20265" y="8111"/>
                </a:cubicBezTo>
              </a:path>
              <a:path w="4392" h="2680">
                <a:moveTo>
                  <a:pt x="21679" y="7491"/>
                </a:moveTo>
                <a:cubicBezTo>
                  <a:pt x="21679" y="7524"/>
                  <a:pt x="21679" y="7508"/>
                  <a:pt x="21679" y="7541"/>
                </a:cubicBezTo>
                <a:cubicBezTo>
                  <a:pt x="21679" y="7702"/>
                  <a:pt x="21668" y="7916"/>
                  <a:pt x="21704" y="8037"/>
                </a:cubicBezTo>
                <a:cubicBezTo>
                  <a:pt x="21704" y="8045"/>
                  <a:pt x="21704" y="8054"/>
                  <a:pt x="21704" y="8062"/>
                </a:cubicBezTo>
                <a:cubicBezTo>
                  <a:pt x="21653" y="8062"/>
                  <a:pt x="21619" y="8080"/>
                  <a:pt x="21580" y="8086"/>
                </a:cubicBezTo>
                <a:cubicBezTo>
                  <a:pt x="21543" y="8092"/>
                  <a:pt x="21510" y="8105"/>
                  <a:pt x="21481" y="8111"/>
                </a:cubicBezTo>
                <a:cubicBezTo>
                  <a:pt x="21415" y="8124"/>
                  <a:pt x="21312" y="8129"/>
                  <a:pt x="21258" y="8136"/>
                </a:cubicBezTo>
                <a:cubicBezTo>
                  <a:pt x="21070" y="8160"/>
                  <a:pt x="20863" y="8134"/>
                  <a:pt x="20687" y="8161"/>
                </a:cubicBezTo>
                <a:cubicBezTo>
                  <a:pt x="20538" y="8184"/>
                  <a:pt x="20368" y="8161"/>
                  <a:pt x="20216" y="8161"/>
                </a:cubicBezTo>
                <a:cubicBezTo>
                  <a:pt x="20232" y="8144"/>
                  <a:pt x="20249" y="8127"/>
                  <a:pt x="20265" y="8111"/>
                </a:cubicBezTo>
                <a:cubicBezTo>
                  <a:pt x="20311" y="8064"/>
                  <a:pt x="20298" y="8059"/>
                  <a:pt x="20365" y="8012"/>
                </a:cubicBezTo>
                <a:cubicBezTo>
                  <a:pt x="20416" y="7975"/>
                  <a:pt x="20485" y="7945"/>
                  <a:pt x="20538" y="7913"/>
                </a:cubicBezTo>
                <a:cubicBezTo>
                  <a:pt x="20606" y="7872"/>
                  <a:pt x="20669" y="7831"/>
                  <a:pt x="20737" y="7789"/>
                </a:cubicBezTo>
                <a:cubicBezTo>
                  <a:pt x="20841" y="7725"/>
                  <a:pt x="20928" y="7653"/>
                  <a:pt x="21034" y="7590"/>
                </a:cubicBezTo>
                <a:cubicBezTo>
                  <a:pt x="21108" y="7546"/>
                  <a:pt x="21173" y="7512"/>
                  <a:pt x="21233" y="7466"/>
                </a:cubicBezTo>
                <a:cubicBezTo>
                  <a:pt x="21283" y="7428"/>
                  <a:pt x="21353" y="7415"/>
                  <a:pt x="21406" y="7392"/>
                </a:cubicBezTo>
                <a:cubicBezTo>
                  <a:pt x="21415" y="7388"/>
                  <a:pt x="21526" y="7315"/>
                  <a:pt x="21530" y="7317"/>
                </a:cubicBezTo>
                <a:cubicBezTo>
                  <a:pt x="21553" y="7328"/>
                  <a:pt x="21486" y="7362"/>
                  <a:pt x="21481" y="7367"/>
                </a:cubicBezTo>
              </a:path>
              <a:path w="4392" h="2680">
                <a:moveTo>
                  <a:pt x="21952" y="7714"/>
                </a:moveTo>
                <a:cubicBezTo>
                  <a:pt x="21991" y="7704"/>
                  <a:pt x="22007" y="7689"/>
                  <a:pt x="22051" y="7689"/>
                </a:cubicBezTo>
                <a:cubicBezTo>
                  <a:pt x="22079" y="7689"/>
                  <a:pt x="22172" y="7677"/>
                  <a:pt x="22200" y="7665"/>
                </a:cubicBezTo>
                <a:cubicBezTo>
                  <a:pt x="22223" y="7642"/>
                  <a:pt x="22227" y="7634"/>
                  <a:pt x="22250" y="7640"/>
                </a:cubicBezTo>
              </a:path>
              <a:path w="4392" h="2680">
                <a:moveTo>
                  <a:pt x="22324" y="7466"/>
                </a:moveTo>
                <a:cubicBezTo>
                  <a:pt x="22350" y="7428"/>
                  <a:pt x="22363" y="7395"/>
                  <a:pt x="22399" y="7392"/>
                </a:cubicBezTo>
                <a:cubicBezTo>
                  <a:pt x="22443" y="7392"/>
                  <a:pt x="22457" y="7395"/>
                  <a:pt x="22473" y="7367"/>
                </a:cubicBezTo>
                <a:cubicBezTo>
                  <a:pt x="22513" y="7397"/>
                  <a:pt x="22526" y="7389"/>
                  <a:pt x="22547" y="7417"/>
                </a:cubicBezTo>
                <a:cubicBezTo>
                  <a:pt x="22576" y="7455"/>
                  <a:pt x="22570" y="7495"/>
                  <a:pt x="22547" y="7541"/>
                </a:cubicBezTo>
                <a:cubicBezTo>
                  <a:pt x="22536" y="7563"/>
                  <a:pt x="22482" y="7678"/>
                  <a:pt x="22473" y="7689"/>
                </a:cubicBezTo>
                <a:cubicBezTo>
                  <a:pt x="22448" y="7689"/>
                  <a:pt x="22440" y="7689"/>
                  <a:pt x="22448" y="7714"/>
                </a:cubicBezTo>
                <a:cubicBezTo>
                  <a:pt x="22461" y="7752"/>
                  <a:pt x="22470" y="7743"/>
                  <a:pt x="22498" y="7764"/>
                </a:cubicBezTo>
                <a:cubicBezTo>
                  <a:pt x="22542" y="7797"/>
                  <a:pt x="22564" y="7789"/>
                  <a:pt x="22622" y="7789"/>
                </a:cubicBezTo>
                <a:cubicBezTo>
                  <a:pt x="22692" y="7789"/>
                  <a:pt x="22736" y="7796"/>
                  <a:pt x="22771" y="7813"/>
                </a:cubicBezTo>
                <a:cubicBezTo>
                  <a:pt x="22796" y="7813"/>
                  <a:pt x="22804" y="7813"/>
                  <a:pt x="22796" y="7838"/>
                </a:cubicBezTo>
              </a:path>
              <a:path w="4392" h="2680">
                <a:moveTo>
                  <a:pt x="20588" y="8830"/>
                </a:moveTo>
                <a:cubicBezTo>
                  <a:pt x="20653" y="8846"/>
                  <a:pt x="20671" y="8830"/>
                  <a:pt x="20737" y="8830"/>
                </a:cubicBezTo>
                <a:cubicBezTo>
                  <a:pt x="20762" y="8830"/>
                  <a:pt x="20786" y="8830"/>
                  <a:pt x="20811" y="8830"/>
                </a:cubicBezTo>
              </a:path>
              <a:path w="4392" h="2680">
                <a:moveTo>
                  <a:pt x="21084" y="8830"/>
                </a:moveTo>
                <a:cubicBezTo>
                  <a:pt x="21152" y="8830"/>
                  <a:pt x="21178" y="8837"/>
                  <a:pt x="21233" y="8855"/>
                </a:cubicBezTo>
                <a:cubicBezTo>
                  <a:pt x="21305" y="8879"/>
                  <a:pt x="21269" y="8879"/>
                  <a:pt x="21258" y="8930"/>
                </a:cubicBezTo>
                <a:cubicBezTo>
                  <a:pt x="21243" y="9000"/>
                  <a:pt x="21210" y="8994"/>
                  <a:pt x="21183" y="9054"/>
                </a:cubicBezTo>
                <a:cubicBezTo>
                  <a:pt x="21183" y="9062"/>
                  <a:pt x="21183" y="9071"/>
                  <a:pt x="21183" y="9079"/>
                </a:cubicBezTo>
                <a:cubicBezTo>
                  <a:pt x="21208" y="9079"/>
                  <a:pt x="21271" y="9085"/>
                  <a:pt x="21282" y="9103"/>
                </a:cubicBezTo>
                <a:cubicBezTo>
                  <a:pt x="21291" y="9117"/>
                  <a:pt x="21324" y="9147"/>
                  <a:pt x="21307" y="9178"/>
                </a:cubicBezTo>
                <a:cubicBezTo>
                  <a:pt x="21289" y="9210"/>
                  <a:pt x="21269" y="9240"/>
                  <a:pt x="21233" y="9252"/>
                </a:cubicBezTo>
                <a:cubicBezTo>
                  <a:pt x="21162" y="9276"/>
                  <a:pt x="21067" y="9160"/>
                  <a:pt x="21034" y="9227"/>
                </a:cubicBezTo>
                <a:cubicBezTo>
                  <a:pt x="21034" y="9235"/>
                  <a:pt x="21034" y="9244"/>
                  <a:pt x="21034" y="9252"/>
                </a:cubicBezTo>
              </a:path>
              <a:path w="4392" h="2680">
                <a:moveTo>
                  <a:pt x="20290" y="7590"/>
                </a:moveTo>
                <a:cubicBezTo>
                  <a:pt x="20312" y="7618"/>
                  <a:pt x="20380" y="7681"/>
                  <a:pt x="20389" y="7714"/>
                </a:cubicBezTo>
                <a:cubicBezTo>
                  <a:pt x="20389" y="7739"/>
                  <a:pt x="20389" y="7747"/>
                  <a:pt x="20389" y="7764"/>
                </a:cubicBezTo>
                <a:cubicBezTo>
                  <a:pt x="20381" y="7706"/>
                  <a:pt x="20368" y="7671"/>
                  <a:pt x="20340" y="7615"/>
                </a:cubicBezTo>
                <a:cubicBezTo>
                  <a:pt x="20302" y="7539"/>
                  <a:pt x="20293" y="7479"/>
                  <a:pt x="20241" y="7417"/>
                </a:cubicBezTo>
                <a:cubicBezTo>
                  <a:pt x="20219" y="7391"/>
                  <a:pt x="20175" y="7302"/>
                  <a:pt x="20166" y="7268"/>
                </a:cubicBezTo>
                <a:cubicBezTo>
                  <a:pt x="20148" y="7200"/>
                  <a:pt x="20155" y="7055"/>
                  <a:pt x="20191" y="6995"/>
                </a:cubicBezTo>
                <a:cubicBezTo>
                  <a:pt x="20248" y="6899"/>
                  <a:pt x="20359" y="6860"/>
                  <a:pt x="20439" y="6796"/>
                </a:cubicBezTo>
                <a:cubicBezTo>
                  <a:pt x="20522" y="6730"/>
                  <a:pt x="20633" y="6636"/>
                  <a:pt x="20737" y="6598"/>
                </a:cubicBezTo>
                <a:cubicBezTo>
                  <a:pt x="20825" y="6566"/>
                  <a:pt x="20811" y="6572"/>
                  <a:pt x="20786" y="6648"/>
                </a:cubicBezTo>
              </a:path>
              <a:path w="4392" h="2680">
                <a:moveTo>
                  <a:pt x="20439" y="7144"/>
                </a:moveTo>
                <a:cubicBezTo>
                  <a:pt x="20471" y="7222"/>
                  <a:pt x="20494" y="7347"/>
                  <a:pt x="20538" y="7417"/>
                </a:cubicBezTo>
                <a:cubicBezTo>
                  <a:pt x="20555" y="7444"/>
                  <a:pt x="20608" y="7482"/>
                  <a:pt x="20613" y="7491"/>
                </a:cubicBezTo>
                <a:cubicBezTo>
                  <a:pt x="20635" y="7535"/>
                  <a:pt x="20651" y="7513"/>
                  <a:pt x="20662" y="7466"/>
                </a:cubicBezTo>
              </a:path>
              <a:path w="4392" h="2680">
                <a:moveTo>
                  <a:pt x="20762" y="6970"/>
                </a:moveTo>
                <a:cubicBezTo>
                  <a:pt x="20805" y="6944"/>
                  <a:pt x="20853" y="6901"/>
                  <a:pt x="20910" y="6921"/>
                </a:cubicBezTo>
                <a:cubicBezTo>
                  <a:pt x="20990" y="6949"/>
                  <a:pt x="20967" y="7012"/>
                  <a:pt x="20960" y="7069"/>
                </a:cubicBezTo>
                <a:cubicBezTo>
                  <a:pt x="20950" y="7146"/>
                  <a:pt x="20913" y="7131"/>
                  <a:pt x="20886" y="7193"/>
                </a:cubicBezTo>
                <a:cubicBezTo>
                  <a:pt x="20886" y="7201"/>
                  <a:pt x="20886" y="7210"/>
                  <a:pt x="20886" y="7218"/>
                </a:cubicBezTo>
                <a:cubicBezTo>
                  <a:pt x="20939" y="7218"/>
                  <a:pt x="20955" y="7196"/>
                  <a:pt x="21010" y="7193"/>
                </a:cubicBezTo>
                <a:cubicBezTo>
                  <a:pt x="21076" y="7189"/>
                  <a:pt x="21133" y="7180"/>
                  <a:pt x="21183" y="7218"/>
                </a:cubicBezTo>
                <a:cubicBezTo>
                  <a:pt x="21173" y="7257"/>
                  <a:pt x="21146" y="7316"/>
                  <a:pt x="21109" y="7342"/>
                </a:cubicBezTo>
                <a:cubicBezTo>
                  <a:pt x="21060" y="7377"/>
                  <a:pt x="20994" y="7423"/>
                  <a:pt x="20935" y="7441"/>
                </a:cubicBezTo>
                <a:cubicBezTo>
                  <a:pt x="20915" y="7447"/>
                  <a:pt x="20882" y="7441"/>
                  <a:pt x="20861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47840" y="2820960"/>
            <a:ext cx="1893960" cy="627120"/>
          </a:xfrm>
          <a:custGeom>
            <a:avLst/>
            <a:gdLst/>
            <a:ahLst/>
            <a:rect l="l" t="t" r="r" b="b"/>
            <a:pathLst>
              <a:path w="5259" h="1738">
                <a:moveTo>
                  <a:pt x="3746" y="8136"/>
                </a:moveTo>
                <a:cubicBezTo>
                  <a:pt x="3779" y="8226"/>
                  <a:pt x="3804" y="8318"/>
                  <a:pt x="3845" y="8409"/>
                </a:cubicBezTo>
                <a:cubicBezTo>
                  <a:pt x="3909" y="8550"/>
                  <a:pt x="3971" y="8684"/>
                  <a:pt x="4018" y="8830"/>
                </a:cubicBezTo>
                <a:cubicBezTo>
                  <a:pt x="4063" y="8970"/>
                  <a:pt x="4137" y="9090"/>
                  <a:pt x="4192" y="9227"/>
                </a:cubicBezTo>
                <a:cubicBezTo>
                  <a:pt x="4229" y="9320"/>
                  <a:pt x="4273" y="9409"/>
                  <a:pt x="4316" y="9500"/>
                </a:cubicBezTo>
                <a:cubicBezTo>
                  <a:pt x="4346" y="9563"/>
                  <a:pt x="4350" y="9546"/>
                  <a:pt x="4390" y="9575"/>
                </a:cubicBezTo>
                <a:cubicBezTo>
                  <a:pt x="4400" y="9492"/>
                  <a:pt x="4431" y="9412"/>
                  <a:pt x="4440" y="9327"/>
                </a:cubicBezTo>
                <a:cubicBezTo>
                  <a:pt x="4453" y="9206"/>
                  <a:pt x="4437" y="9099"/>
                  <a:pt x="4465" y="8979"/>
                </a:cubicBezTo>
                <a:cubicBezTo>
                  <a:pt x="4498" y="8838"/>
                  <a:pt x="4508" y="8698"/>
                  <a:pt x="4539" y="8558"/>
                </a:cubicBezTo>
                <a:cubicBezTo>
                  <a:pt x="4582" y="8366"/>
                  <a:pt x="4628" y="8165"/>
                  <a:pt x="4713" y="7987"/>
                </a:cubicBezTo>
                <a:cubicBezTo>
                  <a:pt x="4731" y="7950"/>
                  <a:pt x="4750" y="7906"/>
                  <a:pt x="4738" y="7863"/>
                </a:cubicBezTo>
                <a:cubicBezTo>
                  <a:pt x="4720" y="7800"/>
                  <a:pt x="4719" y="7858"/>
                  <a:pt x="4713" y="7888"/>
                </a:cubicBezTo>
              </a:path>
              <a:path w="5259" h="1738">
                <a:moveTo>
                  <a:pt x="5085" y="8781"/>
                </a:moveTo>
                <a:cubicBezTo>
                  <a:pt x="5142" y="8781"/>
                  <a:pt x="5181" y="8765"/>
                  <a:pt x="5234" y="8756"/>
                </a:cubicBezTo>
                <a:cubicBezTo>
                  <a:pt x="5314" y="8742"/>
                  <a:pt x="5402" y="8734"/>
                  <a:pt x="5482" y="8731"/>
                </a:cubicBezTo>
                <a:cubicBezTo>
                  <a:pt x="5540" y="8729"/>
                  <a:pt x="5664" y="8731"/>
                  <a:pt x="5606" y="8731"/>
                </a:cubicBezTo>
              </a:path>
              <a:path w="5259" h="1738">
                <a:moveTo>
                  <a:pt x="5110" y="9079"/>
                </a:moveTo>
                <a:cubicBezTo>
                  <a:pt x="5176" y="9079"/>
                  <a:pt x="5222" y="9093"/>
                  <a:pt x="5283" y="9103"/>
                </a:cubicBezTo>
                <a:cubicBezTo>
                  <a:pt x="5366" y="9116"/>
                  <a:pt x="5432" y="9097"/>
                  <a:pt x="5507" y="9079"/>
                </a:cubicBezTo>
                <a:cubicBezTo>
                  <a:pt x="5562" y="9066"/>
                  <a:pt x="5497" y="9079"/>
                  <a:pt x="5482" y="9079"/>
                </a:cubicBezTo>
              </a:path>
              <a:path w="5259" h="1738">
                <a:moveTo>
                  <a:pt x="7367" y="7863"/>
                </a:moveTo>
                <a:cubicBezTo>
                  <a:pt x="7344" y="7909"/>
                  <a:pt x="7291" y="7949"/>
                  <a:pt x="7268" y="7987"/>
                </a:cubicBezTo>
                <a:cubicBezTo>
                  <a:pt x="7211" y="8082"/>
                  <a:pt x="7137" y="8182"/>
                  <a:pt x="7045" y="8260"/>
                </a:cubicBezTo>
                <a:cubicBezTo>
                  <a:pt x="6938" y="8351"/>
                  <a:pt x="6832" y="8445"/>
                  <a:pt x="6722" y="8533"/>
                </a:cubicBezTo>
                <a:cubicBezTo>
                  <a:pt x="6627" y="8609"/>
                  <a:pt x="6524" y="8689"/>
                  <a:pt x="6424" y="8756"/>
                </a:cubicBezTo>
                <a:cubicBezTo>
                  <a:pt x="6377" y="8788"/>
                  <a:pt x="6313" y="8815"/>
                  <a:pt x="6300" y="8855"/>
                </a:cubicBezTo>
                <a:cubicBezTo>
                  <a:pt x="6285" y="8901"/>
                  <a:pt x="6318" y="8910"/>
                  <a:pt x="6350" y="8930"/>
                </a:cubicBezTo>
                <a:cubicBezTo>
                  <a:pt x="6434" y="8981"/>
                  <a:pt x="6513" y="9026"/>
                  <a:pt x="6598" y="9079"/>
                </a:cubicBezTo>
                <a:cubicBezTo>
                  <a:pt x="6731" y="9162"/>
                  <a:pt x="6861" y="9247"/>
                  <a:pt x="6995" y="9327"/>
                </a:cubicBezTo>
                <a:cubicBezTo>
                  <a:pt x="7083" y="9380"/>
                  <a:pt x="7155" y="9451"/>
                  <a:pt x="7243" y="9500"/>
                </a:cubicBezTo>
                <a:cubicBezTo>
                  <a:pt x="7278" y="9520"/>
                  <a:pt x="7320" y="9575"/>
                  <a:pt x="7342" y="9575"/>
                </a:cubicBezTo>
                <a:cubicBezTo>
                  <a:pt x="7367" y="9575"/>
                  <a:pt x="7324" y="9568"/>
                  <a:pt x="7342" y="9550"/>
                </a:cubicBezTo>
              </a:path>
              <a:path w="5259" h="1738">
                <a:moveTo>
                  <a:pt x="7689" y="8756"/>
                </a:moveTo>
                <a:cubicBezTo>
                  <a:pt x="7793" y="8735"/>
                  <a:pt x="7881" y="8731"/>
                  <a:pt x="7987" y="8731"/>
                </a:cubicBezTo>
                <a:cubicBezTo>
                  <a:pt x="8012" y="8731"/>
                  <a:pt x="8037" y="8731"/>
                  <a:pt x="8062" y="8731"/>
                </a:cubicBezTo>
              </a:path>
              <a:path w="5259" h="1738">
                <a:moveTo>
                  <a:pt x="8285" y="8285"/>
                </a:moveTo>
                <a:cubicBezTo>
                  <a:pt x="8378" y="8208"/>
                  <a:pt x="8411" y="8192"/>
                  <a:pt x="8533" y="8186"/>
                </a:cubicBezTo>
                <a:cubicBezTo>
                  <a:pt x="8619" y="8182"/>
                  <a:pt x="8705" y="8224"/>
                  <a:pt x="8781" y="8260"/>
                </a:cubicBezTo>
                <a:cubicBezTo>
                  <a:pt x="8865" y="8300"/>
                  <a:pt x="8855" y="8351"/>
                  <a:pt x="8855" y="8434"/>
                </a:cubicBezTo>
                <a:cubicBezTo>
                  <a:pt x="8855" y="8532"/>
                  <a:pt x="8806" y="8545"/>
                  <a:pt x="8756" y="8607"/>
                </a:cubicBezTo>
                <a:cubicBezTo>
                  <a:pt x="8708" y="8667"/>
                  <a:pt x="8673" y="8689"/>
                  <a:pt x="8607" y="8731"/>
                </a:cubicBezTo>
                <a:cubicBezTo>
                  <a:pt x="8544" y="8771"/>
                  <a:pt x="8518" y="8781"/>
                  <a:pt x="8483" y="8806"/>
                </a:cubicBezTo>
                <a:cubicBezTo>
                  <a:pt x="8520" y="8784"/>
                  <a:pt x="8555" y="8767"/>
                  <a:pt x="8607" y="8781"/>
                </a:cubicBezTo>
                <a:cubicBezTo>
                  <a:pt x="8693" y="8805"/>
                  <a:pt x="8734" y="8826"/>
                  <a:pt x="8806" y="8880"/>
                </a:cubicBezTo>
                <a:cubicBezTo>
                  <a:pt x="8899" y="8949"/>
                  <a:pt x="8985" y="9056"/>
                  <a:pt x="9004" y="9178"/>
                </a:cubicBezTo>
                <a:cubicBezTo>
                  <a:pt x="9019" y="9277"/>
                  <a:pt x="8987" y="9327"/>
                  <a:pt x="8930" y="9401"/>
                </a:cubicBezTo>
                <a:cubicBezTo>
                  <a:pt x="8865" y="9486"/>
                  <a:pt x="8793" y="9480"/>
                  <a:pt x="8706" y="9500"/>
                </a:cubicBezTo>
                <a:cubicBezTo>
                  <a:pt x="8625" y="9519"/>
                  <a:pt x="8567" y="9525"/>
                  <a:pt x="8483" y="9525"/>
                </a:cubicBezTo>
                <a:cubicBezTo>
                  <a:pt x="8432" y="9525"/>
                  <a:pt x="8408" y="9507"/>
                  <a:pt x="8359" y="9500"/>
                </a:cubicBezTo>
                <a:cubicBezTo>
                  <a:pt x="8326" y="9495"/>
                  <a:pt x="8383" y="9524"/>
                  <a:pt x="8359" y="9500"/>
                </a:cubicBezTo>
                <a:cubicBezTo>
                  <a:pt x="8351" y="9492"/>
                  <a:pt x="8342" y="9483"/>
                  <a:pt x="8334" y="94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7680" y="3581280"/>
            <a:ext cx="4733640" cy="1170000"/>
          </a:xfrm>
          <a:custGeom>
            <a:avLst/>
            <a:gdLst/>
            <a:ahLst/>
            <a:rect l="l" t="t" r="r" b="b"/>
            <a:pathLst>
              <a:path w="13147" h="3250">
                <a:moveTo>
                  <a:pt x="10889" y="9947"/>
                </a:moveTo>
                <a:cubicBezTo>
                  <a:pt x="10904" y="10071"/>
                  <a:pt x="10901" y="10151"/>
                  <a:pt x="10840" y="10269"/>
                </a:cubicBezTo>
                <a:cubicBezTo>
                  <a:pt x="10797" y="10353"/>
                  <a:pt x="10769" y="10425"/>
                  <a:pt x="10740" y="10517"/>
                </a:cubicBezTo>
              </a:path>
              <a:path w="13147" h="3250">
                <a:moveTo>
                  <a:pt x="1588" y="10691"/>
                </a:moveTo>
                <a:cubicBezTo>
                  <a:pt x="1588" y="10834"/>
                  <a:pt x="1600" y="10971"/>
                  <a:pt x="1612" y="11112"/>
                </a:cubicBezTo>
                <a:cubicBezTo>
                  <a:pt x="1635" y="11391"/>
                  <a:pt x="1606" y="11680"/>
                  <a:pt x="1588" y="11956"/>
                </a:cubicBezTo>
                <a:cubicBezTo>
                  <a:pt x="1578" y="12109"/>
                  <a:pt x="1586" y="12230"/>
                  <a:pt x="1538" y="12378"/>
                </a:cubicBezTo>
                <a:cubicBezTo>
                  <a:pt x="1518" y="12440"/>
                  <a:pt x="1499" y="12529"/>
                  <a:pt x="1463" y="12576"/>
                </a:cubicBezTo>
                <a:cubicBezTo>
                  <a:pt x="1420" y="12631"/>
                  <a:pt x="1451" y="12496"/>
                  <a:pt x="1463" y="12427"/>
                </a:cubicBezTo>
              </a:path>
              <a:path w="13147" h="3250">
                <a:moveTo>
                  <a:pt x="2009" y="10815"/>
                </a:moveTo>
                <a:cubicBezTo>
                  <a:pt x="2040" y="10963"/>
                  <a:pt x="2048" y="11088"/>
                  <a:pt x="2059" y="11237"/>
                </a:cubicBezTo>
                <a:cubicBezTo>
                  <a:pt x="2075" y="11447"/>
                  <a:pt x="2084" y="11646"/>
                  <a:pt x="2084" y="11857"/>
                </a:cubicBezTo>
                <a:cubicBezTo>
                  <a:pt x="2084" y="12039"/>
                  <a:pt x="2108" y="12216"/>
                  <a:pt x="2108" y="12402"/>
                </a:cubicBezTo>
                <a:cubicBezTo>
                  <a:pt x="2108" y="12462"/>
                  <a:pt x="2094" y="12527"/>
                  <a:pt x="2133" y="12551"/>
                </a:cubicBezTo>
                <a:cubicBezTo>
                  <a:pt x="2141" y="12543"/>
                  <a:pt x="2150" y="12534"/>
                  <a:pt x="2158" y="12526"/>
                </a:cubicBezTo>
              </a:path>
              <a:path w="13147" h="3250">
                <a:moveTo>
                  <a:pt x="2505" y="11956"/>
                </a:moveTo>
                <a:cubicBezTo>
                  <a:pt x="2583" y="12064"/>
                  <a:pt x="2611" y="12124"/>
                  <a:pt x="2629" y="12254"/>
                </a:cubicBezTo>
                <a:cubicBezTo>
                  <a:pt x="2639" y="12329"/>
                  <a:pt x="2670" y="12405"/>
                  <a:pt x="2679" y="12477"/>
                </a:cubicBezTo>
                <a:cubicBezTo>
                  <a:pt x="2691" y="12567"/>
                  <a:pt x="2692" y="12564"/>
                  <a:pt x="2753" y="12626"/>
                </a:cubicBezTo>
                <a:cubicBezTo>
                  <a:pt x="2781" y="12548"/>
                  <a:pt x="2802" y="12477"/>
                  <a:pt x="2828" y="12402"/>
                </a:cubicBezTo>
                <a:cubicBezTo>
                  <a:pt x="2856" y="12323"/>
                  <a:pt x="2866" y="12226"/>
                  <a:pt x="2902" y="12154"/>
                </a:cubicBezTo>
                <a:cubicBezTo>
                  <a:pt x="2925" y="12109"/>
                  <a:pt x="2974" y="12020"/>
                  <a:pt x="3001" y="11981"/>
                </a:cubicBezTo>
                <a:cubicBezTo>
                  <a:pt x="3043" y="11939"/>
                  <a:pt x="3051" y="11931"/>
                  <a:pt x="3076" y="11906"/>
                </a:cubicBezTo>
              </a:path>
              <a:path w="13147" h="3250">
                <a:moveTo>
                  <a:pt x="3572" y="10939"/>
                </a:moveTo>
                <a:cubicBezTo>
                  <a:pt x="3572" y="11313"/>
                  <a:pt x="3565" y="11682"/>
                  <a:pt x="3547" y="12055"/>
                </a:cubicBezTo>
                <a:cubicBezTo>
                  <a:pt x="3538" y="12239"/>
                  <a:pt x="3501" y="12536"/>
                  <a:pt x="3572" y="12700"/>
                </a:cubicBezTo>
                <a:cubicBezTo>
                  <a:pt x="3572" y="12641"/>
                  <a:pt x="3575" y="12615"/>
                  <a:pt x="3597" y="12576"/>
                </a:cubicBezTo>
              </a:path>
              <a:path w="13147" h="3250">
                <a:moveTo>
                  <a:pt x="3994" y="10889"/>
                </a:moveTo>
                <a:cubicBezTo>
                  <a:pt x="3994" y="11030"/>
                  <a:pt x="4030" y="11173"/>
                  <a:pt x="4018" y="11311"/>
                </a:cubicBezTo>
                <a:cubicBezTo>
                  <a:pt x="4002" y="11492"/>
                  <a:pt x="4014" y="11649"/>
                  <a:pt x="4018" y="11832"/>
                </a:cubicBezTo>
                <a:cubicBezTo>
                  <a:pt x="4021" y="12001"/>
                  <a:pt x="3998" y="12161"/>
                  <a:pt x="3994" y="12328"/>
                </a:cubicBezTo>
                <a:cubicBezTo>
                  <a:pt x="3991" y="12450"/>
                  <a:pt x="4003" y="12558"/>
                  <a:pt x="4018" y="12675"/>
                </a:cubicBezTo>
                <a:cubicBezTo>
                  <a:pt x="4023" y="12717"/>
                  <a:pt x="4021" y="12799"/>
                  <a:pt x="4068" y="12799"/>
                </a:cubicBezTo>
                <a:cubicBezTo>
                  <a:pt x="4076" y="12791"/>
                  <a:pt x="4085" y="12782"/>
                  <a:pt x="4093" y="12774"/>
                </a:cubicBezTo>
              </a:path>
              <a:path w="13147" h="3250">
                <a:moveTo>
                  <a:pt x="4415" y="11931"/>
                </a:moveTo>
                <a:cubicBezTo>
                  <a:pt x="4528" y="11915"/>
                  <a:pt x="4625" y="11906"/>
                  <a:pt x="4738" y="11906"/>
                </a:cubicBezTo>
                <a:cubicBezTo>
                  <a:pt x="4754" y="11906"/>
                  <a:pt x="4771" y="11906"/>
                  <a:pt x="4787" y="11906"/>
                </a:cubicBezTo>
              </a:path>
              <a:path w="13147" h="3250">
                <a:moveTo>
                  <a:pt x="4490" y="12179"/>
                </a:moveTo>
                <a:cubicBezTo>
                  <a:pt x="4629" y="12219"/>
                  <a:pt x="4652" y="12236"/>
                  <a:pt x="4738" y="12229"/>
                </a:cubicBezTo>
              </a:path>
              <a:path w="13147" h="3250">
                <a:moveTo>
                  <a:pt x="4887" y="11212"/>
                </a:moveTo>
                <a:cubicBezTo>
                  <a:pt x="4957" y="11194"/>
                  <a:pt x="4994" y="11125"/>
                  <a:pt x="5135" y="11162"/>
                </a:cubicBezTo>
                <a:cubicBezTo>
                  <a:pt x="5222" y="11185"/>
                  <a:pt x="5346" y="11269"/>
                  <a:pt x="5407" y="11336"/>
                </a:cubicBezTo>
                <a:cubicBezTo>
                  <a:pt x="5499" y="11437"/>
                  <a:pt x="5513" y="11506"/>
                  <a:pt x="5556" y="11633"/>
                </a:cubicBezTo>
                <a:cubicBezTo>
                  <a:pt x="5617" y="11811"/>
                  <a:pt x="5592" y="11948"/>
                  <a:pt x="5606" y="12129"/>
                </a:cubicBezTo>
                <a:cubicBezTo>
                  <a:pt x="5621" y="12318"/>
                  <a:pt x="5634" y="12511"/>
                  <a:pt x="5655" y="12700"/>
                </a:cubicBezTo>
                <a:cubicBezTo>
                  <a:pt x="5660" y="12745"/>
                  <a:pt x="5650" y="12934"/>
                  <a:pt x="5680" y="12973"/>
                </a:cubicBezTo>
                <a:cubicBezTo>
                  <a:pt x="5704" y="13004"/>
                  <a:pt x="5673" y="12898"/>
                  <a:pt x="5680" y="12849"/>
                </a:cubicBezTo>
                <a:cubicBezTo>
                  <a:pt x="5698" y="12717"/>
                  <a:pt x="5675" y="12609"/>
                  <a:pt x="5680" y="12477"/>
                </a:cubicBezTo>
                <a:cubicBezTo>
                  <a:pt x="5688" y="12260"/>
                  <a:pt x="5697" y="12050"/>
                  <a:pt x="5680" y="11832"/>
                </a:cubicBezTo>
                <a:cubicBezTo>
                  <a:pt x="5668" y="11673"/>
                  <a:pt x="5649" y="11518"/>
                  <a:pt x="5631" y="11361"/>
                </a:cubicBezTo>
                <a:cubicBezTo>
                  <a:pt x="5620" y="11268"/>
                  <a:pt x="5577" y="11125"/>
                  <a:pt x="5581" y="11038"/>
                </a:cubicBezTo>
                <a:cubicBezTo>
                  <a:pt x="5583" y="10998"/>
                  <a:pt x="5607" y="10920"/>
                  <a:pt x="5631" y="10889"/>
                </a:cubicBezTo>
                <a:cubicBezTo>
                  <a:pt x="5651" y="10864"/>
                  <a:pt x="5658" y="10850"/>
                  <a:pt x="5705" y="10840"/>
                </a:cubicBezTo>
                <a:cubicBezTo>
                  <a:pt x="5800" y="10820"/>
                  <a:pt x="5908" y="10860"/>
                  <a:pt x="6003" y="10864"/>
                </a:cubicBezTo>
                <a:cubicBezTo>
                  <a:pt x="6293" y="10876"/>
                  <a:pt x="6581" y="10886"/>
                  <a:pt x="6871" y="10889"/>
                </a:cubicBezTo>
                <a:cubicBezTo>
                  <a:pt x="7177" y="10892"/>
                  <a:pt x="7482" y="10864"/>
                  <a:pt x="7789" y="10864"/>
                </a:cubicBezTo>
                <a:cubicBezTo>
                  <a:pt x="8542" y="10864"/>
                  <a:pt x="9295" y="10859"/>
                  <a:pt x="10046" y="10889"/>
                </a:cubicBezTo>
                <a:cubicBezTo>
                  <a:pt x="10285" y="10899"/>
                  <a:pt x="10526" y="10912"/>
                  <a:pt x="10765" y="10914"/>
                </a:cubicBezTo>
                <a:cubicBezTo>
                  <a:pt x="10964" y="10916"/>
                  <a:pt x="11172" y="10935"/>
                  <a:pt x="11361" y="10889"/>
                </a:cubicBezTo>
                <a:cubicBezTo>
                  <a:pt x="11396" y="10880"/>
                  <a:pt x="11445" y="10897"/>
                  <a:pt x="11460" y="10864"/>
                </a:cubicBezTo>
                <a:cubicBezTo>
                  <a:pt x="11488" y="10804"/>
                  <a:pt x="11469" y="10867"/>
                  <a:pt x="11361" y="10840"/>
                </a:cubicBezTo>
              </a:path>
              <a:path w="13147" h="3250">
                <a:moveTo>
                  <a:pt x="6598" y="11361"/>
                </a:moveTo>
                <a:cubicBezTo>
                  <a:pt x="6593" y="11408"/>
                  <a:pt x="6580" y="11441"/>
                  <a:pt x="6573" y="11485"/>
                </a:cubicBezTo>
                <a:cubicBezTo>
                  <a:pt x="6558" y="11574"/>
                  <a:pt x="6513" y="11649"/>
                  <a:pt x="6474" y="11733"/>
                </a:cubicBezTo>
                <a:cubicBezTo>
                  <a:pt x="6396" y="11899"/>
                  <a:pt x="6324" y="12095"/>
                  <a:pt x="6300" y="12278"/>
                </a:cubicBezTo>
                <a:cubicBezTo>
                  <a:pt x="6288" y="12368"/>
                  <a:pt x="6300" y="12498"/>
                  <a:pt x="6350" y="12576"/>
                </a:cubicBezTo>
                <a:cubicBezTo>
                  <a:pt x="6394" y="12645"/>
                  <a:pt x="6495" y="12738"/>
                  <a:pt x="6524" y="12799"/>
                </a:cubicBezTo>
                <a:cubicBezTo>
                  <a:pt x="6541" y="12834"/>
                  <a:pt x="6542" y="12885"/>
                  <a:pt x="6573" y="12898"/>
                </a:cubicBezTo>
                <a:cubicBezTo>
                  <a:pt x="6581" y="12898"/>
                  <a:pt x="6590" y="12898"/>
                  <a:pt x="6598" y="12898"/>
                </a:cubicBezTo>
              </a:path>
              <a:path w="13147" h="3250">
                <a:moveTo>
                  <a:pt x="6623" y="12129"/>
                </a:moveTo>
                <a:cubicBezTo>
                  <a:pt x="6721" y="12129"/>
                  <a:pt x="6805" y="12120"/>
                  <a:pt x="6896" y="12105"/>
                </a:cubicBezTo>
                <a:cubicBezTo>
                  <a:pt x="6912" y="12105"/>
                  <a:pt x="6929" y="12105"/>
                  <a:pt x="6945" y="12105"/>
                </a:cubicBezTo>
              </a:path>
              <a:path w="13147" h="3250">
                <a:moveTo>
                  <a:pt x="7020" y="11832"/>
                </a:moveTo>
                <a:cubicBezTo>
                  <a:pt x="7084" y="11793"/>
                  <a:pt x="7137" y="11759"/>
                  <a:pt x="7218" y="11782"/>
                </a:cubicBezTo>
                <a:cubicBezTo>
                  <a:pt x="7276" y="11798"/>
                  <a:pt x="7352" y="11842"/>
                  <a:pt x="7367" y="11906"/>
                </a:cubicBezTo>
                <a:cubicBezTo>
                  <a:pt x="7385" y="11981"/>
                  <a:pt x="7326" y="12004"/>
                  <a:pt x="7293" y="12055"/>
                </a:cubicBezTo>
                <a:cubicBezTo>
                  <a:pt x="7254" y="12116"/>
                  <a:pt x="7219" y="12120"/>
                  <a:pt x="7169" y="12154"/>
                </a:cubicBezTo>
                <a:cubicBezTo>
                  <a:pt x="7146" y="12177"/>
                  <a:pt x="7142" y="12185"/>
                  <a:pt x="7119" y="12179"/>
                </a:cubicBezTo>
                <a:cubicBezTo>
                  <a:pt x="7157" y="12208"/>
                  <a:pt x="7170" y="12204"/>
                  <a:pt x="7218" y="12204"/>
                </a:cubicBezTo>
                <a:cubicBezTo>
                  <a:pt x="7259" y="12204"/>
                  <a:pt x="7320" y="12272"/>
                  <a:pt x="7342" y="12303"/>
                </a:cubicBezTo>
                <a:cubicBezTo>
                  <a:pt x="7383" y="12361"/>
                  <a:pt x="7413" y="12433"/>
                  <a:pt x="7417" y="12502"/>
                </a:cubicBezTo>
                <a:cubicBezTo>
                  <a:pt x="7422" y="12584"/>
                  <a:pt x="7423" y="12638"/>
                  <a:pt x="7367" y="12700"/>
                </a:cubicBezTo>
                <a:cubicBezTo>
                  <a:pt x="7301" y="12773"/>
                  <a:pt x="7269" y="12738"/>
                  <a:pt x="7193" y="12725"/>
                </a:cubicBezTo>
                <a:cubicBezTo>
                  <a:pt x="7096" y="12709"/>
                  <a:pt x="7089" y="12690"/>
                  <a:pt x="7045" y="12601"/>
                </a:cubicBezTo>
              </a:path>
              <a:path w="13147" h="3250">
                <a:moveTo>
                  <a:pt x="7441" y="11534"/>
                </a:moveTo>
                <a:cubicBezTo>
                  <a:pt x="7541" y="11691"/>
                  <a:pt x="7612" y="11837"/>
                  <a:pt x="7689" y="12005"/>
                </a:cubicBezTo>
                <a:cubicBezTo>
                  <a:pt x="7756" y="12150"/>
                  <a:pt x="7797" y="12317"/>
                  <a:pt x="7813" y="12477"/>
                </a:cubicBezTo>
                <a:cubicBezTo>
                  <a:pt x="7827" y="12611"/>
                  <a:pt x="7818" y="12737"/>
                  <a:pt x="7739" y="12849"/>
                </a:cubicBezTo>
                <a:cubicBezTo>
                  <a:pt x="7682" y="12930"/>
                  <a:pt x="7581" y="13097"/>
                  <a:pt x="7516" y="13022"/>
                </a:cubicBezTo>
                <a:cubicBezTo>
                  <a:pt x="7475" y="13022"/>
                  <a:pt x="7466" y="13006"/>
                  <a:pt x="7491" y="12948"/>
                </a:cubicBezTo>
              </a:path>
              <a:path w="13147" h="3250">
                <a:moveTo>
                  <a:pt x="7789" y="11410"/>
                </a:moveTo>
                <a:cubicBezTo>
                  <a:pt x="7877" y="11354"/>
                  <a:pt x="7956" y="11288"/>
                  <a:pt x="8062" y="11361"/>
                </a:cubicBezTo>
                <a:cubicBezTo>
                  <a:pt x="8100" y="11387"/>
                  <a:pt x="8189" y="11484"/>
                  <a:pt x="8186" y="11534"/>
                </a:cubicBezTo>
                <a:cubicBezTo>
                  <a:pt x="8182" y="11601"/>
                  <a:pt x="8119" y="11678"/>
                  <a:pt x="8086" y="11733"/>
                </a:cubicBezTo>
                <a:cubicBezTo>
                  <a:pt x="8050" y="11793"/>
                  <a:pt x="8015" y="11822"/>
                  <a:pt x="8086" y="11857"/>
                </a:cubicBezTo>
                <a:cubicBezTo>
                  <a:pt x="8158" y="11892"/>
                  <a:pt x="8231" y="11881"/>
                  <a:pt x="8310" y="11881"/>
                </a:cubicBezTo>
                <a:cubicBezTo>
                  <a:pt x="8326" y="11881"/>
                  <a:pt x="8343" y="11881"/>
                  <a:pt x="8359" y="11881"/>
                </a:cubicBezTo>
              </a:path>
              <a:path w="13147" h="3250">
                <a:moveTo>
                  <a:pt x="8731" y="12005"/>
                </a:moveTo>
                <a:cubicBezTo>
                  <a:pt x="8711" y="12163"/>
                  <a:pt x="8709" y="12256"/>
                  <a:pt x="8731" y="12402"/>
                </a:cubicBezTo>
                <a:cubicBezTo>
                  <a:pt x="8742" y="12473"/>
                  <a:pt x="8772" y="12530"/>
                  <a:pt x="8781" y="12601"/>
                </a:cubicBezTo>
              </a:path>
              <a:path w="13147" h="3250">
                <a:moveTo>
                  <a:pt x="8483" y="12254"/>
                </a:moveTo>
                <a:cubicBezTo>
                  <a:pt x="8590" y="12204"/>
                  <a:pt x="8707" y="12190"/>
                  <a:pt x="8830" y="12179"/>
                </a:cubicBezTo>
                <a:cubicBezTo>
                  <a:pt x="8923" y="12179"/>
                  <a:pt x="8949" y="12181"/>
                  <a:pt x="9004" y="12154"/>
                </a:cubicBezTo>
              </a:path>
              <a:path w="13147" h="3250">
                <a:moveTo>
                  <a:pt x="9649" y="11757"/>
                </a:moveTo>
                <a:cubicBezTo>
                  <a:pt x="9618" y="11841"/>
                  <a:pt x="9595" y="11924"/>
                  <a:pt x="9550" y="12005"/>
                </a:cubicBezTo>
                <a:cubicBezTo>
                  <a:pt x="9488" y="12117"/>
                  <a:pt x="9440" y="12248"/>
                  <a:pt x="9426" y="12378"/>
                </a:cubicBezTo>
                <a:cubicBezTo>
                  <a:pt x="9409" y="12535"/>
                  <a:pt x="9453" y="12632"/>
                  <a:pt x="9500" y="12774"/>
                </a:cubicBezTo>
                <a:cubicBezTo>
                  <a:pt x="9537" y="12885"/>
                  <a:pt x="9568" y="12916"/>
                  <a:pt x="9649" y="12998"/>
                </a:cubicBezTo>
              </a:path>
              <a:path w="13147" h="3250">
                <a:moveTo>
                  <a:pt x="9773" y="12229"/>
                </a:moveTo>
                <a:cubicBezTo>
                  <a:pt x="9879" y="12209"/>
                  <a:pt x="9999" y="12198"/>
                  <a:pt x="10096" y="12154"/>
                </a:cubicBezTo>
                <a:cubicBezTo>
                  <a:pt x="10142" y="12133"/>
                  <a:pt x="10181" y="12111"/>
                  <a:pt x="10220" y="12080"/>
                </a:cubicBezTo>
              </a:path>
              <a:path w="13147" h="3250">
                <a:moveTo>
                  <a:pt x="10368" y="11881"/>
                </a:moveTo>
                <a:cubicBezTo>
                  <a:pt x="10541" y="11937"/>
                  <a:pt x="10656" y="11907"/>
                  <a:pt x="10666" y="12080"/>
                </a:cubicBezTo>
                <a:cubicBezTo>
                  <a:pt x="10670" y="12145"/>
                  <a:pt x="10608" y="12227"/>
                  <a:pt x="10567" y="12278"/>
                </a:cubicBezTo>
                <a:cubicBezTo>
                  <a:pt x="10501" y="12361"/>
                  <a:pt x="10420" y="12434"/>
                  <a:pt x="10368" y="12526"/>
                </a:cubicBezTo>
                <a:cubicBezTo>
                  <a:pt x="10327" y="12598"/>
                  <a:pt x="10340" y="12676"/>
                  <a:pt x="10368" y="12750"/>
                </a:cubicBezTo>
                <a:cubicBezTo>
                  <a:pt x="10404" y="12844"/>
                  <a:pt x="10506" y="12845"/>
                  <a:pt x="10592" y="12849"/>
                </a:cubicBezTo>
                <a:cubicBezTo>
                  <a:pt x="10661" y="12852"/>
                  <a:pt x="10707" y="12807"/>
                  <a:pt x="10765" y="12774"/>
                </a:cubicBezTo>
              </a:path>
              <a:path w="13147" h="3250">
                <a:moveTo>
                  <a:pt x="10815" y="11584"/>
                </a:moveTo>
                <a:cubicBezTo>
                  <a:pt x="10898" y="11678"/>
                  <a:pt x="10933" y="11768"/>
                  <a:pt x="10988" y="11881"/>
                </a:cubicBezTo>
                <a:cubicBezTo>
                  <a:pt x="11067" y="12044"/>
                  <a:pt x="11141" y="12221"/>
                  <a:pt x="11162" y="12402"/>
                </a:cubicBezTo>
                <a:cubicBezTo>
                  <a:pt x="11181" y="12564"/>
                  <a:pt x="11180" y="12769"/>
                  <a:pt x="11137" y="12923"/>
                </a:cubicBezTo>
                <a:cubicBezTo>
                  <a:pt x="11115" y="13003"/>
                  <a:pt x="11097" y="13065"/>
                  <a:pt x="11038" y="13122"/>
                </a:cubicBezTo>
                <a:cubicBezTo>
                  <a:pt x="11013" y="13146"/>
                  <a:pt x="11005" y="13154"/>
                  <a:pt x="10988" y="13122"/>
                </a:cubicBezTo>
              </a:path>
              <a:path w="13147" h="3250">
                <a:moveTo>
                  <a:pt x="11162" y="11584"/>
                </a:moveTo>
                <a:cubicBezTo>
                  <a:pt x="11252" y="11478"/>
                  <a:pt x="11273" y="11428"/>
                  <a:pt x="11410" y="11485"/>
                </a:cubicBezTo>
                <a:cubicBezTo>
                  <a:pt x="11481" y="11514"/>
                  <a:pt x="11577" y="11559"/>
                  <a:pt x="11559" y="11658"/>
                </a:cubicBezTo>
                <a:cubicBezTo>
                  <a:pt x="11548" y="11720"/>
                  <a:pt x="11474" y="11757"/>
                  <a:pt x="11460" y="11807"/>
                </a:cubicBezTo>
                <a:cubicBezTo>
                  <a:pt x="11442" y="11872"/>
                  <a:pt x="11473" y="11895"/>
                  <a:pt x="11534" y="11906"/>
                </a:cubicBezTo>
                <a:cubicBezTo>
                  <a:pt x="11647" y="11926"/>
                  <a:pt x="11802" y="11916"/>
                  <a:pt x="11906" y="11881"/>
                </a:cubicBezTo>
              </a:path>
              <a:path w="13147" h="3250">
                <a:moveTo>
                  <a:pt x="11981" y="12402"/>
                </a:moveTo>
                <a:cubicBezTo>
                  <a:pt x="12059" y="12402"/>
                  <a:pt x="12125" y="12424"/>
                  <a:pt x="12204" y="12427"/>
                </a:cubicBezTo>
                <a:cubicBezTo>
                  <a:pt x="12270" y="12429"/>
                  <a:pt x="12336" y="12427"/>
                  <a:pt x="12402" y="12427"/>
                </a:cubicBezTo>
              </a:path>
              <a:path w="13147" h="3250">
                <a:moveTo>
                  <a:pt x="12105" y="12626"/>
                </a:moveTo>
                <a:cubicBezTo>
                  <a:pt x="12335" y="12683"/>
                  <a:pt x="12366" y="12708"/>
                  <a:pt x="12502" y="12700"/>
                </a:cubicBezTo>
              </a:path>
              <a:path w="13147" h="3250">
                <a:moveTo>
                  <a:pt x="13097" y="12353"/>
                </a:moveTo>
                <a:cubicBezTo>
                  <a:pt x="13106" y="12471"/>
                  <a:pt x="13122" y="12580"/>
                  <a:pt x="13122" y="12700"/>
                </a:cubicBezTo>
                <a:cubicBezTo>
                  <a:pt x="13122" y="12857"/>
                  <a:pt x="13122" y="13014"/>
                  <a:pt x="13122" y="13171"/>
                </a:cubicBezTo>
                <a:cubicBezTo>
                  <a:pt x="13136" y="13143"/>
                  <a:pt x="13146" y="13087"/>
                  <a:pt x="13146" y="13022"/>
                </a:cubicBezTo>
                <a:cubicBezTo>
                  <a:pt x="13146" y="12910"/>
                  <a:pt x="13131" y="12809"/>
                  <a:pt x="13122" y="12700"/>
                </a:cubicBezTo>
                <a:cubicBezTo>
                  <a:pt x="13112" y="12576"/>
                  <a:pt x="13108" y="12449"/>
                  <a:pt x="13097" y="12328"/>
                </a:cubicBezTo>
                <a:cubicBezTo>
                  <a:pt x="13086" y="12213"/>
                  <a:pt x="13076" y="12095"/>
                  <a:pt x="13072" y="11981"/>
                </a:cubicBezTo>
                <a:cubicBezTo>
                  <a:pt x="13069" y="11893"/>
                  <a:pt x="13051" y="11816"/>
                  <a:pt x="13047" y="11733"/>
                </a:cubicBezTo>
                <a:cubicBezTo>
                  <a:pt x="13044" y="11671"/>
                  <a:pt x="13051" y="11659"/>
                  <a:pt x="13072" y="11633"/>
                </a:cubicBezTo>
                <a:cubicBezTo>
                  <a:pt x="13097" y="11602"/>
                  <a:pt x="13112" y="11611"/>
                  <a:pt x="13171" y="11609"/>
                </a:cubicBezTo>
                <a:cubicBezTo>
                  <a:pt x="13557" y="11598"/>
                  <a:pt x="13956" y="11652"/>
                  <a:pt x="14337" y="11633"/>
                </a:cubicBezTo>
                <a:cubicBezTo>
                  <a:pt x="14396" y="11630"/>
                  <a:pt x="14513" y="11622"/>
                  <a:pt x="14560" y="11584"/>
                </a:cubicBezTo>
                <a:cubicBezTo>
                  <a:pt x="14604" y="11548"/>
                  <a:pt x="14568" y="11573"/>
                  <a:pt x="14560" y="11534"/>
                </a:cubicBezTo>
              </a:path>
              <a:path w="13147" h="3250">
                <a:moveTo>
                  <a:pt x="13643" y="12402"/>
                </a:moveTo>
                <a:cubicBezTo>
                  <a:pt x="13643" y="12568"/>
                  <a:pt x="13645" y="12715"/>
                  <a:pt x="13667" y="12874"/>
                </a:cubicBezTo>
                <a:cubicBezTo>
                  <a:pt x="13668" y="12883"/>
                  <a:pt x="13659" y="13042"/>
                  <a:pt x="13692" y="13022"/>
                </a:cubicBezTo>
                <a:cubicBezTo>
                  <a:pt x="13700" y="13006"/>
                  <a:pt x="13709" y="12989"/>
                  <a:pt x="13717" y="12973"/>
                </a:cubicBezTo>
              </a:path>
              <a:path w="13147" h="3250">
                <a:moveTo>
                  <a:pt x="14039" y="12328"/>
                </a:moveTo>
                <a:cubicBezTo>
                  <a:pt x="14165" y="12309"/>
                  <a:pt x="14207" y="12271"/>
                  <a:pt x="14288" y="12353"/>
                </a:cubicBezTo>
                <a:cubicBezTo>
                  <a:pt x="14311" y="12377"/>
                  <a:pt x="14324" y="12417"/>
                  <a:pt x="14312" y="12452"/>
                </a:cubicBezTo>
                <a:cubicBezTo>
                  <a:pt x="14290" y="12516"/>
                  <a:pt x="14234" y="12555"/>
                  <a:pt x="14188" y="12601"/>
                </a:cubicBezTo>
                <a:cubicBezTo>
                  <a:pt x="14154" y="12635"/>
                  <a:pt x="14133" y="12664"/>
                  <a:pt x="14089" y="12675"/>
                </a:cubicBezTo>
                <a:cubicBezTo>
                  <a:pt x="14133" y="12708"/>
                  <a:pt x="14140" y="12687"/>
                  <a:pt x="14188" y="12700"/>
                </a:cubicBezTo>
                <a:cubicBezTo>
                  <a:pt x="14256" y="12718"/>
                  <a:pt x="14352" y="12767"/>
                  <a:pt x="14387" y="12824"/>
                </a:cubicBezTo>
                <a:cubicBezTo>
                  <a:pt x="14422" y="12881"/>
                  <a:pt x="14474" y="13005"/>
                  <a:pt x="14461" y="13072"/>
                </a:cubicBezTo>
                <a:cubicBezTo>
                  <a:pt x="14449" y="13134"/>
                  <a:pt x="14383" y="13162"/>
                  <a:pt x="14337" y="13171"/>
                </a:cubicBezTo>
                <a:cubicBezTo>
                  <a:pt x="14285" y="13182"/>
                  <a:pt x="14195" y="13218"/>
                  <a:pt x="14139" y="13196"/>
                </a:cubicBezTo>
                <a:cubicBezTo>
                  <a:pt x="14102" y="13182"/>
                  <a:pt x="14087" y="13171"/>
                  <a:pt x="14039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83200" y="2955960"/>
            <a:ext cx="2446560" cy="54000"/>
          </a:xfrm>
          <a:custGeom>
            <a:avLst/>
            <a:gdLst/>
            <a:ahLst/>
            <a:rect l="l" t="t" r="r" b="b"/>
            <a:pathLst>
              <a:path w="6798" h="150">
                <a:moveTo>
                  <a:pt x="16619" y="8260"/>
                </a:moveTo>
                <a:cubicBezTo>
                  <a:pt x="16662" y="8263"/>
                  <a:pt x="16675" y="8253"/>
                  <a:pt x="16718" y="8260"/>
                </a:cubicBezTo>
                <a:cubicBezTo>
                  <a:pt x="16875" y="8286"/>
                  <a:pt x="17026" y="8323"/>
                  <a:pt x="17190" y="8334"/>
                </a:cubicBezTo>
                <a:cubicBezTo>
                  <a:pt x="17396" y="8348"/>
                  <a:pt x="17604" y="8356"/>
                  <a:pt x="17810" y="8359"/>
                </a:cubicBezTo>
                <a:cubicBezTo>
                  <a:pt x="18115" y="8364"/>
                  <a:pt x="18421" y="8334"/>
                  <a:pt x="18728" y="8334"/>
                </a:cubicBezTo>
                <a:cubicBezTo>
                  <a:pt x="19416" y="8334"/>
                  <a:pt x="20100" y="8327"/>
                  <a:pt x="20786" y="8310"/>
                </a:cubicBezTo>
                <a:cubicBezTo>
                  <a:pt x="21267" y="8298"/>
                  <a:pt x="21746" y="8318"/>
                  <a:pt x="22225" y="8334"/>
                </a:cubicBezTo>
                <a:cubicBezTo>
                  <a:pt x="22297" y="8336"/>
                  <a:pt x="23416" y="8359"/>
                  <a:pt x="23416" y="8310"/>
                </a:cubicBezTo>
                <a:cubicBezTo>
                  <a:pt x="23383" y="8277"/>
                  <a:pt x="23349" y="8243"/>
                  <a:pt x="23316" y="82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97800" y="1946160"/>
            <a:ext cx="17280" cy="2117880"/>
          </a:xfrm>
          <a:custGeom>
            <a:avLst/>
            <a:gdLst/>
            <a:ahLst/>
            <a:rect l="l" t="t" r="r" b="b"/>
            <a:pathLst>
              <a:path w="50" h="5880">
                <a:moveTo>
                  <a:pt x="18653" y="5407"/>
                </a:moveTo>
                <a:cubicBezTo>
                  <a:pt x="18653" y="7111"/>
                  <a:pt x="18628" y="8814"/>
                  <a:pt x="18628" y="10517"/>
                </a:cubicBezTo>
                <a:cubicBezTo>
                  <a:pt x="18628" y="10759"/>
                  <a:pt x="18629" y="11000"/>
                  <a:pt x="18604" y="11237"/>
                </a:cubicBezTo>
                <a:cubicBezTo>
                  <a:pt x="18597" y="11303"/>
                  <a:pt x="18604" y="11203"/>
                  <a:pt x="18604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 vector’s </a:t>
            </a: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magnitud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is its leng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magnitude of a vector is denoted by 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|v||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magnitude of v i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hich also equals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4120" y="2286000"/>
          <a:ext cx="3047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0"/>
                    <a:ext cx="304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276720" y="3716280"/>
          <a:ext cx="259056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5905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If </a:t>
            </a:r>
            <a:r>
              <a:rPr b="0" lang="en-US" sz="45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||v|| = 1, then this is called a unit vector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d the component form and magnitude of PQ if P(3, -5) and   Q(-2, 7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7720" y="2616120"/>
            <a:ext cx="1982520" cy="758880"/>
          </a:xfrm>
          <a:custGeom>
            <a:avLst/>
            <a:gdLst/>
            <a:ahLst/>
            <a:rect l="l" t="t" r="r" b="b"/>
            <a:pathLst>
              <a:path w="5507" h="2109">
                <a:moveTo>
                  <a:pt x="2828" y="7466"/>
                </a:moveTo>
                <a:cubicBezTo>
                  <a:pt x="2848" y="7451"/>
                  <a:pt x="2857" y="7456"/>
                  <a:pt x="2877" y="7441"/>
                </a:cubicBezTo>
                <a:cubicBezTo>
                  <a:pt x="2882" y="7488"/>
                  <a:pt x="2895" y="7521"/>
                  <a:pt x="2902" y="7565"/>
                </a:cubicBezTo>
                <a:cubicBezTo>
                  <a:pt x="2913" y="7632"/>
                  <a:pt x="2937" y="7729"/>
                  <a:pt x="2977" y="7789"/>
                </a:cubicBezTo>
                <a:cubicBezTo>
                  <a:pt x="3045" y="7892"/>
                  <a:pt x="3049" y="7998"/>
                  <a:pt x="3101" y="8111"/>
                </a:cubicBezTo>
                <a:cubicBezTo>
                  <a:pt x="3158" y="8234"/>
                  <a:pt x="3187" y="8350"/>
                  <a:pt x="3225" y="8483"/>
                </a:cubicBezTo>
                <a:cubicBezTo>
                  <a:pt x="3258" y="8597"/>
                  <a:pt x="3269" y="8721"/>
                  <a:pt x="3299" y="8830"/>
                </a:cubicBezTo>
                <a:cubicBezTo>
                  <a:pt x="3324" y="8919"/>
                  <a:pt x="3343" y="9019"/>
                  <a:pt x="3373" y="9103"/>
                </a:cubicBezTo>
                <a:cubicBezTo>
                  <a:pt x="3373" y="9131"/>
                  <a:pt x="3375" y="9142"/>
                  <a:pt x="3398" y="9153"/>
                </a:cubicBezTo>
                <a:cubicBezTo>
                  <a:pt x="3405" y="9097"/>
                  <a:pt x="3408" y="9032"/>
                  <a:pt x="3423" y="8979"/>
                </a:cubicBezTo>
                <a:cubicBezTo>
                  <a:pt x="3453" y="8876"/>
                  <a:pt x="3499" y="8776"/>
                  <a:pt x="3547" y="8682"/>
                </a:cubicBezTo>
                <a:cubicBezTo>
                  <a:pt x="3614" y="8553"/>
                  <a:pt x="3655" y="8417"/>
                  <a:pt x="3721" y="8285"/>
                </a:cubicBezTo>
                <a:cubicBezTo>
                  <a:pt x="3791" y="8145"/>
                  <a:pt x="3842" y="8010"/>
                  <a:pt x="3894" y="7863"/>
                </a:cubicBezTo>
                <a:cubicBezTo>
                  <a:pt x="3934" y="7749"/>
                  <a:pt x="3954" y="7629"/>
                  <a:pt x="3994" y="7516"/>
                </a:cubicBezTo>
                <a:cubicBezTo>
                  <a:pt x="4018" y="7448"/>
                  <a:pt x="4044" y="7376"/>
                  <a:pt x="4068" y="7317"/>
                </a:cubicBezTo>
                <a:cubicBezTo>
                  <a:pt x="4091" y="7261"/>
                  <a:pt x="4079" y="7263"/>
                  <a:pt x="4093" y="7317"/>
                </a:cubicBezTo>
              </a:path>
              <a:path w="5507" h="2109">
                <a:moveTo>
                  <a:pt x="4316" y="8384"/>
                </a:moveTo>
                <a:cubicBezTo>
                  <a:pt x="4325" y="8410"/>
                  <a:pt x="4382" y="8429"/>
                  <a:pt x="4415" y="8434"/>
                </a:cubicBezTo>
                <a:cubicBezTo>
                  <a:pt x="4586" y="8460"/>
                  <a:pt x="4768" y="8431"/>
                  <a:pt x="4936" y="8458"/>
                </a:cubicBezTo>
                <a:cubicBezTo>
                  <a:pt x="5046" y="8476"/>
                  <a:pt x="4945" y="8458"/>
                  <a:pt x="4911" y="8458"/>
                </a:cubicBezTo>
              </a:path>
              <a:path w="5507" h="2109">
                <a:moveTo>
                  <a:pt x="4316" y="8756"/>
                </a:moveTo>
                <a:cubicBezTo>
                  <a:pt x="4407" y="8772"/>
                  <a:pt x="4526" y="8760"/>
                  <a:pt x="4614" y="8781"/>
                </a:cubicBezTo>
                <a:cubicBezTo>
                  <a:pt x="4699" y="8802"/>
                  <a:pt x="4770" y="8806"/>
                  <a:pt x="4862" y="8806"/>
                </a:cubicBezTo>
                <a:cubicBezTo>
                  <a:pt x="4912" y="8806"/>
                  <a:pt x="4961" y="8806"/>
                  <a:pt x="5011" y="8806"/>
                </a:cubicBezTo>
              </a:path>
              <a:path w="5507" h="2109">
                <a:moveTo>
                  <a:pt x="6598" y="7342"/>
                </a:moveTo>
                <a:cubicBezTo>
                  <a:pt x="6618" y="7332"/>
                  <a:pt x="6639" y="7314"/>
                  <a:pt x="6598" y="7367"/>
                </a:cubicBezTo>
                <a:cubicBezTo>
                  <a:pt x="6522" y="7465"/>
                  <a:pt x="6427" y="7545"/>
                  <a:pt x="6350" y="7640"/>
                </a:cubicBezTo>
                <a:cubicBezTo>
                  <a:pt x="6270" y="7739"/>
                  <a:pt x="6184" y="7865"/>
                  <a:pt x="6077" y="7938"/>
                </a:cubicBezTo>
                <a:cubicBezTo>
                  <a:pt x="5954" y="8022"/>
                  <a:pt x="5852" y="8121"/>
                  <a:pt x="5730" y="8210"/>
                </a:cubicBezTo>
                <a:cubicBezTo>
                  <a:pt x="5640" y="8276"/>
                  <a:pt x="5544" y="8341"/>
                  <a:pt x="5457" y="8409"/>
                </a:cubicBezTo>
                <a:cubicBezTo>
                  <a:pt x="5409" y="8447"/>
                  <a:pt x="5402" y="8455"/>
                  <a:pt x="5358" y="8483"/>
                </a:cubicBezTo>
                <a:cubicBezTo>
                  <a:pt x="5409" y="8522"/>
                  <a:pt x="5351" y="8468"/>
                  <a:pt x="5407" y="8483"/>
                </a:cubicBezTo>
                <a:cubicBezTo>
                  <a:pt x="5416" y="8486"/>
                  <a:pt x="5436" y="8540"/>
                  <a:pt x="5457" y="8558"/>
                </a:cubicBezTo>
                <a:cubicBezTo>
                  <a:pt x="5520" y="8612"/>
                  <a:pt x="5609" y="8637"/>
                  <a:pt x="5680" y="8682"/>
                </a:cubicBezTo>
                <a:cubicBezTo>
                  <a:pt x="5818" y="8768"/>
                  <a:pt x="5962" y="8846"/>
                  <a:pt x="6102" y="8930"/>
                </a:cubicBezTo>
                <a:cubicBezTo>
                  <a:pt x="6234" y="9009"/>
                  <a:pt x="6370" y="9104"/>
                  <a:pt x="6499" y="9178"/>
                </a:cubicBezTo>
                <a:cubicBezTo>
                  <a:pt x="6561" y="9213"/>
                  <a:pt x="6602" y="9266"/>
                  <a:pt x="6672" y="9277"/>
                </a:cubicBezTo>
                <a:cubicBezTo>
                  <a:pt x="6697" y="9277"/>
                  <a:pt x="6705" y="9277"/>
                  <a:pt x="6697" y="9252"/>
                </a:cubicBezTo>
              </a:path>
              <a:path w="5507" h="2109">
                <a:moveTo>
                  <a:pt x="6672" y="8483"/>
                </a:moveTo>
                <a:cubicBezTo>
                  <a:pt x="6710" y="8454"/>
                  <a:pt x="6723" y="8458"/>
                  <a:pt x="6772" y="8458"/>
                </a:cubicBezTo>
                <a:cubicBezTo>
                  <a:pt x="6861" y="8458"/>
                  <a:pt x="6943" y="8456"/>
                  <a:pt x="7020" y="8434"/>
                </a:cubicBezTo>
                <a:cubicBezTo>
                  <a:pt x="7040" y="8428"/>
                  <a:pt x="7073" y="8434"/>
                  <a:pt x="7094" y="8434"/>
                </a:cubicBezTo>
              </a:path>
              <a:path w="5507" h="2109">
                <a:moveTo>
                  <a:pt x="8310" y="7962"/>
                </a:moveTo>
                <a:cubicBezTo>
                  <a:pt x="8293" y="7939"/>
                  <a:pt x="8248" y="7904"/>
                  <a:pt x="8235" y="7888"/>
                </a:cubicBezTo>
                <a:cubicBezTo>
                  <a:pt x="8218" y="7867"/>
                  <a:pt x="8180" y="7818"/>
                  <a:pt x="8161" y="7789"/>
                </a:cubicBezTo>
                <a:cubicBezTo>
                  <a:pt x="8140" y="7757"/>
                  <a:pt x="8118" y="7723"/>
                  <a:pt x="8086" y="7689"/>
                </a:cubicBezTo>
                <a:cubicBezTo>
                  <a:pt x="8014" y="7612"/>
                  <a:pt x="7958" y="7576"/>
                  <a:pt x="7863" y="7541"/>
                </a:cubicBezTo>
                <a:cubicBezTo>
                  <a:pt x="7807" y="7520"/>
                  <a:pt x="7821" y="7503"/>
                  <a:pt x="7764" y="7541"/>
                </a:cubicBezTo>
                <a:cubicBezTo>
                  <a:pt x="7700" y="7583"/>
                  <a:pt x="7688" y="7630"/>
                  <a:pt x="7665" y="7689"/>
                </a:cubicBezTo>
                <a:cubicBezTo>
                  <a:pt x="7615" y="7817"/>
                  <a:pt x="7509" y="7935"/>
                  <a:pt x="7466" y="8062"/>
                </a:cubicBezTo>
                <a:cubicBezTo>
                  <a:pt x="7448" y="8114"/>
                  <a:pt x="7467" y="8168"/>
                  <a:pt x="7491" y="8186"/>
                </a:cubicBezTo>
                <a:cubicBezTo>
                  <a:pt x="7530" y="8215"/>
                  <a:pt x="7542" y="8207"/>
                  <a:pt x="7590" y="8210"/>
                </a:cubicBezTo>
                <a:cubicBezTo>
                  <a:pt x="7654" y="8213"/>
                  <a:pt x="7704" y="8225"/>
                  <a:pt x="7764" y="8235"/>
                </a:cubicBezTo>
                <a:cubicBezTo>
                  <a:pt x="7839" y="8247"/>
                  <a:pt x="7892" y="8275"/>
                  <a:pt x="7962" y="8310"/>
                </a:cubicBezTo>
                <a:cubicBezTo>
                  <a:pt x="8035" y="8346"/>
                  <a:pt x="8136" y="8392"/>
                  <a:pt x="8186" y="8458"/>
                </a:cubicBezTo>
                <a:cubicBezTo>
                  <a:pt x="8231" y="8518"/>
                  <a:pt x="8282" y="8585"/>
                  <a:pt x="8310" y="8657"/>
                </a:cubicBezTo>
                <a:cubicBezTo>
                  <a:pt x="8340" y="8735"/>
                  <a:pt x="8349" y="8847"/>
                  <a:pt x="8334" y="8930"/>
                </a:cubicBezTo>
                <a:cubicBezTo>
                  <a:pt x="8310" y="9061"/>
                  <a:pt x="8234" y="9125"/>
                  <a:pt x="8161" y="9227"/>
                </a:cubicBezTo>
                <a:cubicBezTo>
                  <a:pt x="8117" y="9289"/>
                  <a:pt x="8046" y="9361"/>
                  <a:pt x="7962" y="9376"/>
                </a:cubicBezTo>
                <a:cubicBezTo>
                  <a:pt x="7895" y="9388"/>
                  <a:pt x="7798" y="9384"/>
                  <a:pt x="7739" y="9351"/>
                </a:cubicBezTo>
                <a:cubicBezTo>
                  <a:pt x="7687" y="9322"/>
                  <a:pt x="7639" y="9284"/>
                  <a:pt x="7590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7720" y="2660760"/>
            <a:ext cx="1652400" cy="1027080"/>
          </a:xfrm>
          <a:custGeom>
            <a:avLst/>
            <a:gdLst/>
            <a:ahLst/>
            <a:rect l="l" t="t" r="r" b="b"/>
            <a:pathLst>
              <a:path w="4589" h="2853">
                <a:moveTo>
                  <a:pt x="12154" y="7392"/>
                </a:moveTo>
                <a:cubicBezTo>
                  <a:pt x="12173" y="7436"/>
                  <a:pt x="12167" y="7471"/>
                  <a:pt x="12204" y="7516"/>
                </a:cubicBezTo>
                <a:cubicBezTo>
                  <a:pt x="12251" y="7574"/>
                  <a:pt x="12337" y="7641"/>
                  <a:pt x="12402" y="7689"/>
                </a:cubicBezTo>
                <a:cubicBezTo>
                  <a:pt x="12513" y="7772"/>
                  <a:pt x="12636" y="7837"/>
                  <a:pt x="12750" y="7913"/>
                </a:cubicBezTo>
                <a:cubicBezTo>
                  <a:pt x="12985" y="8069"/>
                  <a:pt x="13202" y="8257"/>
                  <a:pt x="13419" y="8434"/>
                </a:cubicBezTo>
                <a:cubicBezTo>
                  <a:pt x="13524" y="8519"/>
                  <a:pt x="13640" y="8595"/>
                  <a:pt x="13742" y="8682"/>
                </a:cubicBezTo>
                <a:cubicBezTo>
                  <a:pt x="13794" y="8726"/>
                  <a:pt x="13824" y="8770"/>
                  <a:pt x="13891" y="8806"/>
                </a:cubicBezTo>
                <a:cubicBezTo>
                  <a:pt x="13912" y="8817"/>
                  <a:pt x="13892" y="8798"/>
                  <a:pt x="13915" y="8806"/>
                </a:cubicBezTo>
                <a:cubicBezTo>
                  <a:pt x="13871" y="8817"/>
                  <a:pt x="13863" y="8817"/>
                  <a:pt x="13841" y="8830"/>
                </a:cubicBezTo>
                <a:cubicBezTo>
                  <a:pt x="13797" y="8856"/>
                  <a:pt x="13740" y="8897"/>
                  <a:pt x="13692" y="8930"/>
                </a:cubicBezTo>
                <a:cubicBezTo>
                  <a:pt x="13599" y="8994"/>
                  <a:pt x="13519" y="9072"/>
                  <a:pt x="13419" y="9128"/>
                </a:cubicBezTo>
                <a:cubicBezTo>
                  <a:pt x="13287" y="9202"/>
                  <a:pt x="13172" y="9297"/>
                  <a:pt x="13047" y="9376"/>
                </a:cubicBezTo>
                <a:cubicBezTo>
                  <a:pt x="12898" y="9471"/>
                  <a:pt x="12729" y="9535"/>
                  <a:pt x="12576" y="9624"/>
                </a:cubicBezTo>
                <a:cubicBezTo>
                  <a:pt x="12517" y="9658"/>
                  <a:pt x="12412" y="9719"/>
                  <a:pt x="12378" y="9773"/>
                </a:cubicBezTo>
                <a:cubicBezTo>
                  <a:pt x="12378" y="9798"/>
                  <a:pt x="12378" y="9806"/>
                  <a:pt x="12378" y="9823"/>
                </a:cubicBezTo>
                <a:cubicBezTo>
                  <a:pt x="12410" y="9827"/>
                  <a:pt x="12429" y="9870"/>
                  <a:pt x="12452" y="9847"/>
                </a:cubicBezTo>
                <a:cubicBezTo>
                  <a:pt x="12452" y="9823"/>
                  <a:pt x="12452" y="9814"/>
                  <a:pt x="12452" y="9798"/>
                </a:cubicBezTo>
              </a:path>
              <a:path w="4589" h="2853">
                <a:moveTo>
                  <a:pt x="9525" y="9699"/>
                </a:moveTo>
                <a:cubicBezTo>
                  <a:pt x="9507" y="9820"/>
                  <a:pt x="9501" y="9934"/>
                  <a:pt x="9451" y="10046"/>
                </a:cubicBezTo>
                <a:cubicBezTo>
                  <a:pt x="9425" y="10105"/>
                  <a:pt x="9389" y="10168"/>
                  <a:pt x="9351" y="10220"/>
                </a:cubicBezTo>
                <a:cubicBezTo>
                  <a:pt x="9343" y="10228"/>
                  <a:pt x="9335" y="10236"/>
                  <a:pt x="9327" y="10244"/>
                </a:cubicBezTo>
              </a:path>
              <a:path w="4589" h="2853">
                <a:moveTo>
                  <a:pt x="10195" y="7938"/>
                </a:moveTo>
                <a:cubicBezTo>
                  <a:pt x="10215" y="7977"/>
                  <a:pt x="10258" y="8038"/>
                  <a:pt x="10269" y="8086"/>
                </a:cubicBezTo>
                <a:cubicBezTo>
                  <a:pt x="10289" y="8175"/>
                  <a:pt x="10304" y="8267"/>
                  <a:pt x="10319" y="8359"/>
                </a:cubicBezTo>
                <a:cubicBezTo>
                  <a:pt x="10347" y="8537"/>
                  <a:pt x="10359" y="8724"/>
                  <a:pt x="10368" y="8905"/>
                </a:cubicBezTo>
                <a:cubicBezTo>
                  <a:pt x="10378" y="9098"/>
                  <a:pt x="10563" y="9383"/>
                  <a:pt x="10393" y="9475"/>
                </a:cubicBezTo>
                <a:cubicBezTo>
                  <a:pt x="10385" y="9467"/>
                  <a:pt x="10376" y="9459"/>
                  <a:pt x="10368" y="9451"/>
                </a:cubicBezTo>
              </a:path>
              <a:path w="4589" h="2853">
                <a:moveTo>
                  <a:pt x="10666" y="8310"/>
                </a:moveTo>
                <a:cubicBezTo>
                  <a:pt x="10698" y="8296"/>
                  <a:pt x="10752" y="8267"/>
                  <a:pt x="10790" y="8260"/>
                </a:cubicBezTo>
                <a:cubicBezTo>
                  <a:pt x="10897" y="8241"/>
                  <a:pt x="11001" y="8235"/>
                  <a:pt x="11112" y="8235"/>
                </a:cubicBezTo>
                <a:cubicBezTo>
                  <a:pt x="11202" y="8235"/>
                  <a:pt x="11294" y="8238"/>
                  <a:pt x="11361" y="8310"/>
                </a:cubicBezTo>
                <a:cubicBezTo>
                  <a:pt x="11451" y="8407"/>
                  <a:pt x="11474" y="8529"/>
                  <a:pt x="11460" y="8657"/>
                </a:cubicBezTo>
                <a:cubicBezTo>
                  <a:pt x="11449" y="8757"/>
                  <a:pt x="11366" y="8945"/>
                  <a:pt x="11311" y="9029"/>
                </a:cubicBezTo>
                <a:cubicBezTo>
                  <a:pt x="11256" y="9113"/>
                  <a:pt x="11169" y="9222"/>
                  <a:pt x="11088" y="9277"/>
                </a:cubicBezTo>
                <a:cubicBezTo>
                  <a:pt x="11031" y="9316"/>
                  <a:pt x="10965" y="9372"/>
                  <a:pt x="10889" y="9351"/>
                </a:cubicBezTo>
                <a:cubicBezTo>
                  <a:pt x="10881" y="9343"/>
                  <a:pt x="10872" y="9335"/>
                  <a:pt x="10864" y="9327"/>
                </a:cubicBezTo>
                <a:cubicBezTo>
                  <a:pt x="10924" y="9252"/>
                  <a:pt x="10942" y="9236"/>
                  <a:pt x="11038" y="9203"/>
                </a:cubicBezTo>
                <a:cubicBezTo>
                  <a:pt x="11135" y="9170"/>
                  <a:pt x="11231" y="9133"/>
                  <a:pt x="11336" y="9153"/>
                </a:cubicBezTo>
                <a:cubicBezTo>
                  <a:pt x="11439" y="9172"/>
                  <a:pt x="11521" y="9226"/>
                  <a:pt x="11609" y="9277"/>
                </a:cubicBezTo>
                <a:cubicBezTo>
                  <a:pt x="11667" y="9310"/>
                  <a:pt x="11717" y="9381"/>
                  <a:pt x="11733" y="9451"/>
                </a:cubicBezTo>
                <a:cubicBezTo>
                  <a:pt x="11748" y="9517"/>
                  <a:pt x="11733" y="9542"/>
                  <a:pt x="11683" y="9500"/>
                </a:cubicBezTo>
                <a:cubicBezTo>
                  <a:pt x="11666" y="9484"/>
                  <a:pt x="11650" y="9467"/>
                  <a:pt x="11633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75160" y="3125880"/>
            <a:ext cx="911520" cy="554040"/>
          </a:xfrm>
          <a:custGeom>
            <a:avLst/>
            <a:gdLst/>
            <a:ahLst/>
            <a:rect l="l" t="t" r="r" b="b"/>
            <a:pathLst>
              <a:path w="2531" h="1539">
                <a:moveTo>
                  <a:pt x="14957" y="9128"/>
                </a:moveTo>
                <a:cubicBezTo>
                  <a:pt x="14950" y="9128"/>
                  <a:pt x="14933" y="9111"/>
                  <a:pt x="14957" y="9054"/>
                </a:cubicBezTo>
                <a:cubicBezTo>
                  <a:pt x="14984" y="8990"/>
                  <a:pt x="15046" y="8917"/>
                  <a:pt x="15081" y="8855"/>
                </a:cubicBezTo>
                <a:cubicBezTo>
                  <a:pt x="15123" y="8781"/>
                  <a:pt x="15165" y="8754"/>
                  <a:pt x="15230" y="8706"/>
                </a:cubicBezTo>
                <a:cubicBezTo>
                  <a:pt x="15238" y="8698"/>
                  <a:pt x="15247" y="8690"/>
                  <a:pt x="15255" y="8682"/>
                </a:cubicBezTo>
                <a:cubicBezTo>
                  <a:pt x="15293" y="8731"/>
                  <a:pt x="15292" y="8815"/>
                  <a:pt x="15280" y="8880"/>
                </a:cubicBezTo>
                <a:cubicBezTo>
                  <a:pt x="15260" y="8987"/>
                  <a:pt x="15246" y="9099"/>
                  <a:pt x="15205" y="9203"/>
                </a:cubicBezTo>
                <a:cubicBezTo>
                  <a:pt x="15195" y="9228"/>
                  <a:pt x="15167" y="9354"/>
                  <a:pt x="15180" y="9327"/>
                </a:cubicBezTo>
                <a:cubicBezTo>
                  <a:pt x="15205" y="9274"/>
                  <a:pt x="15222" y="9207"/>
                  <a:pt x="15255" y="9153"/>
                </a:cubicBezTo>
                <a:cubicBezTo>
                  <a:pt x="15306" y="9068"/>
                  <a:pt x="15367" y="8980"/>
                  <a:pt x="15429" y="8905"/>
                </a:cubicBezTo>
                <a:cubicBezTo>
                  <a:pt x="15464" y="8862"/>
                  <a:pt x="15522" y="8787"/>
                  <a:pt x="15577" y="8781"/>
                </a:cubicBezTo>
                <a:cubicBezTo>
                  <a:pt x="15585" y="8781"/>
                  <a:pt x="15594" y="8781"/>
                  <a:pt x="15602" y="8781"/>
                </a:cubicBezTo>
                <a:cubicBezTo>
                  <a:pt x="15602" y="8852"/>
                  <a:pt x="15585" y="8914"/>
                  <a:pt x="15577" y="8979"/>
                </a:cubicBezTo>
                <a:cubicBezTo>
                  <a:pt x="15560" y="9111"/>
                  <a:pt x="15548" y="9245"/>
                  <a:pt x="15528" y="9376"/>
                </a:cubicBezTo>
                <a:cubicBezTo>
                  <a:pt x="15519" y="9432"/>
                  <a:pt x="15489" y="9514"/>
                  <a:pt x="15528" y="9475"/>
                </a:cubicBezTo>
              </a:path>
              <a:path w="2531" h="1539">
                <a:moveTo>
                  <a:pt x="15801" y="9203"/>
                </a:moveTo>
                <a:cubicBezTo>
                  <a:pt x="15758" y="9277"/>
                  <a:pt x="15768" y="9296"/>
                  <a:pt x="15751" y="9376"/>
                </a:cubicBezTo>
                <a:cubicBezTo>
                  <a:pt x="15736" y="9443"/>
                  <a:pt x="15708" y="9509"/>
                  <a:pt x="15701" y="9575"/>
                </a:cubicBezTo>
                <a:cubicBezTo>
                  <a:pt x="15701" y="9603"/>
                  <a:pt x="15704" y="9613"/>
                  <a:pt x="15726" y="9624"/>
                </a:cubicBezTo>
                <a:cubicBezTo>
                  <a:pt x="15779" y="9624"/>
                  <a:pt x="15787" y="9613"/>
                  <a:pt x="15825" y="9575"/>
                </a:cubicBezTo>
                <a:cubicBezTo>
                  <a:pt x="15890" y="9510"/>
                  <a:pt x="15920" y="9445"/>
                  <a:pt x="15974" y="9376"/>
                </a:cubicBezTo>
                <a:cubicBezTo>
                  <a:pt x="16014" y="9325"/>
                  <a:pt x="16038" y="9302"/>
                  <a:pt x="16098" y="9302"/>
                </a:cubicBezTo>
                <a:cubicBezTo>
                  <a:pt x="16098" y="9379"/>
                  <a:pt x="16086" y="9476"/>
                  <a:pt x="16073" y="9550"/>
                </a:cubicBezTo>
                <a:cubicBezTo>
                  <a:pt x="16062" y="9608"/>
                  <a:pt x="15991" y="9734"/>
                  <a:pt x="16049" y="9723"/>
                </a:cubicBezTo>
                <a:cubicBezTo>
                  <a:pt x="16057" y="9715"/>
                  <a:pt x="16065" y="9707"/>
                  <a:pt x="16073" y="9699"/>
                </a:cubicBezTo>
              </a:path>
              <a:path w="2531" h="1539">
                <a:moveTo>
                  <a:pt x="16396" y="9128"/>
                </a:moveTo>
                <a:cubicBezTo>
                  <a:pt x="16377" y="9258"/>
                  <a:pt x="16392" y="9398"/>
                  <a:pt x="16371" y="9525"/>
                </a:cubicBezTo>
                <a:cubicBezTo>
                  <a:pt x="16357" y="9609"/>
                  <a:pt x="16315" y="9692"/>
                  <a:pt x="16297" y="9773"/>
                </a:cubicBezTo>
                <a:cubicBezTo>
                  <a:pt x="16293" y="9791"/>
                  <a:pt x="16297" y="9889"/>
                  <a:pt x="16297" y="9773"/>
                </a:cubicBezTo>
              </a:path>
              <a:path w="2531" h="1539">
                <a:moveTo>
                  <a:pt x="16669" y="9128"/>
                </a:moveTo>
                <a:cubicBezTo>
                  <a:pt x="16642" y="9228"/>
                  <a:pt x="16643" y="9323"/>
                  <a:pt x="16619" y="9426"/>
                </a:cubicBezTo>
                <a:cubicBezTo>
                  <a:pt x="16593" y="9539"/>
                  <a:pt x="16575" y="9665"/>
                  <a:pt x="16545" y="9773"/>
                </a:cubicBezTo>
                <a:cubicBezTo>
                  <a:pt x="16535" y="9810"/>
                  <a:pt x="16466" y="9926"/>
                  <a:pt x="16520" y="9872"/>
                </a:cubicBezTo>
              </a:path>
              <a:path w="2531" h="1539">
                <a:moveTo>
                  <a:pt x="16917" y="9872"/>
                </a:moveTo>
                <a:cubicBezTo>
                  <a:pt x="16891" y="9883"/>
                  <a:pt x="16827" y="9916"/>
                  <a:pt x="16793" y="9897"/>
                </a:cubicBezTo>
                <a:cubicBezTo>
                  <a:pt x="16732" y="9863"/>
                  <a:pt x="16743" y="9808"/>
                  <a:pt x="16743" y="9748"/>
                </a:cubicBezTo>
                <a:cubicBezTo>
                  <a:pt x="16743" y="9671"/>
                  <a:pt x="16747" y="9616"/>
                  <a:pt x="16793" y="9550"/>
                </a:cubicBezTo>
                <a:cubicBezTo>
                  <a:pt x="16811" y="9524"/>
                  <a:pt x="16854" y="9479"/>
                  <a:pt x="16892" y="9500"/>
                </a:cubicBezTo>
                <a:cubicBezTo>
                  <a:pt x="16937" y="9525"/>
                  <a:pt x="16924" y="9588"/>
                  <a:pt x="16942" y="9624"/>
                </a:cubicBezTo>
                <a:cubicBezTo>
                  <a:pt x="16951" y="9643"/>
                  <a:pt x="16965" y="9675"/>
                  <a:pt x="16917" y="9699"/>
                </a:cubicBezTo>
                <a:cubicBezTo>
                  <a:pt x="16877" y="9719"/>
                  <a:pt x="16845" y="9683"/>
                  <a:pt x="16818" y="9674"/>
                </a:cubicBezTo>
                <a:cubicBezTo>
                  <a:pt x="16786" y="9663"/>
                  <a:pt x="16735" y="9637"/>
                  <a:pt x="16718" y="9599"/>
                </a:cubicBezTo>
                <a:cubicBezTo>
                  <a:pt x="16718" y="9591"/>
                  <a:pt x="16718" y="9583"/>
                  <a:pt x="16718" y="9575"/>
                </a:cubicBezTo>
              </a:path>
              <a:path w="2531" h="1539">
                <a:moveTo>
                  <a:pt x="17115" y="9575"/>
                </a:moveTo>
                <a:cubicBezTo>
                  <a:pt x="17115" y="9642"/>
                  <a:pt x="17100" y="9686"/>
                  <a:pt x="17090" y="9748"/>
                </a:cubicBezTo>
                <a:cubicBezTo>
                  <a:pt x="17080" y="9809"/>
                  <a:pt x="17055" y="9866"/>
                  <a:pt x="17016" y="9922"/>
                </a:cubicBezTo>
                <a:cubicBezTo>
                  <a:pt x="17002" y="9942"/>
                  <a:pt x="16905" y="10058"/>
                  <a:pt x="16966" y="9996"/>
                </a:cubicBezTo>
                <a:cubicBezTo>
                  <a:pt x="17035" y="9927"/>
                  <a:pt x="17059" y="9837"/>
                  <a:pt x="17140" y="9773"/>
                </a:cubicBezTo>
                <a:cubicBezTo>
                  <a:pt x="17194" y="9730"/>
                  <a:pt x="17289" y="9663"/>
                  <a:pt x="17363" y="9674"/>
                </a:cubicBezTo>
                <a:cubicBezTo>
                  <a:pt x="17499" y="9694"/>
                  <a:pt x="17462" y="9731"/>
                  <a:pt x="17462" y="9847"/>
                </a:cubicBezTo>
                <a:cubicBezTo>
                  <a:pt x="17462" y="9952"/>
                  <a:pt x="17434" y="10002"/>
                  <a:pt x="17413" y="10096"/>
                </a:cubicBezTo>
                <a:cubicBezTo>
                  <a:pt x="17401" y="10150"/>
                  <a:pt x="17399" y="10196"/>
                  <a:pt x="17363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4880" y="2643120"/>
            <a:ext cx="768240" cy="563760"/>
          </a:xfrm>
          <a:custGeom>
            <a:avLst/>
            <a:gdLst/>
            <a:ahLst/>
            <a:rect l="l" t="t" r="r" b="b"/>
            <a:pathLst>
              <a:path w="2134" h="1564">
                <a:moveTo>
                  <a:pt x="15354" y="7367"/>
                </a:moveTo>
                <a:cubicBezTo>
                  <a:pt x="15377" y="7344"/>
                  <a:pt x="15381" y="7336"/>
                  <a:pt x="15404" y="7342"/>
                </a:cubicBezTo>
                <a:cubicBezTo>
                  <a:pt x="15421" y="7393"/>
                  <a:pt x="15450" y="7458"/>
                  <a:pt x="15453" y="7541"/>
                </a:cubicBezTo>
                <a:cubicBezTo>
                  <a:pt x="15457" y="7647"/>
                  <a:pt x="15498" y="7755"/>
                  <a:pt x="15478" y="7863"/>
                </a:cubicBezTo>
                <a:cubicBezTo>
                  <a:pt x="15464" y="7938"/>
                  <a:pt x="15427" y="8049"/>
                  <a:pt x="15379" y="8111"/>
                </a:cubicBezTo>
                <a:cubicBezTo>
                  <a:pt x="15336" y="8166"/>
                  <a:pt x="15277" y="8230"/>
                  <a:pt x="15205" y="8235"/>
                </a:cubicBezTo>
                <a:cubicBezTo>
                  <a:pt x="15110" y="8241"/>
                  <a:pt x="15085" y="8216"/>
                  <a:pt x="15032" y="8136"/>
                </a:cubicBezTo>
                <a:cubicBezTo>
                  <a:pt x="14985" y="8065"/>
                  <a:pt x="14963" y="7970"/>
                  <a:pt x="14957" y="7888"/>
                </a:cubicBezTo>
                <a:cubicBezTo>
                  <a:pt x="14957" y="7853"/>
                  <a:pt x="14966" y="7840"/>
                  <a:pt x="15007" y="7838"/>
                </a:cubicBezTo>
              </a:path>
              <a:path w="2134" h="1564">
                <a:moveTo>
                  <a:pt x="15925" y="8086"/>
                </a:moveTo>
                <a:cubicBezTo>
                  <a:pt x="15896" y="8077"/>
                  <a:pt x="15880" y="8053"/>
                  <a:pt x="15875" y="8012"/>
                </a:cubicBezTo>
                <a:cubicBezTo>
                  <a:pt x="15871" y="7973"/>
                  <a:pt x="15848" y="7944"/>
                  <a:pt x="15825" y="7913"/>
                </a:cubicBezTo>
                <a:cubicBezTo>
                  <a:pt x="15797" y="7920"/>
                  <a:pt x="15721" y="7964"/>
                  <a:pt x="15701" y="7987"/>
                </a:cubicBezTo>
                <a:cubicBezTo>
                  <a:pt x="15625" y="8077"/>
                  <a:pt x="15608" y="8172"/>
                  <a:pt x="15602" y="8285"/>
                </a:cubicBezTo>
                <a:cubicBezTo>
                  <a:pt x="15600" y="8326"/>
                  <a:pt x="15640" y="8356"/>
                  <a:pt x="15677" y="8359"/>
                </a:cubicBezTo>
                <a:cubicBezTo>
                  <a:pt x="15721" y="8362"/>
                  <a:pt x="15818" y="8319"/>
                  <a:pt x="15850" y="8285"/>
                </a:cubicBezTo>
                <a:cubicBezTo>
                  <a:pt x="15903" y="8228"/>
                  <a:pt x="15939" y="8133"/>
                  <a:pt x="15974" y="8062"/>
                </a:cubicBezTo>
                <a:cubicBezTo>
                  <a:pt x="15994" y="8021"/>
                  <a:pt x="16014" y="8001"/>
                  <a:pt x="16024" y="7962"/>
                </a:cubicBezTo>
                <a:cubicBezTo>
                  <a:pt x="16013" y="8006"/>
                  <a:pt x="15991" y="8038"/>
                  <a:pt x="15974" y="8086"/>
                </a:cubicBezTo>
                <a:cubicBezTo>
                  <a:pt x="15946" y="8162"/>
                  <a:pt x="15937" y="8257"/>
                  <a:pt x="15925" y="8334"/>
                </a:cubicBezTo>
                <a:cubicBezTo>
                  <a:pt x="15917" y="8386"/>
                  <a:pt x="15941" y="8434"/>
                  <a:pt x="15949" y="8483"/>
                </a:cubicBezTo>
              </a:path>
              <a:path w="2134" h="1564">
                <a:moveTo>
                  <a:pt x="16049" y="8037"/>
                </a:moveTo>
                <a:cubicBezTo>
                  <a:pt x="16088" y="8024"/>
                  <a:pt x="16059" y="8025"/>
                  <a:pt x="16098" y="8012"/>
                </a:cubicBezTo>
                <a:cubicBezTo>
                  <a:pt x="16098" y="8148"/>
                  <a:pt x="16107" y="8280"/>
                  <a:pt x="16123" y="8409"/>
                </a:cubicBezTo>
                <a:cubicBezTo>
                  <a:pt x="16128" y="8446"/>
                  <a:pt x="16114" y="8568"/>
                  <a:pt x="16098" y="8607"/>
                </a:cubicBezTo>
                <a:cubicBezTo>
                  <a:pt x="16090" y="8615"/>
                  <a:pt x="16081" y="8624"/>
                  <a:pt x="16073" y="8632"/>
                </a:cubicBezTo>
                <a:cubicBezTo>
                  <a:pt x="15993" y="8611"/>
                  <a:pt x="16041" y="8593"/>
                  <a:pt x="16049" y="8533"/>
                </a:cubicBezTo>
                <a:cubicBezTo>
                  <a:pt x="16064" y="8426"/>
                  <a:pt x="16101" y="8382"/>
                  <a:pt x="16148" y="8285"/>
                </a:cubicBezTo>
                <a:cubicBezTo>
                  <a:pt x="16185" y="8208"/>
                  <a:pt x="16250" y="8129"/>
                  <a:pt x="16321" y="8086"/>
                </a:cubicBezTo>
                <a:cubicBezTo>
                  <a:pt x="16386" y="8047"/>
                  <a:pt x="16447" y="8037"/>
                  <a:pt x="16520" y="8037"/>
                </a:cubicBezTo>
                <a:cubicBezTo>
                  <a:pt x="16598" y="8037"/>
                  <a:pt x="16610" y="8110"/>
                  <a:pt x="16644" y="8161"/>
                </a:cubicBezTo>
                <a:cubicBezTo>
                  <a:pt x="16652" y="8169"/>
                  <a:pt x="16661" y="8178"/>
                  <a:pt x="16669" y="8186"/>
                </a:cubicBezTo>
              </a:path>
              <a:path w="2134" h="1564">
                <a:moveTo>
                  <a:pt x="16446" y="8657"/>
                </a:moveTo>
                <a:cubicBezTo>
                  <a:pt x="16332" y="8622"/>
                  <a:pt x="16321" y="8641"/>
                  <a:pt x="16321" y="8533"/>
                </a:cubicBezTo>
                <a:cubicBezTo>
                  <a:pt x="16321" y="8450"/>
                  <a:pt x="16333" y="8409"/>
                  <a:pt x="16371" y="8334"/>
                </a:cubicBezTo>
                <a:cubicBezTo>
                  <a:pt x="16394" y="8288"/>
                  <a:pt x="16414" y="8249"/>
                  <a:pt x="16446" y="8210"/>
                </a:cubicBezTo>
                <a:cubicBezTo>
                  <a:pt x="16505" y="8225"/>
                  <a:pt x="16499" y="8258"/>
                  <a:pt x="16520" y="8310"/>
                </a:cubicBezTo>
                <a:cubicBezTo>
                  <a:pt x="16541" y="8361"/>
                  <a:pt x="16574" y="8388"/>
                  <a:pt x="16594" y="8434"/>
                </a:cubicBezTo>
                <a:cubicBezTo>
                  <a:pt x="16594" y="8442"/>
                  <a:pt x="16594" y="8450"/>
                  <a:pt x="16594" y="8458"/>
                </a:cubicBezTo>
                <a:cubicBezTo>
                  <a:pt x="16545" y="8458"/>
                  <a:pt x="16535" y="8447"/>
                  <a:pt x="16495" y="8434"/>
                </a:cubicBezTo>
                <a:cubicBezTo>
                  <a:pt x="16456" y="8422"/>
                  <a:pt x="16406" y="8420"/>
                  <a:pt x="16371" y="8409"/>
                </a:cubicBezTo>
                <a:cubicBezTo>
                  <a:pt x="16344" y="8401"/>
                  <a:pt x="16322" y="8428"/>
                  <a:pt x="16297" y="8434"/>
                </a:cubicBezTo>
              </a:path>
              <a:path w="2134" h="1564">
                <a:moveTo>
                  <a:pt x="16917" y="8582"/>
                </a:moveTo>
                <a:cubicBezTo>
                  <a:pt x="16915" y="8574"/>
                  <a:pt x="16895" y="8485"/>
                  <a:pt x="16892" y="8483"/>
                </a:cubicBezTo>
                <a:cubicBezTo>
                  <a:pt x="16864" y="8483"/>
                  <a:pt x="16853" y="8481"/>
                  <a:pt x="16842" y="8458"/>
                </a:cubicBezTo>
                <a:cubicBezTo>
                  <a:pt x="16782" y="8482"/>
                  <a:pt x="16749" y="8522"/>
                  <a:pt x="16718" y="8582"/>
                </a:cubicBezTo>
                <a:cubicBezTo>
                  <a:pt x="16706" y="8606"/>
                  <a:pt x="16668" y="8704"/>
                  <a:pt x="16694" y="8731"/>
                </a:cubicBezTo>
                <a:cubicBezTo>
                  <a:pt x="16712" y="8750"/>
                  <a:pt x="16762" y="8756"/>
                  <a:pt x="16793" y="8756"/>
                </a:cubicBezTo>
                <a:cubicBezTo>
                  <a:pt x="16862" y="8756"/>
                  <a:pt x="16888" y="8711"/>
                  <a:pt x="16917" y="8657"/>
                </a:cubicBezTo>
                <a:cubicBezTo>
                  <a:pt x="16960" y="8577"/>
                  <a:pt x="16968" y="8492"/>
                  <a:pt x="16991" y="8409"/>
                </a:cubicBezTo>
                <a:cubicBezTo>
                  <a:pt x="17019" y="8310"/>
                  <a:pt x="17016" y="8208"/>
                  <a:pt x="17041" y="8111"/>
                </a:cubicBezTo>
                <a:cubicBezTo>
                  <a:pt x="17057" y="8048"/>
                  <a:pt x="17069" y="7997"/>
                  <a:pt x="17090" y="7938"/>
                </a:cubicBezTo>
                <a:cubicBezTo>
                  <a:pt x="17090" y="8003"/>
                  <a:pt x="17080" y="8074"/>
                  <a:pt x="17066" y="8136"/>
                </a:cubicBezTo>
                <a:cubicBezTo>
                  <a:pt x="17041" y="8246"/>
                  <a:pt x="17017" y="8350"/>
                  <a:pt x="16991" y="8458"/>
                </a:cubicBezTo>
                <a:cubicBezTo>
                  <a:pt x="16962" y="8576"/>
                  <a:pt x="16966" y="8685"/>
                  <a:pt x="16966" y="8806"/>
                </a:cubicBezTo>
                <a:cubicBezTo>
                  <a:pt x="16966" y="8862"/>
                  <a:pt x="16997" y="8968"/>
                  <a:pt x="17016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2880" y="4143240"/>
            <a:ext cx="1660320" cy="830520"/>
          </a:xfrm>
          <a:custGeom>
            <a:avLst/>
            <a:gdLst/>
            <a:ahLst/>
            <a:rect l="l" t="t" r="r" b="b"/>
            <a:pathLst>
              <a:path w="4615" h="2308">
                <a:moveTo>
                  <a:pt x="2456" y="11509"/>
                </a:moveTo>
                <a:cubicBezTo>
                  <a:pt x="2456" y="11612"/>
                  <a:pt x="2440" y="11708"/>
                  <a:pt x="2431" y="11807"/>
                </a:cubicBezTo>
                <a:cubicBezTo>
                  <a:pt x="2417" y="11954"/>
                  <a:pt x="2409" y="12107"/>
                  <a:pt x="2406" y="12254"/>
                </a:cubicBezTo>
                <a:cubicBezTo>
                  <a:pt x="2402" y="12414"/>
                  <a:pt x="2392" y="12567"/>
                  <a:pt x="2381" y="12725"/>
                </a:cubicBezTo>
                <a:cubicBezTo>
                  <a:pt x="2372" y="12863"/>
                  <a:pt x="2374" y="13013"/>
                  <a:pt x="2332" y="13146"/>
                </a:cubicBezTo>
                <a:cubicBezTo>
                  <a:pt x="2315" y="13199"/>
                  <a:pt x="2313" y="13341"/>
                  <a:pt x="2282" y="13295"/>
                </a:cubicBezTo>
                <a:cubicBezTo>
                  <a:pt x="2247" y="13243"/>
                  <a:pt x="2271" y="13196"/>
                  <a:pt x="2282" y="13146"/>
                </a:cubicBezTo>
              </a:path>
              <a:path w="4615" h="2308">
                <a:moveTo>
                  <a:pt x="2902" y="11559"/>
                </a:moveTo>
                <a:cubicBezTo>
                  <a:pt x="2933" y="11651"/>
                  <a:pt x="2927" y="11733"/>
                  <a:pt x="2927" y="11832"/>
                </a:cubicBezTo>
                <a:cubicBezTo>
                  <a:pt x="2927" y="12033"/>
                  <a:pt x="2915" y="12228"/>
                  <a:pt x="2902" y="12427"/>
                </a:cubicBezTo>
                <a:cubicBezTo>
                  <a:pt x="2889" y="12626"/>
                  <a:pt x="2893" y="12826"/>
                  <a:pt x="2877" y="13022"/>
                </a:cubicBezTo>
                <a:cubicBezTo>
                  <a:pt x="2872" y="13081"/>
                  <a:pt x="2845" y="13243"/>
                  <a:pt x="2853" y="13295"/>
                </a:cubicBezTo>
                <a:cubicBezTo>
                  <a:pt x="2861" y="13303"/>
                  <a:pt x="2869" y="13312"/>
                  <a:pt x="2877" y="13320"/>
                </a:cubicBezTo>
              </a:path>
              <a:path w="4615" h="2308">
                <a:moveTo>
                  <a:pt x="3398" y="12725"/>
                </a:moveTo>
                <a:cubicBezTo>
                  <a:pt x="3429" y="12810"/>
                  <a:pt x="3452" y="12888"/>
                  <a:pt x="3473" y="12973"/>
                </a:cubicBezTo>
                <a:cubicBezTo>
                  <a:pt x="3496" y="13069"/>
                  <a:pt x="3532" y="13173"/>
                  <a:pt x="3547" y="13271"/>
                </a:cubicBezTo>
                <a:cubicBezTo>
                  <a:pt x="3559" y="13352"/>
                  <a:pt x="3579" y="13416"/>
                  <a:pt x="3597" y="13494"/>
                </a:cubicBezTo>
                <a:cubicBezTo>
                  <a:pt x="3605" y="13530"/>
                  <a:pt x="3606" y="13519"/>
                  <a:pt x="3646" y="13519"/>
                </a:cubicBezTo>
                <a:cubicBezTo>
                  <a:pt x="3671" y="13477"/>
                  <a:pt x="3709" y="13398"/>
                  <a:pt x="3721" y="13345"/>
                </a:cubicBezTo>
                <a:cubicBezTo>
                  <a:pt x="3740" y="13260"/>
                  <a:pt x="3759" y="13180"/>
                  <a:pt x="3795" y="13097"/>
                </a:cubicBezTo>
                <a:cubicBezTo>
                  <a:pt x="3835" y="13004"/>
                  <a:pt x="3878" y="12916"/>
                  <a:pt x="3919" y="12824"/>
                </a:cubicBezTo>
                <a:cubicBezTo>
                  <a:pt x="3931" y="12798"/>
                  <a:pt x="3968" y="12713"/>
                  <a:pt x="3994" y="12700"/>
                </a:cubicBezTo>
                <a:cubicBezTo>
                  <a:pt x="4018" y="12700"/>
                  <a:pt x="4027" y="12700"/>
                  <a:pt x="4043" y="12700"/>
                </a:cubicBezTo>
              </a:path>
              <a:path w="4615" h="2308">
                <a:moveTo>
                  <a:pt x="4787" y="11906"/>
                </a:moveTo>
                <a:cubicBezTo>
                  <a:pt x="4781" y="12104"/>
                  <a:pt x="4751" y="12284"/>
                  <a:pt x="4738" y="12477"/>
                </a:cubicBezTo>
                <a:cubicBezTo>
                  <a:pt x="4726" y="12650"/>
                  <a:pt x="4717" y="12826"/>
                  <a:pt x="4713" y="12998"/>
                </a:cubicBezTo>
                <a:cubicBezTo>
                  <a:pt x="4710" y="13141"/>
                  <a:pt x="4693" y="13278"/>
                  <a:pt x="4688" y="13419"/>
                </a:cubicBezTo>
                <a:cubicBezTo>
                  <a:pt x="4687" y="13461"/>
                  <a:pt x="4688" y="13452"/>
                  <a:pt x="4688" y="13494"/>
                </a:cubicBezTo>
              </a:path>
              <a:path w="4615" h="2308">
                <a:moveTo>
                  <a:pt x="5184" y="11733"/>
                </a:moveTo>
                <a:cubicBezTo>
                  <a:pt x="5190" y="11886"/>
                  <a:pt x="5209" y="12025"/>
                  <a:pt x="5209" y="12179"/>
                </a:cubicBezTo>
                <a:cubicBezTo>
                  <a:pt x="5209" y="12348"/>
                  <a:pt x="5223" y="12508"/>
                  <a:pt x="5234" y="12675"/>
                </a:cubicBezTo>
                <a:cubicBezTo>
                  <a:pt x="5251" y="12939"/>
                  <a:pt x="5244" y="13205"/>
                  <a:pt x="5259" y="13469"/>
                </a:cubicBezTo>
                <a:cubicBezTo>
                  <a:pt x="5261" y="13502"/>
                  <a:pt x="5236" y="13816"/>
                  <a:pt x="5283" y="13816"/>
                </a:cubicBezTo>
                <a:cubicBezTo>
                  <a:pt x="5320" y="13816"/>
                  <a:pt x="5304" y="13795"/>
                  <a:pt x="5333" y="13767"/>
                </a:cubicBezTo>
              </a:path>
              <a:path w="4615" h="2308">
                <a:moveTo>
                  <a:pt x="5879" y="12874"/>
                </a:moveTo>
                <a:cubicBezTo>
                  <a:pt x="5997" y="12874"/>
                  <a:pt x="6115" y="12886"/>
                  <a:pt x="6226" y="12898"/>
                </a:cubicBezTo>
                <a:cubicBezTo>
                  <a:pt x="6327" y="12909"/>
                  <a:pt x="6426" y="12918"/>
                  <a:pt x="6524" y="12923"/>
                </a:cubicBezTo>
                <a:cubicBezTo>
                  <a:pt x="6546" y="12924"/>
                  <a:pt x="6686" y="12948"/>
                  <a:pt x="6623" y="12948"/>
                </a:cubicBezTo>
              </a:path>
              <a:path w="4615" h="2308">
                <a:moveTo>
                  <a:pt x="5953" y="13196"/>
                </a:moveTo>
                <a:cubicBezTo>
                  <a:pt x="6087" y="13222"/>
                  <a:pt x="6191" y="13246"/>
                  <a:pt x="6325" y="13246"/>
                </a:cubicBezTo>
                <a:cubicBezTo>
                  <a:pt x="6438" y="13246"/>
                  <a:pt x="6538" y="13267"/>
                  <a:pt x="6648" y="13271"/>
                </a:cubicBezTo>
                <a:cubicBezTo>
                  <a:pt x="6705" y="13273"/>
                  <a:pt x="6869" y="13255"/>
                  <a:pt x="6846" y="13271"/>
                </a:cubicBezTo>
                <a:cubicBezTo>
                  <a:pt x="6823" y="13293"/>
                  <a:pt x="6818" y="13301"/>
                  <a:pt x="6796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59280" y="5205240"/>
            <a:ext cx="500400" cy="438480"/>
          </a:xfrm>
          <a:custGeom>
            <a:avLst/>
            <a:gdLst/>
            <a:ahLst/>
            <a:rect l="l" t="t" r="r" b="b"/>
            <a:pathLst>
              <a:path w="1390" h="1217">
                <a:moveTo>
                  <a:pt x="16049" y="14585"/>
                </a:moveTo>
                <a:cubicBezTo>
                  <a:pt x="16027" y="14542"/>
                  <a:pt x="16023" y="14530"/>
                  <a:pt x="15999" y="14511"/>
                </a:cubicBezTo>
                <a:cubicBezTo>
                  <a:pt x="16030" y="14521"/>
                  <a:pt x="16042" y="14588"/>
                  <a:pt x="16049" y="14635"/>
                </a:cubicBezTo>
                <a:cubicBezTo>
                  <a:pt x="16071" y="14780"/>
                  <a:pt x="16060" y="14935"/>
                  <a:pt x="16073" y="15081"/>
                </a:cubicBezTo>
                <a:cubicBezTo>
                  <a:pt x="16084" y="15197"/>
                  <a:pt x="16070" y="15406"/>
                  <a:pt x="16098" y="15528"/>
                </a:cubicBezTo>
                <a:cubicBezTo>
                  <a:pt x="16110" y="15582"/>
                  <a:pt x="16123" y="15726"/>
                  <a:pt x="16148" y="15677"/>
                </a:cubicBezTo>
                <a:cubicBezTo>
                  <a:pt x="16148" y="15660"/>
                  <a:pt x="16148" y="15644"/>
                  <a:pt x="16148" y="15627"/>
                </a:cubicBezTo>
              </a:path>
              <a:path w="1390" h="1217">
                <a:moveTo>
                  <a:pt x="16446" y="14585"/>
                </a:moveTo>
                <a:cubicBezTo>
                  <a:pt x="16541" y="14499"/>
                  <a:pt x="16591" y="14478"/>
                  <a:pt x="16718" y="14461"/>
                </a:cubicBezTo>
                <a:cubicBezTo>
                  <a:pt x="16797" y="14450"/>
                  <a:pt x="16967" y="14500"/>
                  <a:pt x="17016" y="14560"/>
                </a:cubicBezTo>
                <a:cubicBezTo>
                  <a:pt x="17079" y="14637"/>
                  <a:pt x="16995" y="14740"/>
                  <a:pt x="16966" y="14808"/>
                </a:cubicBezTo>
                <a:cubicBezTo>
                  <a:pt x="16934" y="14886"/>
                  <a:pt x="16881" y="14957"/>
                  <a:pt x="16818" y="15007"/>
                </a:cubicBezTo>
                <a:cubicBezTo>
                  <a:pt x="16774" y="15029"/>
                  <a:pt x="16763" y="15032"/>
                  <a:pt x="16743" y="15056"/>
                </a:cubicBezTo>
                <a:cubicBezTo>
                  <a:pt x="16850" y="15030"/>
                  <a:pt x="16843" y="15022"/>
                  <a:pt x="16991" y="15081"/>
                </a:cubicBezTo>
                <a:cubicBezTo>
                  <a:pt x="17096" y="15123"/>
                  <a:pt x="17158" y="15181"/>
                  <a:pt x="17239" y="15255"/>
                </a:cubicBezTo>
              </a:path>
              <a:path w="1390" h="1217">
                <a:moveTo>
                  <a:pt x="17264" y="15577"/>
                </a:moveTo>
                <a:cubicBezTo>
                  <a:pt x="17205" y="15599"/>
                  <a:pt x="17106" y="15666"/>
                  <a:pt x="17041" y="15652"/>
                </a:cubicBezTo>
                <a:cubicBezTo>
                  <a:pt x="16986" y="15640"/>
                  <a:pt x="16930" y="15603"/>
                  <a:pt x="16917" y="15553"/>
                </a:cubicBezTo>
              </a:path>
              <a:path w="1390" h="1217">
                <a:moveTo>
                  <a:pt x="17239" y="15156"/>
                </a:moveTo>
                <a:cubicBezTo>
                  <a:pt x="17289" y="15168"/>
                  <a:pt x="17296" y="15187"/>
                  <a:pt x="17314" y="15230"/>
                </a:cubicBezTo>
                <a:cubicBezTo>
                  <a:pt x="17333" y="15276"/>
                  <a:pt x="17346" y="15314"/>
                  <a:pt x="17363" y="15354"/>
                </a:cubicBezTo>
                <a:cubicBezTo>
                  <a:pt x="17388" y="15412"/>
                  <a:pt x="17388" y="15439"/>
                  <a:pt x="17388" y="15503"/>
                </a:cubicBezTo>
                <a:cubicBezTo>
                  <a:pt x="17348" y="15529"/>
                  <a:pt x="17380" y="15553"/>
                  <a:pt x="17314" y="15553"/>
                </a:cubicBezTo>
                <a:cubicBezTo>
                  <a:pt x="17259" y="15553"/>
                  <a:pt x="17279" y="15572"/>
                  <a:pt x="17239" y="15577"/>
                </a:cubicBezTo>
                <a:cubicBezTo>
                  <a:pt x="17207" y="15581"/>
                  <a:pt x="17196" y="15594"/>
                  <a:pt x="17165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87760" y="3990960"/>
            <a:ext cx="5983200" cy="1081080"/>
          </a:xfrm>
          <a:custGeom>
            <a:avLst/>
            <a:gdLst/>
            <a:ahLst/>
            <a:rect l="l" t="t" r="r" b="b"/>
            <a:pathLst>
              <a:path w="16620" h="3002">
                <a:moveTo>
                  <a:pt x="7838" y="11509"/>
                </a:moveTo>
                <a:cubicBezTo>
                  <a:pt x="7766" y="11546"/>
                  <a:pt x="7756" y="11533"/>
                  <a:pt x="7714" y="11609"/>
                </a:cubicBezTo>
                <a:cubicBezTo>
                  <a:pt x="7651" y="11723"/>
                  <a:pt x="7589" y="11835"/>
                  <a:pt x="7541" y="11956"/>
                </a:cubicBezTo>
                <a:cubicBezTo>
                  <a:pt x="7494" y="12074"/>
                  <a:pt x="7510" y="12205"/>
                  <a:pt x="7491" y="12328"/>
                </a:cubicBezTo>
                <a:cubicBezTo>
                  <a:pt x="7467" y="12481"/>
                  <a:pt x="7476" y="12665"/>
                  <a:pt x="7491" y="12824"/>
                </a:cubicBezTo>
                <a:cubicBezTo>
                  <a:pt x="7508" y="13001"/>
                  <a:pt x="7552" y="13180"/>
                  <a:pt x="7615" y="13345"/>
                </a:cubicBezTo>
                <a:cubicBezTo>
                  <a:pt x="7670" y="13488"/>
                  <a:pt x="7725" y="13599"/>
                  <a:pt x="7813" y="13717"/>
                </a:cubicBezTo>
                <a:cubicBezTo>
                  <a:pt x="7878" y="13804"/>
                  <a:pt x="7947" y="13878"/>
                  <a:pt x="8037" y="13940"/>
                </a:cubicBezTo>
                <a:cubicBezTo>
                  <a:pt x="8108" y="13989"/>
                  <a:pt x="8188" y="13967"/>
                  <a:pt x="8260" y="13940"/>
                </a:cubicBezTo>
              </a:path>
              <a:path w="16620" h="3002">
                <a:moveTo>
                  <a:pt x="8210" y="12700"/>
                </a:moveTo>
                <a:cubicBezTo>
                  <a:pt x="8263" y="12713"/>
                  <a:pt x="8296" y="12725"/>
                  <a:pt x="8359" y="12725"/>
                </a:cubicBezTo>
                <a:cubicBezTo>
                  <a:pt x="8494" y="12725"/>
                  <a:pt x="8626" y="12736"/>
                  <a:pt x="8756" y="12700"/>
                </a:cubicBezTo>
              </a:path>
              <a:path w="16620" h="3002">
                <a:moveTo>
                  <a:pt x="9674" y="12179"/>
                </a:moveTo>
                <a:cubicBezTo>
                  <a:pt x="9529" y="12179"/>
                  <a:pt x="9393" y="12185"/>
                  <a:pt x="9252" y="12204"/>
                </a:cubicBezTo>
                <a:cubicBezTo>
                  <a:pt x="9183" y="12214"/>
                  <a:pt x="9137" y="12193"/>
                  <a:pt x="9079" y="12229"/>
                </a:cubicBezTo>
                <a:cubicBezTo>
                  <a:pt x="9022" y="12264"/>
                  <a:pt x="8966" y="12339"/>
                  <a:pt x="8954" y="12402"/>
                </a:cubicBezTo>
                <a:cubicBezTo>
                  <a:pt x="8942" y="12466"/>
                  <a:pt x="8970" y="12495"/>
                  <a:pt x="8979" y="12551"/>
                </a:cubicBezTo>
                <a:cubicBezTo>
                  <a:pt x="8993" y="12640"/>
                  <a:pt x="9016" y="12716"/>
                  <a:pt x="9054" y="12799"/>
                </a:cubicBezTo>
                <a:cubicBezTo>
                  <a:pt x="9112" y="12787"/>
                  <a:pt x="9140" y="12777"/>
                  <a:pt x="9203" y="12750"/>
                </a:cubicBezTo>
                <a:cubicBezTo>
                  <a:pt x="9288" y="12714"/>
                  <a:pt x="9331" y="12700"/>
                  <a:pt x="9426" y="12700"/>
                </a:cubicBezTo>
                <a:cubicBezTo>
                  <a:pt x="9510" y="12700"/>
                  <a:pt x="9565" y="12743"/>
                  <a:pt x="9624" y="12799"/>
                </a:cubicBezTo>
                <a:cubicBezTo>
                  <a:pt x="9696" y="12867"/>
                  <a:pt x="9739" y="12955"/>
                  <a:pt x="9773" y="13047"/>
                </a:cubicBezTo>
                <a:cubicBezTo>
                  <a:pt x="9813" y="13156"/>
                  <a:pt x="9803" y="13259"/>
                  <a:pt x="9773" y="13370"/>
                </a:cubicBezTo>
                <a:cubicBezTo>
                  <a:pt x="9747" y="13466"/>
                  <a:pt x="9713" y="13565"/>
                  <a:pt x="9649" y="13643"/>
                </a:cubicBezTo>
                <a:cubicBezTo>
                  <a:pt x="9588" y="13718"/>
                  <a:pt x="9517" y="13786"/>
                  <a:pt x="9426" y="13816"/>
                </a:cubicBezTo>
                <a:cubicBezTo>
                  <a:pt x="9351" y="13840"/>
                  <a:pt x="9262" y="13843"/>
                  <a:pt x="9203" y="13791"/>
                </a:cubicBezTo>
                <a:cubicBezTo>
                  <a:pt x="9157" y="13751"/>
                  <a:pt x="9178" y="13670"/>
                  <a:pt x="9178" y="13618"/>
                </a:cubicBezTo>
              </a:path>
              <a:path w="16620" h="3002">
                <a:moveTo>
                  <a:pt x="9773" y="11782"/>
                </a:moveTo>
                <a:cubicBezTo>
                  <a:pt x="9862" y="11827"/>
                  <a:pt x="9949" y="11862"/>
                  <a:pt x="10021" y="11931"/>
                </a:cubicBezTo>
                <a:cubicBezTo>
                  <a:pt x="10113" y="12018"/>
                  <a:pt x="10233" y="12143"/>
                  <a:pt x="10294" y="12254"/>
                </a:cubicBezTo>
                <a:cubicBezTo>
                  <a:pt x="10377" y="12404"/>
                  <a:pt x="10489" y="12560"/>
                  <a:pt x="10542" y="12725"/>
                </a:cubicBezTo>
                <a:cubicBezTo>
                  <a:pt x="10620" y="12971"/>
                  <a:pt x="10666" y="13144"/>
                  <a:pt x="10666" y="13395"/>
                </a:cubicBezTo>
                <a:cubicBezTo>
                  <a:pt x="10666" y="13592"/>
                  <a:pt x="10647" y="13715"/>
                  <a:pt x="10542" y="13891"/>
                </a:cubicBezTo>
                <a:cubicBezTo>
                  <a:pt x="10501" y="13960"/>
                  <a:pt x="10401" y="14066"/>
                  <a:pt x="10319" y="14089"/>
                </a:cubicBezTo>
                <a:cubicBezTo>
                  <a:pt x="10220" y="14116"/>
                  <a:pt x="10222" y="14077"/>
                  <a:pt x="10195" y="14015"/>
                </a:cubicBezTo>
              </a:path>
              <a:path w="16620" h="3002">
                <a:moveTo>
                  <a:pt x="10418" y="11782"/>
                </a:moveTo>
                <a:cubicBezTo>
                  <a:pt x="10471" y="11686"/>
                  <a:pt x="10544" y="11607"/>
                  <a:pt x="10666" y="11584"/>
                </a:cubicBezTo>
                <a:cubicBezTo>
                  <a:pt x="10752" y="11568"/>
                  <a:pt x="10935" y="11561"/>
                  <a:pt x="11013" y="11609"/>
                </a:cubicBezTo>
                <a:cubicBezTo>
                  <a:pt x="11110" y="11668"/>
                  <a:pt x="11077" y="11698"/>
                  <a:pt x="11063" y="11782"/>
                </a:cubicBezTo>
                <a:cubicBezTo>
                  <a:pt x="11047" y="11878"/>
                  <a:pt x="10971" y="11902"/>
                  <a:pt x="10914" y="11981"/>
                </a:cubicBezTo>
                <a:cubicBezTo>
                  <a:pt x="10877" y="12032"/>
                  <a:pt x="10819" y="12089"/>
                  <a:pt x="10815" y="12154"/>
                </a:cubicBezTo>
                <a:cubicBezTo>
                  <a:pt x="10807" y="12271"/>
                  <a:pt x="10865" y="12244"/>
                  <a:pt x="10939" y="12278"/>
                </a:cubicBezTo>
                <a:cubicBezTo>
                  <a:pt x="10996" y="12304"/>
                  <a:pt x="11014" y="12303"/>
                  <a:pt x="11088" y="12303"/>
                </a:cubicBezTo>
              </a:path>
              <a:path w="16620" h="3002">
                <a:moveTo>
                  <a:pt x="11832" y="12601"/>
                </a:moveTo>
                <a:cubicBezTo>
                  <a:pt x="11832" y="12683"/>
                  <a:pt x="11854" y="12743"/>
                  <a:pt x="11857" y="12824"/>
                </a:cubicBezTo>
                <a:cubicBezTo>
                  <a:pt x="11861" y="12939"/>
                  <a:pt x="11876" y="13060"/>
                  <a:pt x="11906" y="13171"/>
                </a:cubicBezTo>
                <a:cubicBezTo>
                  <a:pt x="11936" y="13283"/>
                  <a:pt x="11951" y="13402"/>
                  <a:pt x="11956" y="13519"/>
                </a:cubicBezTo>
                <a:cubicBezTo>
                  <a:pt x="11959" y="13579"/>
                  <a:pt x="11987" y="13729"/>
                  <a:pt x="11931" y="13692"/>
                </a:cubicBezTo>
              </a:path>
              <a:path w="16620" h="3002">
                <a:moveTo>
                  <a:pt x="11733" y="13271"/>
                </a:moveTo>
                <a:cubicBezTo>
                  <a:pt x="11949" y="13192"/>
                  <a:pt x="12043" y="13146"/>
                  <a:pt x="12254" y="13146"/>
                </a:cubicBezTo>
                <a:cubicBezTo>
                  <a:pt x="12333" y="13146"/>
                  <a:pt x="12412" y="13160"/>
                  <a:pt x="12477" y="13122"/>
                </a:cubicBezTo>
              </a:path>
              <a:path w="16620" h="3002">
                <a:moveTo>
                  <a:pt x="13072" y="11559"/>
                </a:moveTo>
                <a:cubicBezTo>
                  <a:pt x="13016" y="11623"/>
                  <a:pt x="12959" y="11704"/>
                  <a:pt x="12923" y="11782"/>
                </a:cubicBezTo>
                <a:cubicBezTo>
                  <a:pt x="12861" y="11916"/>
                  <a:pt x="12838" y="12085"/>
                  <a:pt x="12824" y="12229"/>
                </a:cubicBezTo>
                <a:cubicBezTo>
                  <a:pt x="12811" y="12366"/>
                  <a:pt x="12839" y="12494"/>
                  <a:pt x="12849" y="12626"/>
                </a:cubicBezTo>
                <a:cubicBezTo>
                  <a:pt x="12863" y="12812"/>
                  <a:pt x="12938" y="12942"/>
                  <a:pt x="12998" y="13122"/>
                </a:cubicBezTo>
                <a:cubicBezTo>
                  <a:pt x="13039" y="13246"/>
                  <a:pt x="13098" y="13334"/>
                  <a:pt x="13171" y="13444"/>
                </a:cubicBezTo>
                <a:cubicBezTo>
                  <a:pt x="13235" y="13541"/>
                  <a:pt x="13286" y="13553"/>
                  <a:pt x="13370" y="13618"/>
                </a:cubicBezTo>
                <a:cubicBezTo>
                  <a:pt x="13417" y="13655"/>
                  <a:pt x="13415" y="13654"/>
                  <a:pt x="13469" y="13667"/>
                </a:cubicBezTo>
              </a:path>
              <a:path w="16620" h="3002">
                <a:moveTo>
                  <a:pt x="13742" y="11981"/>
                </a:moveTo>
                <a:cubicBezTo>
                  <a:pt x="13742" y="12068"/>
                  <a:pt x="13762" y="12144"/>
                  <a:pt x="13767" y="12229"/>
                </a:cubicBezTo>
                <a:cubicBezTo>
                  <a:pt x="13781" y="12452"/>
                  <a:pt x="13774" y="12677"/>
                  <a:pt x="13791" y="12898"/>
                </a:cubicBezTo>
                <a:cubicBezTo>
                  <a:pt x="13800" y="13014"/>
                  <a:pt x="13804" y="13069"/>
                  <a:pt x="13841" y="13171"/>
                </a:cubicBezTo>
                <a:cubicBezTo>
                  <a:pt x="13856" y="13212"/>
                  <a:pt x="13853" y="13199"/>
                  <a:pt x="13891" y="13171"/>
                </a:cubicBezTo>
              </a:path>
              <a:path w="16620" h="3002">
                <a:moveTo>
                  <a:pt x="14039" y="12129"/>
                </a:moveTo>
                <a:cubicBezTo>
                  <a:pt x="14102" y="12010"/>
                  <a:pt x="14117" y="11921"/>
                  <a:pt x="14263" y="11881"/>
                </a:cubicBezTo>
                <a:cubicBezTo>
                  <a:pt x="14314" y="11867"/>
                  <a:pt x="14447" y="11883"/>
                  <a:pt x="14486" y="11906"/>
                </a:cubicBezTo>
                <a:cubicBezTo>
                  <a:pt x="14584" y="11963"/>
                  <a:pt x="14691" y="12060"/>
                  <a:pt x="14709" y="12179"/>
                </a:cubicBezTo>
                <a:cubicBezTo>
                  <a:pt x="14722" y="12266"/>
                  <a:pt x="14681" y="12402"/>
                  <a:pt x="14635" y="12477"/>
                </a:cubicBezTo>
                <a:cubicBezTo>
                  <a:pt x="14563" y="12593"/>
                  <a:pt x="14486" y="12709"/>
                  <a:pt x="14412" y="12824"/>
                </a:cubicBezTo>
                <a:cubicBezTo>
                  <a:pt x="14354" y="12914"/>
                  <a:pt x="14317" y="12946"/>
                  <a:pt x="14362" y="13047"/>
                </a:cubicBezTo>
                <a:cubicBezTo>
                  <a:pt x="14401" y="13135"/>
                  <a:pt x="14471" y="13192"/>
                  <a:pt x="14560" y="13221"/>
                </a:cubicBezTo>
                <a:cubicBezTo>
                  <a:pt x="14678" y="13259"/>
                  <a:pt x="14811" y="13283"/>
                  <a:pt x="14932" y="13295"/>
                </a:cubicBezTo>
                <a:cubicBezTo>
                  <a:pt x="14957" y="13295"/>
                  <a:pt x="14982" y="13295"/>
                  <a:pt x="15007" y="13295"/>
                </a:cubicBezTo>
              </a:path>
              <a:path w="16620" h="3002">
                <a:moveTo>
                  <a:pt x="14932" y="11509"/>
                </a:moveTo>
                <a:cubicBezTo>
                  <a:pt x="15041" y="11519"/>
                  <a:pt x="15095" y="11558"/>
                  <a:pt x="15180" y="11633"/>
                </a:cubicBezTo>
                <a:cubicBezTo>
                  <a:pt x="15280" y="11722"/>
                  <a:pt x="15366" y="11840"/>
                  <a:pt x="15429" y="11956"/>
                </a:cubicBezTo>
                <a:cubicBezTo>
                  <a:pt x="15505" y="12096"/>
                  <a:pt x="15557" y="12227"/>
                  <a:pt x="15602" y="12378"/>
                </a:cubicBezTo>
                <a:cubicBezTo>
                  <a:pt x="15644" y="12520"/>
                  <a:pt x="15657" y="12655"/>
                  <a:pt x="15677" y="12799"/>
                </a:cubicBezTo>
                <a:cubicBezTo>
                  <a:pt x="15699" y="12957"/>
                  <a:pt x="15693" y="13097"/>
                  <a:pt x="15627" y="13246"/>
                </a:cubicBezTo>
                <a:cubicBezTo>
                  <a:pt x="15593" y="13322"/>
                  <a:pt x="15559" y="13412"/>
                  <a:pt x="15478" y="13444"/>
                </a:cubicBezTo>
                <a:cubicBezTo>
                  <a:pt x="15420" y="13467"/>
                  <a:pt x="15407" y="13428"/>
                  <a:pt x="15379" y="13395"/>
                </a:cubicBezTo>
              </a:path>
              <a:path w="16620" h="3002">
                <a:moveTo>
                  <a:pt x="15429" y="11435"/>
                </a:moveTo>
                <a:cubicBezTo>
                  <a:pt x="15454" y="11371"/>
                  <a:pt x="15474" y="11305"/>
                  <a:pt x="15553" y="11286"/>
                </a:cubicBezTo>
                <a:cubicBezTo>
                  <a:pt x="15635" y="11267"/>
                  <a:pt x="15695" y="11251"/>
                  <a:pt x="15776" y="11286"/>
                </a:cubicBezTo>
                <a:cubicBezTo>
                  <a:pt x="15849" y="11317"/>
                  <a:pt x="15924" y="11309"/>
                  <a:pt x="15974" y="11385"/>
                </a:cubicBezTo>
                <a:cubicBezTo>
                  <a:pt x="16021" y="11456"/>
                  <a:pt x="15962" y="11514"/>
                  <a:pt x="15925" y="11584"/>
                </a:cubicBezTo>
                <a:cubicBezTo>
                  <a:pt x="15893" y="11645"/>
                  <a:pt x="15843" y="11696"/>
                  <a:pt x="15801" y="11757"/>
                </a:cubicBezTo>
                <a:cubicBezTo>
                  <a:pt x="15783" y="11783"/>
                  <a:pt x="15755" y="11844"/>
                  <a:pt x="15776" y="11881"/>
                </a:cubicBezTo>
                <a:cubicBezTo>
                  <a:pt x="15804" y="11930"/>
                  <a:pt x="15925" y="11972"/>
                  <a:pt x="15974" y="11981"/>
                </a:cubicBezTo>
                <a:cubicBezTo>
                  <a:pt x="16057" y="11997"/>
                  <a:pt x="16136" y="12005"/>
                  <a:pt x="16222" y="12005"/>
                </a:cubicBezTo>
              </a:path>
              <a:path w="16620" h="3002">
                <a:moveTo>
                  <a:pt x="16446" y="12650"/>
                </a:moveTo>
                <a:cubicBezTo>
                  <a:pt x="16544" y="12593"/>
                  <a:pt x="16626" y="12556"/>
                  <a:pt x="16743" y="12551"/>
                </a:cubicBezTo>
                <a:cubicBezTo>
                  <a:pt x="16790" y="12549"/>
                  <a:pt x="16912" y="12529"/>
                  <a:pt x="16942" y="12576"/>
                </a:cubicBezTo>
                <a:cubicBezTo>
                  <a:pt x="16942" y="12622"/>
                  <a:pt x="16930" y="12649"/>
                  <a:pt x="16892" y="12675"/>
                </a:cubicBezTo>
              </a:path>
              <a:path w="16620" h="3002">
                <a:moveTo>
                  <a:pt x="16495" y="12849"/>
                </a:moveTo>
                <a:cubicBezTo>
                  <a:pt x="16470" y="12849"/>
                  <a:pt x="16462" y="12849"/>
                  <a:pt x="16470" y="12874"/>
                </a:cubicBezTo>
                <a:cubicBezTo>
                  <a:pt x="16558" y="12874"/>
                  <a:pt x="16633" y="12877"/>
                  <a:pt x="16718" y="12898"/>
                </a:cubicBezTo>
                <a:cubicBezTo>
                  <a:pt x="16846" y="12929"/>
                  <a:pt x="16953" y="12957"/>
                  <a:pt x="17066" y="13022"/>
                </a:cubicBezTo>
              </a:path>
              <a:path w="16620" h="3002">
                <a:moveTo>
                  <a:pt x="17512" y="11757"/>
                </a:moveTo>
                <a:cubicBezTo>
                  <a:pt x="17587" y="11701"/>
                  <a:pt x="17600" y="11655"/>
                  <a:pt x="17636" y="11708"/>
                </a:cubicBezTo>
                <a:cubicBezTo>
                  <a:pt x="17688" y="11794"/>
                  <a:pt x="17666" y="11856"/>
                  <a:pt x="17661" y="11956"/>
                </a:cubicBezTo>
                <a:cubicBezTo>
                  <a:pt x="17653" y="12105"/>
                  <a:pt x="17639" y="12254"/>
                  <a:pt x="17636" y="12402"/>
                </a:cubicBezTo>
                <a:cubicBezTo>
                  <a:pt x="17632" y="12578"/>
                  <a:pt x="17615" y="12748"/>
                  <a:pt x="17611" y="12923"/>
                </a:cubicBezTo>
                <a:cubicBezTo>
                  <a:pt x="17608" y="13051"/>
                  <a:pt x="17648" y="13171"/>
                  <a:pt x="17661" y="13295"/>
                </a:cubicBezTo>
                <a:cubicBezTo>
                  <a:pt x="17670" y="13382"/>
                  <a:pt x="17656" y="13365"/>
                  <a:pt x="17711" y="13419"/>
                </a:cubicBezTo>
              </a:path>
              <a:path w="16620" h="3002">
                <a:moveTo>
                  <a:pt x="18157" y="11956"/>
                </a:moveTo>
                <a:cubicBezTo>
                  <a:pt x="18128" y="12028"/>
                  <a:pt x="18108" y="12103"/>
                  <a:pt x="18083" y="12179"/>
                </a:cubicBezTo>
                <a:cubicBezTo>
                  <a:pt x="18048" y="12286"/>
                  <a:pt x="17994" y="12414"/>
                  <a:pt x="17983" y="12526"/>
                </a:cubicBezTo>
                <a:cubicBezTo>
                  <a:pt x="17970" y="12654"/>
                  <a:pt x="17970" y="12850"/>
                  <a:pt x="18008" y="12973"/>
                </a:cubicBezTo>
                <a:cubicBezTo>
                  <a:pt x="18046" y="13096"/>
                  <a:pt x="18147" y="13229"/>
                  <a:pt x="18231" y="13320"/>
                </a:cubicBezTo>
                <a:cubicBezTo>
                  <a:pt x="18309" y="13404"/>
                  <a:pt x="18439" y="13477"/>
                  <a:pt x="18554" y="13494"/>
                </a:cubicBezTo>
                <a:cubicBezTo>
                  <a:pt x="18676" y="13512"/>
                  <a:pt x="18889" y="13459"/>
                  <a:pt x="18976" y="13370"/>
                </a:cubicBezTo>
                <a:cubicBezTo>
                  <a:pt x="19067" y="13276"/>
                  <a:pt x="19078" y="13114"/>
                  <a:pt x="19025" y="12998"/>
                </a:cubicBezTo>
                <a:cubicBezTo>
                  <a:pt x="18984" y="12909"/>
                  <a:pt x="18918" y="12820"/>
                  <a:pt x="18852" y="12750"/>
                </a:cubicBezTo>
                <a:cubicBezTo>
                  <a:pt x="18793" y="12687"/>
                  <a:pt x="18708" y="12641"/>
                  <a:pt x="18628" y="12700"/>
                </a:cubicBezTo>
                <a:cubicBezTo>
                  <a:pt x="18513" y="12784"/>
                  <a:pt x="18529" y="12848"/>
                  <a:pt x="18504" y="12973"/>
                </a:cubicBezTo>
                <a:cubicBezTo>
                  <a:pt x="18482" y="13081"/>
                  <a:pt x="18481" y="13187"/>
                  <a:pt x="18455" y="13295"/>
                </a:cubicBezTo>
              </a:path>
              <a:path w="16620" h="3002">
                <a:moveTo>
                  <a:pt x="19745" y="12303"/>
                </a:moveTo>
                <a:cubicBezTo>
                  <a:pt x="19736" y="12204"/>
                  <a:pt x="19718" y="12203"/>
                  <a:pt x="19670" y="12129"/>
                </a:cubicBezTo>
                <a:cubicBezTo>
                  <a:pt x="19623" y="12057"/>
                  <a:pt x="19512" y="12058"/>
                  <a:pt x="19422" y="12055"/>
                </a:cubicBezTo>
                <a:cubicBezTo>
                  <a:pt x="19324" y="12052"/>
                  <a:pt x="19195" y="12077"/>
                  <a:pt x="19124" y="12154"/>
                </a:cubicBezTo>
                <a:cubicBezTo>
                  <a:pt x="19087" y="12194"/>
                  <a:pt x="19040" y="12323"/>
                  <a:pt x="19050" y="12378"/>
                </a:cubicBezTo>
                <a:cubicBezTo>
                  <a:pt x="19060" y="12438"/>
                  <a:pt x="19115" y="12501"/>
                  <a:pt x="19174" y="12526"/>
                </a:cubicBezTo>
                <a:cubicBezTo>
                  <a:pt x="19287" y="12574"/>
                  <a:pt x="19340" y="12576"/>
                  <a:pt x="19447" y="12526"/>
                </a:cubicBezTo>
                <a:cubicBezTo>
                  <a:pt x="19518" y="12492"/>
                  <a:pt x="19598" y="12418"/>
                  <a:pt x="19645" y="12353"/>
                </a:cubicBezTo>
                <a:cubicBezTo>
                  <a:pt x="19708" y="12265"/>
                  <a:pt x="19642" y="12151"/>
                  <a:pt x="19670" y="12055"/>
                </a:cubicBezTo>
                <a:cubicBezTo>
                  <a:pt x="19678" y="12055"/>
                  <a:pt x="19687" y="12055"/>
                  <a:pt x="19695" y="12055"/>
                </a:cubicBezTo>
                <a:cubicBezTo>
                  <a:pt x="19695" y="12111"/>
                  <a:pt x="19713" y="12153"/>
                  <a:pt x="19720" y="12204"/>
                </a:cubicBezTo>
                <a:cubicBezTo>
                  <a:pt x="19733" y="12306"/>
                  <a:pt x="19728" y="12401"/>
                  <a:pt x="19745" y="12502"/>
                </a:cubicBezTo>
                <a:cubicBezTo>
                  <a:pt x="19767" y="12628"/>
                  <a:pt x="19775" y="12750"/>
                  <a:pt x="19794" y="12874"/>
                </a:cubicBezTo>
                <a:cubicBezTo>
                  <a:pt x="19807" y="12959"/>
                  <a:pt x="19796" y="13088"/>
                  <a:pt x="19819" y="13171"/>
                </a:cubicBezTo>
                <a:cubicBezTo>
                  <a:pt x="19839" y="13212"/>
                  <a:pt x="19848" y="13218"/>
                  <a:pt x="19844" y="13246"/>
                </a:cubicBezTo>
              </a:path>
              <a:path w="16620" h="3002">
                <a:moveTo>
                  <a:pt x="16892" y="13543"/>
                </a:moveTo>
                <a:cubicBezTo>
                  <a:pt x="16959" y="13540"/>
                  <a:pt x="16980" y="13530"/>
                  <a:pt x="17041" y="13543"/>
                </a:cubicBezTo>
                <a:cubicBezTo>
                  <a:pt x="17089" y="13553"/>
                  <a:pt x="17169" y="13550"/>
                  <a:pt x="17214" y="13568"/>
                </a:cubicBezTo>
                <a:cubicBezTo>
                  <a:pt x="17244" y="13598"/>
                  <a:pt x="17258" y="13609"/>
                  <a:pt x="17289" y="13618"/>
                </a:cubicBezTo>
                <a:cubicBezTo>
                  <a:pt x="17289" y="13507"/>
                  <a:pt x="17270" y="13401"/>
                  <a:pt x="17264" y="13295"/>
                </a:cubicBezTo>
                <a:cubicBezTo>
                  <a:pt x="17252" y="13078"/>
                  <a:pt x="17278" y="12863"/>
                  <a:pt x="17289" y="12650"/>
                </a:cubicBezTo>
                <a:cubicBezTo>
                  <a:pt x="17300" y="12450"/>
                  <a:pt x="17334" y="12256"/>
                  <a:pt x="17338" y="12055"/>
                </a:cubicBezTo>
                <a:cubicBezTo>
                  <a:pt x="17341" y="11920"/>
                  <a:pt x="17312" y="11791"/>
                  <a:pt x="17289" y="11658"/>
                </a:cubicBezTo>
                <a:cubicBezTo>
                  <a:pt x="17271" y="11552"/>
                  <a:pt x="17227" y="11446"/>
                  <a:pt x="17239" y="11336"/>
                </a:cubicBezTo>
                <a:cubicBezTo>
                  <a:pt x="17251" y="11227"/>
                  <a:pt x="17289" y="11201"/>
                  <a:pt x="17388" y="11162"/>
                </a:cubicBezTo>
                <a:cubicBezTo>
                  <a:pt x="17535" y="11105"/>
                  <a:pt x="17679" y="11091"/>
                  <a:pt x="17835" y="11088"/>
                </a:cubicBezTo>
                <a:cubicBezTo>
                  <a:pt x="18088" y="11083"/>
                  <a:pt x="18328" y="11106"/>
                  <a:pt x="18579" y="11137"/>
                </a:cubicBezTo>
                <a:cubicBezTo>
                  <a:pt x="18924" y="11180"/>
                  <a:pt x="19274" y="11253"/>
                  <a:pt x="19621" y="11261"/>
                </a:cubicBezTo>
                <a:cubicBezTo>
                  <a:pt x="19754" y="11264"/>
                  <a:pt x="19838" y="11226"/>
                  <a:pt x="19943" y="11187"/>
                </a:cubicBezTo>
              </a:path>
              <a:path w="16620" h="3002">
                <a:moveTo>
                  <a:pt x="20389" y="11931"/>
                </a:moveTo>
                <a:cubicBezTo>
                  <a:pt x="20401" y="11981"/>
                  <a:pt x="20454" y="12024"/>
                  <a:pt x="20464" y="12080"/>
                </a:cubicBezTo>
                <a:cubicBezTo>
                  <a:pt x="20482" y="12180"/>
                  <a:pt x="20499" y="12279"/>
                  <a:pt x="20538" y="12378"/>
                </a:cubicBezTo>
                <a:cubicBezTo>
                  <a:pt x="20562" y="12426"/>
                  <a:pt x="20571" y="12440"/>
                  <a:pt x="20563" y="12477"/>
                </a:cubicBezTo>
              </a:path>
              <a:path w="16620" h="3002">
                <a:moveTo>
                  <a:pt x="20563" y="12551"/>
                </a:moveTo>
                <a:cubicBezTo>
                  <a:pt x="20527" y="12491"/>
                  <a:pt x="20472" y="12436"/>
                  <a:pt x="20439" y="12378"/>
                </a:cubicBezTo>
                <a:cubicBezTo>
                  <a:pt x="20383" y="12280"/>
                  <a:pt x="20369" y="12139"/>
                  <a:pt x="20365" y="12030"/>
                </a:cubicBezTo>
                <a:cubicBezTo>
                  <a:pt x="20358" y="11833"/>
                  <a:pt x="20363" y="11819"/>
                  <a:pt x="20489" y="11708"/>
                </a:cubicBezTo>
                <a:cubicBezTo>
                  <a:pt x="20551" y="11654"/>
                  <a:pt x="20618" y="11648"/>
                  <a:pt x="20687" y="11683"/>
                </a:cubicBezTo>
                <a:cubicBezTo>
                  <a:pt x="20775" y="11728"/>
                  <a:pt x="20766" y="11788"/>
                  <a:pt x="20762" y="11881"/>
                </a:cubicBezTo>
                <a:cubicBezTo>
                  <a:pt x="20759" y="11948"/>
                  <a:pt x="20751" y="11941"/>
                  <a:pt x="20737" y="12005"/>
                </a:cubicBezTo>
                <a:cubicBezTo>
                  <a:pt x="20752" y="11975"/>
                  <a:pt x="20679" y="11977"/>
                  <a:pt x="20712" y="11981"/>
                </a:cubicBezTo>
                <a:cubicBezTo>
                  <a:pt x="20788" y="11990"/>
                  <a:pt x="20838" y="11999"/>
                  <a:pt x="20886" y="12080"/>
                </a:cubicBezTo>
                <a:cubicBezTo>
                  <a:pt x="20949" y="12185"/>
                  <a:pt x="21016" y="12371"/>
                  <a:pt x="20985" y="12502"/>
                </a:cubicBezTo>
                <a:cubicBezTo>
                  <a:pt x="20976" y="12539"/>
                  <a:pt x="20928" y="12637"/>
                  <a:pt x="20886" y="12650"/>
                </a:cubicBezTo>
                <a:cubicBezTo>
                  <a:pt x="20832" y="12667"/>
                  <a:pt x="20772" y="12639"/>
                  <a:pt x="20737" y="12601"/>
                </a:cubicBezTo>
                <a:cubicBezTo>
                  <a:pt x="20691" y="12551"/>
                  <a:pt x="20694" y="12474"/>
                  <a:pt x="20687" y="12452"/>
                </a:cubicBezTo>
                <a:cubicBezTo>
                  <a:pt x="20722" y="12468"/>
                  <a:pt x="20774" y="12518"/>
                  <a:pt x="20811" y="12526"/>
                </a:cubicBezTo>
                <a:cubicBezTo>
                  <a:pt x="20858" y="12536"/>
                  <a:pt x="20973" y="12524"/>
                  <a:pt x="21010" y="12502"/>
                </a:cubicBezTo>
                <a:cubicBezTo>
                  <a:pt x="21055" y="12476"/>
                  <a:pt x="21095" y="12422"/>
                  <a:pt x="21109" y="12378"/>
                </a:cubicBezTo>
                <a:cubicBezTo>
                  <a:pt x="21131" y="12309"/>
                  <a:pt x="21080" y="12202"/>
                  <a:pt x="21084" y="12154"/>
                </a:cubicBezTo>
                <a:cubicBezTo>
                  <a:pt x="21088" y="12094"/>
                  <a:pt x="21062" y="12154"/>
                  <a:pt x="21134" y="12105"/>
                </a:cubicBezTo>
                <a:cubicBezTo>
                  <a:pt x="21176" y="12076"/>
                  <a:pt x="21215" y="12032"/>
                  <a:pt x="21258" y="12005"/>
                </a:cubicBezTo>
                <a:cubicBezTo>
                  <a:pt x="21286" y="12005"/>
                  <a:pt x="21296" y="12003"/>
                  <a:pt x="21307" y="11981"/>
                </a:cubicBezTo>
                <a:cubicBezTo>
                  <a:pt x="21306" y="11998"/>
                  <a:pt x="21319" y="12080"/>
                  <a:pt x="21307" y="12154"/>
                </a:cubicBezTo>
                <a:cubicBezTo>
                  <a:pt x="21293" y="12238"/>
                  <a:pt x="21284" y="12312"/>
                  <a:pt x="21282" y="12402"/>
                </a:cubicBezTo>
                <a:cubicBezTo>
                  <a:pt x="21281" y="12465"/>
                  <a:pt x="21286" y="12500"/>
                  <a:pt x="21307" y="12551"/>
                </a:cubicBezTo>
                <a:cubicBezTo>
                  <a:pt x="21315" y="12559"/>
                  <a:pt x="21324" y="12568"/>
                  <a:pt x="21332" y="12576"/>
                </a:cubicBezTo>
                <a:cubicBezTo>
                  <a:pt x="21369" y="12534"/>
                  <a:pt x="21426" y="12471"/>
                  <a:pt x="21456" y="12402"/>
                </a:cubicBezTo>
                <a:cubicBezTo>
                  <a:pt x="21475" y="12357"/>
                  <a:pt x="21491" y="12307"/>
                  <a:pt x="21506" y="12254"/>
                </a:cubicBezTo>
                <a:cubicBezTo>
                  <a:pt x="21517" y="12311"/>
                  <a:pt x="21496" y="12271"/>
                  <a:pt x="21506" y="12328"/>
                </a:cubicBezTo>
                <a:cubicBezTo>
                  <a:pt x="21517" y="12390"/>
                  <a:pt x="21553" y="12423"/>
                  <a:pt x="21605" y="12452"/>
                </a:cubicBezTo>
                <a:cubicBezTo>
                  <a:pt x="21647" y="12476"/>
                  <a:pt x="21660" y="12462"/>
                  <a:pt x="21704" y="12477"/>
                </a:cubicBezTo>
                <a:cubicBezTo>
                  <a:pt x="21735" y="12427"/>
                  <a:pt x="21755" y="12411"/>
                  <a:pt x="21779" y="12353"/>
                </a:cubicBezTo>
                <a:cubicBezTo>
                  <a:pt x="21808" y="12283"/>
                  <a:pt x="21824" y="12181"/>
                  <a:pt x="21878" y="12129"/>
                </a:cubicBezTo>
                <a:cubicBezTo>
                  <a:pt x="21935" y="12075"/>
                  <a:pt x="21954" y="12123"/>
                  <a:pt x="22002" y="12129"/>
                </a:cubicBezTo>
                <a:cubicBezTo>
                  <a:pt x="22030" y="12129"/>
                  <a:pt x="22041" y="12131"/>
                  <a:pt x="22051" y="12154"/>
                </a:cubicBezTo>
                <a:cubicBezTo>
                  <a:pt x="22015" y="12150"/>
                  <a:pt x="22010" y="12170"/>
                  <a:pt x="21977" y="12154"/>
                </a:cubicBezTo>
                <a:cubicBezTo>
                  <a:pt x="21943" y="12137"/>
                  <a:pt x="21920" y="12105"/>
                  <a:pt x="21878" y="12105"/>
                </a:cubicBezTo>
                <a:cubicBezTo>
                  <a:pt x="21861" y="12113"/>
                  <a:pt x="21845" y="12121"/>
                  <a:pt x="21828" y="12129"/>
                </a:cubicBezTo>
                <a:cubicBezTo>
                  <a:pt x="21822" y="12178"/>
                  <a:pt x="21784" y="12217"/>
                  <a:pt x="21803" y="12278"/>
                </a:cubicBezTo>
                <a:cubicBezTo>
                  <a:pt x="21821" y="12335"/>
                  <a:pt x="21875" y="12387"/>
                  <a:pt x="21927" y="12402"/>
                </a:cubicBezTo>
                <a:cubicBezTo>
                  <a:pt x="22000" y="12423"/>
                  <a:pt x="22024" y="12398"/>
                  <a:pt x="22051" y="12378"/>
                </a:cubicBezTo>
                <a:cubicBezTo>
                  <a:pt x="22098" y="12343"/>
                  <a:pt x="22115" y="12234"/>
                  <a:pt x="22126" y="12179"/>
                </a:cubicBezTo>
                <a:cubicBezTo>
                  <a:pt x="22126" y="12171"/>
                  <a:pt x="22126" y="12162"/>
                  <a:pt x="22126" y="12154"/>
                </a:cubicBezTo>
                <a:cubicBezTo>
                  <a:pt x="22158" y="12191"/>
                  <a:pt x="22187" y="12251"/>
                  <a:pt x="22225" y="12278"/>
                </a:cubicBezTo>
                <a:cubicBezTo>
                  <a:pt x="22273" y="12311"/>
                  <a:pt x="22279" y="12288"/>
                  <a:pt x="22299" y="12278"/>
                </a:cubicBezTo>
                <a:cubicBezTo>
                  <a:pt x="22368" y="12244"/>
                  <a:pt x="22369" y="12225"/>
                  <a:pt x="22399" y="12129"/>
                </a:cubicBezTo>
                <a:cubicBezTo>
                  <a:pt x="22418" y="12052"/>
                  <a:pt x="22410" y="12034"/>
                  <a:pt x="22448" y="12005"/>
                </a:cubicBezTo>
                <a:cubicBezTo>
                  <a:pt x="22470" y="12030"/>
                  <a:pt x="22516" y="12094"/>
                  <a:pt x="22547" y="12129"/>
                </a:cubicBezTo>
                <a:cubicBezTo>
                  <a:pt x="22586" y="12173"/>
                  <a:pt x="22628" y="12203"/>
                  <a:pt x="22671" y="12229"/>
                </a:cubicBezTo>
                <a:cubicBezTo>
                  <a:pt x="22679" y="12229"/>
                  <a:pt x="22688" y="12229"/>
                  <a:pt x="22696" y="12229"/>
                </a:cubicBezTo>
                <a:cubicBezTo>
                  <a:pt x="22722" y="12196"/>
                  <a:pt x="22749" y="12161"/>
                  <a:pt x="22771" y="12105"/>
                </a:cubicBezTo>
                <a:cubicBezTo>
                  <a:pt x="22786" y="12066"/>
                  <a:pt x="22810" y="12022"/>
                  <a:pt x="22820" y="12005"/>
                </a:cubicBezTo>
                <a:cubicBezTo>
                  <a:pt x="22845" y="12033"/>
                  <a:pt x="22885" y="12090"/>
                  <a:pt x="22920" y="12129"/>
                </a:cubicBezTo>
                <a:cubicBezTo>
                  <a:pt x="22953" y="12166"/>
                  <a:pt x="22984" y="12183"/>
                  <a:pt x="23019" y="12204"/>
                </a:cubicBezTo>
                <a:cubicBezTo>
                  <a:pt x="23027" y="12204"/>
                  <a:pt x="23036" y="12204"/>
                  <a:pt x="23044" y="12204"/>
                </a:cubicBezTo>
                <a:cubicBezTo>
                  <a:pt x="23074" y="12136"/>
                  <a:pt x="23101" y="12075"/>
                  <a:pt x="23118" y="12005"/>
                </a:cubicBezTo>
                <a:cubicBezTo>
                  <a:pt x="23132" y="11949"/>
                  <a:pt x="23130" y="11888"/>
                  <a:pt x="23143" y="11832"/>
                </a:cubicBezTo>
                <a:cubicBezTo>
                  <a:pt x="23185" y="11850"/>
                  <a:pt x="23199" y="11853"/>
                  <a:pt x="23242" y="11881"/>
                </a:cubicBezTo>
                <a:cubicBezTo>
                  <a:pt x="23285" y="11908"/>
                  <a:pt x="23326" y="11937"/>
                  <a:pt x="23366" y="11956"/>
                </a:cubicBezTo>
                <a:cubicBezTo>
                  <a:pt x="23388" y="11967"/>
                  <a:pt x="23432" y="12003"/>
                  <a:pt x="23465" y="11981"/>
                </a:cubicBezTo>
                <a:cubicBezTo>
                  <a:pt x="23542" y="11930"/>
                  <a:pt x="23530" y="11829"/>
                  <a:pt x="23564" y="11757"/>
                </a:cubicBezTo>
                <a:cubicBezTo>
                  <a:pt x="23572" y="11749"/>
                  <a:pt x="23581" y="11741"/>
                  <a:pt x="23589" y="11733"/>
                </a:cubicBezTo>
                <a:cubicBezTo>
                  <a:pt x="23652" y="11741"/>
                  <a:pt x="23661" y="11735"/>
                  <a:pt x="23713" y="11757"/>
                </a:cubicBezTo>
                <a:cubicBezTo>
                  <a:pt x="23789" y="11789"/>
                  <a:pt x="23844" y="11836"/>
                  <a:pt x="23887" y="11906"/>
                </a:cubicBezTo>
                <a:cubicBezTo>
                  <a:pt x="23899" y="11926"/>
                  <a:pt x="23921" y="11977"/>
                  <a:pt x="23937" y="12005"/>
                </a:cubicBezTo>
                <a:cubicBezTo>
                  <a:pt x="23913" y="11981"/>
                  <a:pt x="23870" y="11936"/>
                  <a:pt x="23837" y="11906"/>
                </a:cubicBezTo>
                <a:cubicBezTo>
                  <a:pt x="23782" y="11857"/>
                  <a:pt x="23720" y="11796"/>
                  <a:pt x="23639" y="11807"/>
                </a:cubicBezTo>
                <a:cubicBezTo>
                  <a:pt x="23575" y="11815"/>
                  <a:pt x="23548" y="11882"/>
                  <a:pt x="23540" y="11931"/>
                </a:cubicBezTo>
                <a:cubicBezTo>
                  <a:pt x="23525" y="12021"/>
                  <a:pt x="23542" y="12089"/>
                  <a:pt x="23614" y="12154"/>
                </a:cubicBezTo>
                <a:cubicBezTo>
                  <a:pt x="23660" y="12196"/>
                  <a:pt x="23752" y="12229"/>
                  <a:pt x="23812" y="12229"/>
                </a:cubicBezTo>
                <a:cubicBezTo>
                  <a:pt x="23873" y="12229"/>
                  <a:pt x="23913" y="12221"/>
                  <a:pt x="23961" y="12179"/>
                </a:cubicBezTo>
                <a:cubicBezTo>
                  <a:pt x="24006" y="12140"/>
                  <a:pt x="24041" y="12060"/>
                  <a:pt x="24061" y="12005"/>
                </a:cubicBezTo>
                <a:cubicBezTo>
                  <a:pt x="24092" y="11920"/>
                  <a:pt x="24081" y="11911"/>
                  <a:pt x="24061" y="11832"/>
                </a:cubicBezTo>
                <a:cubicBezTo>
                  <a:pt x="24049" y="11782"/>
                  <a:pt x="24009" y="11754"/>
                  <a:pt x="23986" y="11708"/>
                </a:cubicBezTo>
                <a:cubicBezTo>
                  <a:pt x="23947" y="11630"/>
                  <a:pt x="23900" y="11545"/>
                  <a:pt x="23837" y="11485"/>
                </a:cubicBezTo>
                <a:cubicBezTo>
                  <a:pt x="23742" y="11394"/>
                  <a:pt x="23607" y="11297"/>
                  <a:pt x="23490" y="11237"/>
                </a:cubicBezTo>
                <a:cubicBezTo>
                  <a:pt x="23285" y="11132"/>
                  <a:pt x="22996" y="11102"/>
                  <a:pt x="22771" y="11112"/>
                </a:cubicBezTo>
                <a:cubicBezTo>
                  <a:pt x="22510" y="11124"/>
                  <a:pt x="22255" y="11213"/>
                  <a:pt x="22027" y="11336"/>
                </a:cubicBezTo>
                <a:cubicBezTo>
                  <a:pt x="21910" y="11399"/>
                  <a:pt x="21801" y="11523"/>
                  <a:pt x="21729" y="11633"/>
                </a:cubicBezTo>
                <a:cubicBezTo>
                  <a:pt x="21692" y="11689"/>
                  <a:pt x="21632" y="11767"/>
                  <a:pt x="21630" y="11832"/>
                </a:cubicBezTo>
                <a:cubicBezTo>
                  <a:pt x="21628" y="11881"/>
                  <a:pt x="21631" y="11945"/>
                  <a:pt x="21630" y="11956"/>
                </a:cubicBezTo>
                <a:cubicBezTo>
                  <a:pt x="21630" y="11948"/>
                  <a:pt x="21630" y="11939"/>
                  <a:pt x="21630" y="11931"/>
                </a:cubicBezTo>
                <a:cubicBezTo>
                  <a:pt x="21619" y="11847"/>
                  <a:pt x="21606" y="11802"/>
                  <a:pt x="21654" y="11708"/>
                </a:cubicBezTo>
                <a:cubicBezTo>
                  <a:pt x="21679" y="11659"/>
                  <a:pt x="21772" y="11545"/>
                  <a:pt x="21828" y="11534"/>
                </a:cubicBezTo>
                <a:cubicBezTo>
                  <a:pt x="21888" y="11522"/>
                  <a:pt x="21935" y="11542"/>
                  <a:pt x="21977" y="11584"/>
                </a:cubicBezTo>
                <a:cubicBezTo>
                  <a:pt x="22033" y="11640"/>
                  <a:pt x="21991" y="11716"/>
                  <a:pt x="21977" y="11782"/>
                </a:cubicBezTo>
                <a:cubicBezTo>
                  <a:pt x="21959" y="11869"/>
                  <a:pt x="21913" y="11908"/>
                  <a:pt x="21828" y="11956"/>
                </a:cubicBezTo>
                <a:cubicBezTo>
                  <a:pt x="21773" y="11986"/>
                  <a:pt x="21707" y="11998"/>
                  <a:pt x="21654" y="11956"/>
                </a:cubicBezTo>
                <a:cubicBezTo>
                  <a:pt x="21620" y="11929"/>
                  <a:pt x="21555" y="11844"/>
                  <a:pt x="21555" y="11807"/>
                </a:cubicBezTo>
                <a:cubicBezTo>
                  <a:pt x="21555" y="11766"/>
                  <a:pt x="21617" y="11749"/>
                  <a:pt x="21630" y="11733"/>
                </a:cubicBezTo>
                <a:cubicBezTo>
                  <a:pt x="21650" y="11709"/>
                  <a:pt x="21666" y="11696"/>
                  <a:pt x="21679" y="11683"/>
                </a:cubicBezTo>
                <a:cubicBezTo>
                  <a:pt x="21606" y="11643"/>
                  <a:pt x="21621" y="11608"/>
                  <a:pt x="21506" y="11633"/>
                </a:cubicBezTo>
                <a:cubicBezTo>
                  <a:pt x="21410" y="11654"/>
                  <a:pt x="21405" y="11714"/>
                  <a:pt x="21357" y="11782"/>
                </a:cubicBezTo>
                <a:cubicBezTo>
                  <a:pt x="21392" y="11807"/>
                  <a:pt x="21413" y="11863"/>
                  <a:pt x="21481" y="11881"/>
                </a:cubicBezTo>
                <a:cubicBezTo>
                  <a:pt x="21582" y="11908"/>
                  <a:pt x="21698" y="11901"/>
                  <a:pt x="21803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9000" y="3956040"/>
            <a:ext cx="3332160" cy="955800"/>
          </a:xfrm>
          <a:custGeom>
            <a:avLst/>
            <a:gdLst/>
            <a:ahLst/>
            <a:rect l="l" t="t" r="r" b="b"/>
            <a:pathLst>
              <a:path w="9253" h="2656">
                <a:moveTo>
                  <a:pt x="6276" y="12105"/>
                </a:moveTo>
                <a:cubicBezTo>
                  <a:pt x="6345" y="12113"/>
                  <a:pt x="6406" y="12121"/>
                  <a:pt x="6474" y="12129"/>
                </a:cubicBezTo>
                <a:cubicBezTo>
                  <a:pt x="6534" y="12137"/>
                  <a:pt x="6619" y="12125"/>
                  <a:pt x="6672" y="12154"/>
                </a:cubicBezTo>
                <a:cubicBezTo>
                  <a:pt x="6806" y="12227"/>
                  <a:pt x="6834" y="12254"/>
                  <a:pt x="6896" y="12402"/>
                </a:cubicBezTo>
                <a:cubicBezTo>
                  <a:pt x="6922" y="12463"/>
                  <a:pt x="6929" y="12531"/>
                  <a:pt x="6945" y="12601"/>
                </a:cubicBezTo>
                <a:cubicBezTo>
                  <a:pt x="6978" y="12748"/>
                  <a:pt x="7001" y="12899"/>
                  <a:pt x="7020" y="13047"/>
                </a:cubicBezTo>
                <a:cubicBezTo>
                  <a:pt x="7034" y="13154"/>
                  <a:pt x="7033" y="13263"/>
                  <a:pt x="7045" y="13370"/>
                </a:cubicBezTo>
                <a:cubicBezTo>
                  <a:pt x="7053" y="13445"/>
                  <a:pt x="7063" y="13522"/>
                  <a:pt x="7069" y="13593"/>
                </a:cubicBezTo>
                <a:cubicBezTo>
                  <a:pt x="7069" y="13618"/>
                  <a:pt x="7069" y="13626"/>
                  <a:pt x="7069" y="13643"/>
                </a:cubicBezTo>
                <a:cubicBezTo>
                  <a:pt x="7063" y="13522"/>
                  <a:pt x="7069" y="13414"/>
                  <a:pt x="7069" y="13295"/>
                </a:cubicBezTo>
                <a:cubicBezTo>
                  <a:pt x="7069" y="12929"/>
                  <a:pt x="7049" y="12565"/>
                  <a:pt x="7045" y="12204"/>
                </a:cubicBezTo>
                <a:cubicBezTo>
                  <a:pt x="7042" y="11969"/>
                  <a:pt x="7007" y="11738"/>
                  <a:pt x="6995" y="11509"/>
                </a:cubicBezTo>
                <a:cubicBezTo>
                  <a:pt x="6991" y="11431"/>
                  <a:pt x="6954" y="11381"/>
                  <a:pt x="6995" y="11311"/>
                </a:cubicBezTo>
                <a:cubicBezTo>
                  <a:pt x="7029" y="11253"/>
                  <a:pt x="7032" y="11291"/>
                  <a:pt x="7069" y="11261"/>
                </a:cubicBezTo>
                <a:cubicBezTo>
                  <a:pt x="7113" y="11225"/>
                  <a:pt x="7166" y="11230"/>
                  <a:pt x="7218" y="11212"/>
                </a:cubicBezTo>
                <a:cubicBezTo>
                  <a:pt x="7276" y="11192"/>
                  <a:pt x="7358" y="11173"/>
                  <a:pt x="7417" y="11162"/>
                </a:cubicBezTo>
                <a:cubicBezTo>
                  <a:pt x="7506" y="11145"/>
                  <a:pt x="7599" y="11125"/>
                  <a:pt x="7689" y="11112"/>
                </a:cubicBezTo>
                <a:cubicBezTo>
                  <a:pt x="7804" y="11095"/>
                  <a:pt x="7921" y="11079"/>
                  <a:pt x="8037" y="11063"/>
                </a:cubicBezTo>
                <a:cubicBezTo>
                  <a:pt x="8328" y="11023"/>
                  <a:pt x="8638" y="11023"/>
                  <a:pt x="8930" y="11013"/>
                </a:cubicBezTo>
                <a:cubicBezTo>
                  <a:pt x="9179" y="11004"/>
                  <a:pt x="9426" y="10991"/>
                  <a:pt x="9674" y="10988"/>
                </a:cubicBezTo>
                <a:cubicBezTo>
                  <a:pt x="10743" y="10977"/>
                  <a:pt x="11810" y="10996"/>
                  <a:pt x="12874" y="11038"/>
                </a:cubicBezTo>
                <a:cubicBezTo>
                  <a:pt x="13073" y="11046"/>
                  <a:pt x="13271" y="11057"/>
                  <a:pt x="13469" y="11063"/>
                </a:cubicBezTo>
                <a:cubicBezTo>
                  <a:pt x="13637" y="11069"/>
                  <a:pt x="13799" y="11082"/>
                  <a:pt x="13965" y="11088"/>
                </a:cubicBezTo>
                <a:cubicBezTo>
                  <a:pt x="14108" y="11093"/>
                  <a:pt x="14245" y="11107"/>
                  <a:pt x="14387" y="11112"/>
                </a:cubicBezTo>
                <a:cubicBezTo>
                  <a:pt x="14554" y="11118"/>
                  <a:pt x="14720" y="11131"/>
                  <a:pt x="14883" y="11137"/>
                </a:cubicBezTo>
                <a:cubicBezTo>
                  <a:pt x="15022" y="11142"/>
                  <a:pt x="15146" y="11126"/>
                  <a:pt x="15280" y="11112"/>
                </a:cubicBezTo>
                <a:cubicBezTo>
                  <a:pt x="15324" y="11107"/>
                  <a:pt x="15443" y="11087"/>
                  <a:pt x="15478" y="11088"/>
                </a:cubicBezTo>
                <a:cubicBezTo>
                  <a:pt x="15528" y="11090"/>
                  <a:pt x="15403" y="11112"/>
                  <a:pt x="15453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Page 453</a:t>
            </a:r>
            <a:br>
              <a:rPr sz="7500"/>
            </a:br>
            <a:r>
              <a:rPr b="0" lang="en-US" sz="7500" spc="-1" strike="noStrike">
                <a:solidFill>
                  <a:srgbClr val="ccecff"/>
                </a:solidFill>
                <a:latin typeface="Arial"/>
              </a:rPr>
              <a:t>#3-13</a:t>
            </a:r>
            <a:endParaRPr b="0" lang="en-US" sz="7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t back tes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ccec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ector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antities that possess two characteristics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irection and Magnitu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83200" y="4510080"/>
            <a:ext cx="366840" cy="5619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17066" y="12551"/>
                </a:moveTo>
                <a:cubicBezTo>
                  <a:pt x="17074" y="12543"/>
                  <a:pt x="17082" y="12534"/>
                  <a:pt x="17090" y="12526"/>
                </a:cubicBezTo>
                <a:cubicBezTo>
                  <a:pt x="17124" y="12595"/>
                  <a:pt x="17115" y="12667"/>
                  <a:pt x="17115" y="12750"/>
                </a:cubicBezTo>
                <a:cubicBezTo>
                  <a:pt x="17115" y="12935"/>
                  <a:pt x="17120" y="13115"/>
                  <a:pt x="17140" y="13295"/>
                </a:cubicBezTo>
                <a:cubicBezTo>
                  <a:pt x="17150" y="13381"/>
                  <a:pt x="17136" y="13487"/>
                  <a:pt x="17165" y="13568"/>
                </a:cubicBezTo>
                <a:cubicBezTo>
                  <a:pt x="17177" y="13602"/>
                  <a:pt x="17246" y="13684"/>
                  <a:pt x="17239" y="13717"/>
                </a:cubicBezTo>
                <a:cubicBezTo>
                  <a:pt x="17231" y="13725"/>
                  <a:pt x="17222" y="13734"/>
                  <a:pt x="17214" y="13742"/>
                </a:cubicBezTo>
              </a:path>
              <a:path w="1018" h="1564">
                <a:moveTo>
                  <a:pt x="16619" y="13494"/>
                </a:moveTo>
                <a:cubicBezTo>
                  <a:pt x="16670" y="13544"/>
                  <a:pt x="16699" y="13591"/>
                  <a:pt x="16743" y="13643"/>
                </a:cubicBezTo>
                <a:cubicBezTo>
                  <a:pt x="16800" y="13712"/>
                  <a:pt x="16888" y="13741"/>
                  <a:pt x="16942" y="13816"/>
                </a:cubicBezTo>
                <a:cubicBezTo>
                  <a:pt x="16985" y="13876"/>
                  <a:pt x="17037" y="13945"/>
                  <a:pt x="17090" y="13990"/>
                </a:cubicBezTo>
                <a:cubicBezTo>
                  <a:pt x="17118" y="14014"/>
                  <a:pt x="17200" y="14085"/>
                  <a:pt x="17239" y="14089"/>
                </a:cubicBezTo>
                <a:cubicBezTo>
                  <a:pt x="17291" y="14095"/>
                  <a:pt x="17303" y="14074"/>
                  <a:pt x="17338" y="14039"/>
                </a:cubicBezTo>
                <a:cubicBezTo>
                  <a:pt x="17368" y="14009"/>
                  <a:pt x="17449" y="13975"/>
                  <a:pt x="17462" y="13940"/>
                </a:cubicBezTo>
                <a:cubicBezTo>
                  <a:pt x="17484" y="13879"/>
                  <a:pt x="17544" y="13803"/>
                  <a:pt x="17562" y="13742"/>
                </a:cubicBezTo>
                <a:cubicBezTo>
                  <a:pt x="17570" y="13714"/>
                  <a:pt x="17585" y="13635"/>
                  <a:pt x="17611" y="13618"/>
                </a:cubicBezTo>
                <a:cubicBezTo>
                  <a:pt x="17619" y="13618"/>
                  <a:pt x="17628" y="13618"/>
                  <a:pt x="17636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16720" y="5170320"/>
            <a:ext cx="1170000" cy="652680"/>
          </a:xfrm>
          <a:custGeom>
            <a:avLst/>
            <a:gdLst/>
            <a:ahLst/>
            <a:rect l="l" t="t" r="r" b="b"/>
            <a:pathLst>
              <a:path w="3251" h="1812">
                <a:moveTo>
                  <a:pt x="15701" y="14362"/>
                </a:moveTo>
                <a:cubicBezTo>
                  <a:pt x="15717" y="14419"/>
                  <a:pt x="15715" y="14488"/>
                  <a:pt x="15701" y="14560"/>
                </a:cubicBezTo>
                <a:cubicBezTo>
                  <a:pt x="15675" y="14690"/>
                  <a:pt x="15656" y="14824"/>
                  <a:pt x="15652" y="14957"/>
                </a:cubicBezTo>
                <a:cubicBezTo>
                  <a:pt x="15648" y="15067"/>
                  <a:pt x="15627" y="15167"/>
                  <a:pt x="15627" y="15280"/>
                </a:cubicBezTo>
                <a:cubicBezTo>
                  <a:pt x="15627" y="15349"/>
                  <a:pt x="15602" y="15405"/>
                  <a:pt x="15602" y="15478"/>
                </a:cubicBezTo>
                <a:cubicBezTo>
                  <a:pt x="15602" y="15532"/>
                  <a:pt x="15636" y="15431"/>
                  <a:pt x="15652" y="15379"/>
                </a:cubicBezTo>
              </a:path>
              <a:path w="3251" h="1812">
                <a:moveTo>
                  <a:pt x="15776" y="15156"/>
                </a:moveTo>
                <a:cubicBezTo>
                  <a:pt x="15880" y="15127"/>
                  <a:pt x="15883" y="15143"/>
                  <a:pt x="15974" y="15156"/>
                </a:cubicBezTo>
                <a:cubicBezTo>
                  <a:pt x="16025" y="15163"/>
                  <a:pt x="16187" y="15181"/>
                  <a:pt x="16222" y="15131"/>
                </a:cubicBezTo>
                <a:cubicBezTo>
                  <a:pt x="16276" y="15053"/>
                  <a:pt x="16220" y="15009"/>
                  <a:pt x="16197" y="14932"/>
                </a:cubicBezTo>
                <a:cubicBezTo>
                  <a:pt x="16183" y="14883"/>
                  <a:pt x="16174" y="14883"/>
                  <a:pt x="16123" y="14883"/>
                </a:cubicBezTo>
                <a:cubicBezTo>
                  <a:pt x="16062" y="14883"/>
                  <a:pt x="16044" y="14873"/>
                  <a:pt x="15999" y="14932"/>
                </a:cubicBezTo>
                <a:cubicBezTo>
                  <a:pt x="15965" y="14977"/>
                  <a:pt x="15927" y="15030"/>
                  <a:pt x="15900" y="15081"/>
                </a:cubicBezTo>
                <a:cubicBezTo>
                  <a:pt x="15856" y="15164"/>
                  <a:pt x="15864" y="15219"/>
                  <a:pt x="15875" y="15304"/>
                </a:cubicBezTo>
                <a:cubicBezTo>
                  <a:pt x="15881" y="15355"/>
                  <a:pt x="15936" y="15392"/>
                  <a:pt x="15974" y="15429"/>
                </a:cubicBezTo>
                <a:cubicBezTo>
                  <a:pt x="16014" y="15469"/>
                  <a:pt x="16068" y="15453"/>
                  <a:pt x="16123" y="15453"/>
                </a:cubicBezTo>
              </a:path>
              <a:path w="3251" h="1812">
                <a:moveTo>
                  <a:pt x="16396" y="15056"/>
                </a:moveTo>
                <a:cubicBezTo>
                  <a:pt x="16396" y="15178"/>
                  <a:pt x="16397" y="15290"/>
                  <a:pt x="16371" y="15404"/>
                </a:cubicBezTo>
                <a:cubicBezTo>
                  <a:pt x="16371" y="15437"/>
                  <a:pt x="16371" y="15453"/>
                  <a:pt x="16371" y="15478"/>
                </a:cubicBezTo>
                <a:cubicBezTo>
                  <a:pt x="16395" y="15382"/>
                  <a:pt x="16403" y="15296"/>
                  <a:pt x="16446" y="15205"/>
                </a:cubicBezTo>
                <a:cubicBezTo>
                  <a:pt x="16472" y="15149"/>
                  <a:pt x="16510" y="15083"/>
                  <a:pt x="16545" y="15032"/>
                </a:cubicBezTo>
                <a:cubicBezTo>
                  <a:pt x="16569" y="14998"/>
                  <a:pt x="16605" y="14961"/>
                  <a:pt x="16644" y="14957"/>
                </a:cubicBezTo>
                <a:cubicBezTo>
                  <a:pt x="16696" y="14951"/>
                  <a:pt x="16732" y="14974"/>
                  <a:pt x="16743" y="15032"/>
                </a:cubicBezTo>
                <a:cubicBezTo>
                  <a:pt x="16760" y="15123"/>
                  <a:pt x="16768" y="15208"/>
                  <a:pt x="16768" y="15304"/>
                </a:cubicBezTo>
                <a:cubicBezTo>
                  <a:pt x="16768" y="15371"/>
                  <a:pt x="16807" y="15424"/>
                  <a:pt x="16818" y="15478"/>
                </a:cubicBezTo>
                <a:cubicBezTo>
                  <a:pt x="16832" y="15548"/>
                  <a:pt x="16814" y="15513"/>
                  <a:pt x="16867" y="15553"/>
                </a:cubicBezTo>
              </a:path>
              <a:path w="3251" h="1812">
                <a:moveTo>
                  <a:pt x="17264" y="15255"/>
                </a:moveTo>
                <a:cubicBezTo>
                  <a:pt x="17279" y="15126"/>
                  <a:pt x="17307" y="15141"/>
                  <a:pt x="17239" y="15056"/>
                </a:cubicBezTo>
                <a:cubicBezTo>
                  <a:pt x="17189" y="15094"/>
                  <a:pt x="17182" y="15101"/>
                  <a:pt x="17140" y="15156"/>
                </a:cubicBezTo>
                <a:cubicBezTo>
                  <a:pt x="17108" y="15198"/>
                  <a:pt x="17095" y="15250"/>
                  <a:pt x="17090" y="15304"/>
                </a:cubicBezTo>
                <a:cubicBezTo>
                  <a:pt x="17084" y="15370"/>
                  <a:pt x="17084" y="15442"/>
                  <a:pt x="17115" y="15503"/>
                </a:cubicBezTo>
                <a:cubicBezTo>
                  <a:pt x="17138" y="15526"/>
                  <a:pt x="17142" y="15534"/>
                  <a:pt x="17165" y="15528"/>
                </a:cubicBezTo>
                <a:cubicBezTo>
                  <a:pt x="17181" y="15520"/>
                  <a:pt x="17255" y="15460"/>
                  <a:pt x="17264" y="15429"/>
                </a:cubicBezTo>
                <a:cubicBezTo>
                  <a:pt x="17279" y="15375"/>
                  <a:pt x="17276" y="15347"/>
                  <a:pt x="17314" y="15304"/>
                </a:cubicBezTo>
                <a:cubicBezTo>
                  <a:pt x="17322" y="15296"/>
                  <a:pt x="17330" y="15288"/>
                  <a:pt x="17338" y="15280"/>
                </a:cubicBezTo>
                <a:cubicBezTo>
                  <a:pt x="17338" y="15331"/>
                  <a:pt x="17320" y="15357"/>
                  <a:pt x="17314" y="15404"/>
                </a:cubicBezTo>
                <a:cubicBezTo>
                  <a:pt x="17301" y="15505"/>
                  <a:pt x="17321" y="15604"/>
                  <a:pt x="17314" y="15701"/>
                </a:cubicBezTo>
                <a:cubicBezTo>
                  <a:pt x="17306" y="15820"/>
                  <a:pt x="17309" y="15943"/>
                  <a:pt x="17289" y="16049"/>
                </a:cubicBezTo>
                <a:cubicBezTo>
                  <a:pt x="17279" y="16100"/>
                  <a:pt x="17272" y="16160"/>
                  <a:pt x="17214" y="16173"/>
                </a:cubicBezTo>
                <a:cubicBezTo>
                  <a:pt x="17183" y="16180"/>
                  <a:pt x="17108" y="16124"/>
                  <a:pt x="17090" y="16098"/>
                </a:cubicBezTo>
                <a:cubicBezTo>
                  <a:pt x="17043" y="16032"/>
                  <a:pt x="17025" y="15958"/>
                  <a:pt x="17016" y="15875"/>
                </a:cubicBezTo>
                <a:cubicBezTo>
                  <a:pt x="17016" y="15807"/>
                  <a:pt x="17013" y="15788"/>
                  <a:pt x="17041" y="15751"/>
                </a:cubicBezTo>
              </a:path>
              <a:path w="3251" h="1812">
                <a:moveTo>
                  <a:pt x="17760" y="14709"/>
                </a:moveTo>
                <a:cubicBezTo>
                  <a:pt x="17760" y="14950"/>
                  <a:pt x="17748" y="15197"/>
                  <a:pt x="17785" y="15429"/>
                </a:cubicBezTo>
                <a:cubicBezTo>
                  <a:pt x="17792" y="15475"/>
                  <a:pt x="17785" y="15530"/>
                  <a:pt x="17785" y="15577"/>
                </a:cubicBezTo>
              </a:path>
              <a:path w="3251" h="1812">
                <a:moveTo>
                  <a:pt x="17562" y="15081"/>
                </a:moveTo>
                <a:cubicBezTo>
                  <a:pt x="17607" y="15081"/>
                  <a:pt x="17644" y="15093"/>
                  <a:pt x="17686" y="15106"/>
                </a:cubicBezTo>
                <a:cubicBezTo>
                  <a:pt x="17761" y="15129"/>
                  <a:pt x="17806" y="15156"/>
                  <a:pt x="17884" y="15156"/>
                </a:cubicBezTo>
                <a:cubicBezTo>
                  <a:pt x="17901" y="15156"/>
                  <a:pt x="17917" y="15156"/>
                  <a:pt x="17934" y="15156"/>
                </a:cubicBezTo>
              </a:path>
              <a:path w="3251" h="1812">
                <a:moveTo>
                  <a:pt x="18107" y="14734"/>
                </a:moveTo>
                <a:cubicBezTo>
                  <a:pt x="18127" y="14693"/>
                  <a:pt x="18125" y="14677"/>
                  <a:pt x="18157" y="14684"/>
                </a:cubicBezTo>
                <a:cubicBezTo>
                  <a:pt x="18157" y="14893"/>
                  <a:pt x="18151" y="15100"/>
                  <a:pt x="18132" y="15304"/>
                </a:cubicBezTo>
                <a:cubicBezTo>
                  <a:pt x="18126" y="15372"/>
                  <a:pt x="18115" y="15476"/>
                  <a:pt x="18157" y="15528"/>
                </a:cubicBezTo>
                <a:cubicBezTo>
                  <a:pt x="18180" y="15551"/>
                  <a:pt x="18184" y="15559"/>
                  <a:pt x="18207" y="15553"/>
                </a:cubicBezTo>
                <a:cubicBezTo>
                  <a:pt x="18244" y="15492"/>
                  <a:pt x="18284" y="15432"/>
                  <a:pt x="18331" y="15379"/>
                </a:cubicBezTo>
                <a:cubicBezTo>
                  <a:pt x="18366" y="15339"/>
                  <a:pt x="18420" y="15328"/>
                  <a:pt x="18455" y="15304"/>
                </a:cubicBezTo>
                <a:cubicBezTo>
                  <a:pt x="18485" y="15283"/>
                  <a:pt x="18537" y="15246"/>
                  <a:pt x="18579" y="15255"/>
                </a:cubicBezTo>
                <a:cubicBezTo>
                  <a:pt x="18677" y="15277"/>
                  <a:pt x="18714" y="15349"/>
                  <a:pt x="18752" y="15429"/>
                </a:cubicBezTo>
                <a:cubicBezTo>
                  <a:pt x="18805" y="15540"/>
                  <a:pt x="18804" y="15635"/>
                  <a:pt x="18827" y="15751"/>
                </a:cubicBezTo>
                <a:cubicBezTo>
                  <a:pt x="18840" y="15816"/>
                  <a:pt x="18861" y="15922"/>
                  <a:pt x="18802" y="15949"/>
                </a:cubicBezTo>
                <a:cubicBezTo>
                  <a:pt x="18794" y="15941"/>
                  <a:pt x="18785" y="15933"/>
                  <a:pt x="18777" y="159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19760" y="3902040"/>
            <a:ext cx="46080" cy="1697040"/>
          </a:xfrm>
          <a:custGeom>
            <a:avLst/>
            <a:gdLst/>
            <a:ahLst/>
            <a:rect l="l" t="t" r="r" b="b"/>
            <a:pathLst>
              <a:path w="125" h="4714">
                <a:moveTo>
                  <a:pt x="13667" y="10840"/>
                </a:moveTo>
                <a:cubicBezTo>
                  <a:pt x="13683" y="10908"/>
                  <a:pt x="13711" y="10996"/>
                  <a:pt x="13717" y="11063"/>
                </a:cubicBezTo>
                <a:cubicBezTo>
                  <a:pt x="13729" y="11198"/>
                  <a:pt x="13742" y="11324"/>
                  <a:pt x="13742" y="11460"/>
                </a:cubicBezTo>
                <a:cubicBezTo>
                  <a:pt x="13742" y="12319"/>
                  <a:pt x="13719" y="13184"/>
                  <a:pt x="13767" y="14039"/>
                </a:cubicBezTo>
                <a:cubicBezTo>
                  <a:pt x="13778" y="14229"/>
                  <a:pt x="13787" y="14421"/>
                  <a:pt x="13791" y="14610"/>
                </a:cubicBezTo>
                <a:cubicBezTo>
                  <a:pt x="13796" y="14868"/>
                  <a:pt x="13794" y="15127"/>
                  <a:pt x="13767" y="15379"/>
                </a:cubicBezTo>
                <a:cubicBezTo>
                  <a:pt x="13761" y="15435"/>
                  <a:pt x="13767" y="15497"/>
                  <a:pt x="13767" y="155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46760" y="3830760"/>
            <a:ext cx="2955960" cy="2116080"/>
          </a:xfrm>
          <a:custGeom>
            <a:avLst/>
            <a:gdLst/>
            <a:ahLst/>
            <a:rect l="l" t="t" r="r" b="b"/>
            <a:pathLst>
              <a:path w="8211" h="5880">
                <a:moveTo>
                  <a:pt x="13965" y="10840"/>
                </a:moveTo>
                <a:cubicBezTo>
                  <a:pt x="13970" y="10839"/>
                  <a:pt x="14049" y="10819"/>
                  <a:pt x="14089" y="10815"/>
                </a:cubicBezTo>
                <a:cubicBezTo>
                  <a:pt x="14183" y="10805"/>
                  <a:pt x="14287" y="10798"/>
                  <a:pt x="14387" y="10790"/>
                </a:cubicBezTo>
                <a:cubicBezTo>
                  <a:pt x="14541" y="10777"/>
                  <a:pt x="14700" y="10748"/>
                  <a:pt x="14858" y="10740"/>
                </a:cubicBezTo>
                <a:cubicBezTo>
                  <a:pt x="15017" y="10732"/>
                  <a:pt x="15171" y="10729"/>
                  <a:pt x="15329" y="10716"/>
                </a:cubicBezTo>
                <a:cubicBezTo>
                  <a:pt x="15560" y="10696"/>
                  <a:pt x="15792" y="10684"/>
                  <a:pt x="16024" y="10666"/>
                </a:cubicBezTo>
                <a:cubicBezTo>
                  <a:pt x="16239" y="10649"/>
                  <a:pt x="16452" y="10642"/>
                  <a:pt x="16669" y="10641"/>
                </a:cubicBezTo>
                <a:cubicBezTo>
                  <a:pt x="17547" y="10636"/>
                  <a:pt x="18422" y="10659"/>
                  <a:pt x="19298" y="10666"/>
                </a:cubicBezTo>
                <a:cubicBezTo>
                  <a:pt x="19630" y="10669"/>
                  <a:pt x="19961" y="10650"/>
                  <a:pt x="20290" y="10641"/>
                </a:cubicBezTo>
                <a:cubicBezTo>
                  <a:pt x="20698" y="10630"/>
                  <a:pt x="21156" y="10589"/>
                  <a:pt x="21555" y="10666"/>
                </a:cubicBezTo>
                <a:cubicBezTo>
                  <a:pt x="21649" y="10684"/>
                  <a:pt x="21676" y="10677"/>
                  <a:pt x="21754" y="10740"/>
                </a:cubicBezTo>
                <a:cubicBezTo>
                  <a:pt x="21808" y="10783"/>
                  <a:pt x="21826" y="10843"/>
                  <a:pt x="21853" y="10914"/>
                </a:cubicBezTo>
                <a:cubicBezTo>
                  <a:pt x="21887" y="11002"/>
                  <a:pt x="21890" y="11093"/>
                  <a:pt x="21903" y="11187"/>
                </a:cubicBezTo>
                <a:cubicBezTo>
                  <a:pt x="21925" y="11347"/>
                  <a:pt x="21925" y="11522"/>
                  <a:pt x="21927" y="11683"/>
                </a:cubicBezTo>
                <a:cubicBezTo>
                  <a:pt x="21935" y="12412"/>
                  <a:pt x="21946" y="13139"/>
                  <a:pt x="21952" y="13866"/>
                </a:cubicBezTo>
                <a:cubicBezTo>
                  <a:pt x="21957" y="14421"/>
                  <a:pt x="22044" y="15094"/>
                  <a:pt x="21927" y="15627"/>
                </a:cubicBezTo>
                <a:cubicBezTo>
                  <a:pt x="21906" y="15722"/>
                  <a:pt x="21904" y="15761"/>
                  <a:pt x="21853" y="15850"/>
                </a:cubicBezTo>
                <a:cubicBezTo>
                  <a:pt x="21823" y="15902"/>
                  <a:pt x="21778" y="15961"/>
                  <a:pt x="21729" y="15999"/>
                </a:cubicBezTo>
                <a:cubicBezTo>
                  <a:pt x="21670" y="16045"/>
                  <a:pt x="21622" y="16045"/>
                  <a:pt x="21555" y="16073"/>
                </a:cubicBezTo>
                <a:cubicBezTo>
                  <a:pt x="21481" y="16104"/>
                  <a:pt x="21408" y="16105"/>
                  <a:pt x="21332" y="16123"/>
                </a:cubicBezTo>
                <a:cubicBezTo>
                  <a:pt x="21239" y="16145"/>
                  <a:pt x="21154" y="16160"/>
                  <a:pt x="21059" y="16173"/>
                </a:cubicBezTo>
                <a:cubicBezTo>
                  <a:pt x="20946" y="16189"/>
                  <a:pt x="20825" y="16213"/>
                  <a:pt x="20712" y="16222"/>
                </a:cubicBezTo>
                <a:cubicBezTo>
                  <a:pt x="20562" y="16234"/>
                  <a:pt x="20414" y="16229"/>
                  <a:pt x="20265" y="16247"/>
                </a:cubicBezTo>
                <a:cubicBezTo>
                  <a:pt x="20108" y="16266"/>
                  <a:pt x="19952" y="16301"/>
                  <a:pt x="19794" y="16321"/>
                </a:cubicBezTo>
                <a:cubicBezTo>
                  <a:pt x="19577" y="16348"/>
                  <a:pt x="19363" y="16365"/>
                  <a:pt x="19149" y="16396"/>
                </a:cubicBezTo>
                <a:cubicBezTo>
                  <a:pt x="18816" y="16445"/>
                  <a:pt x="18493" y="16507"/>
                  <a:pt x="18157" y="16520"/>
                </a:cubicBezTo>
                <a:cubicBezTo>
                  <a:pt x="17950" y="16528"/>
                  <a:pt x="17743" y="16509"/>
                  <a:pt x="17537" y="16495"/>
                </a:cubicBezTo>
                <a:cubicBezTo>
                  <a:pt x="17321" y="16480"/>
                  <a:pt x="17108" y="16443"/>
                  <a:pt x="16892" y="16421"/>
                </a:cubicBezTo>
                <a:cubicBezTo>
                  <a:pt x="16666" y="16398"/>
                  <a:pt x="16445" y="16349"/>
                  <a:pt x="16222" y="16321"/>
                </a:cubicBezTo>
                <a:cubicBezTo>
                  <a:pt x="16000" y="16293"/>
                  <a:pt x="15776" y="16269"/>
                  <a:pt x="15553" y="16247"/>
                </a:cubicBezTo>
                <a:cubicBezTo>
                  <a:pt x="15329" y="16225"/>
                  <a:pt x="15107" y="16212"/>
                  <a:pt x="14883" y="16197"/>
                </a:cubicBezTo>
                <a:cubicBezTo>
                  <a:pt x="14620" y="16180"/>
                  <a:pt x="14371" y="16177"/>
                  <a:pt x="14114" y="16197"/>
                </a:cubicBezTo>
                <a:cubicBezTo>
                  <a:pt x="14034" y="16203"/>
                  <a:pt x="13965" y="16210"/>
                  <a:pt x="13891" y="16222"/>
                </a:cubicBezTo>
                <a:cubicBezTo>
                  <a:pt x="13850" y="16229"/>
                  <a:pt x="13829" y="16240"/>
                  <a:pt x="13791" y="16247"/>
                </a:cubicBezTo>
                <a:cubicBezTo>
                  <a:pt x="13806" y="16142"/>
                  <a:pt x="13835" y="16033"/>
                  <a:pt x="13841" y="15925"/>
                </a:cubicBezTo>
                <a:cubicBezTo>
                  <a:pt x="13859" y="15586"/>
                  <a:pt x="13803" y="15264"/>
                  <a:pt x="13742" y="149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ectors are usually visualized as a directed line segment or ray on a coordinate pla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s direction goes from an initial point to a terminal 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21040" y="677880"/>
            <a:ext cx="1162080" cy="358920"/>
          </a:xfrm>
          <a:custGeom>
            <a:avLst/>
            <a:gdLst/>
            <a:ahLst/>
            <a:rect l="l" t="t" r="r" b="b"/>
            <a:pathLst>
              <a:path w="3226" h="993">
                <a:moveTo>
                  <a:pt x="10988" y="2034"/>
                </a:moveTo>
                <a:cubicBezTo>
                  <a:pt x="10988" y="2161"/>
                  <a:pt x="10976" y="2287"/>
                  <a:pt x="10964" y="2406"/>
                </a:cubicBezTo>
                <a:cubicBezTo>
                  <a:pt x="10955" y="2494"/>
                  <a:pt x="10944" y="2593"/>
                  <a:pt x="10939" y="2679"/>
                </a:cubicBezTo>
                <a:cubicBezTo>
                  <a:pt x="10938" y="2689"/>
                  <a:pt x="10923" y="2796"/>
                  <a:pt x="10914" y="2803"/>
                </a:cubicBezTo>
                <a:cubicBezTo>
                  <a:pt x="10906" y="2803"/>
                  <a:pt x="10897" y="2803"/>
                  <a:pt x="10889" y="2803"/>
                </a:cubicBezTo>
              </a:path>
              <a:path w="3226" h="993">
                <a:moveTo>
                  <a:pt x="10616" y="2480"/>
                </a:moveTo>
                <a:cubicBezTo>
                  <a:pt x="10706" y="2461"/>
                  <a:pt x="10774" y="2456"/>
                  <a:pt x="10864" y="2456"/>
                </a:cubicBezTo>
                <a:cubicBezTo>
                  <a:pt x="10965" y="2456"/>
                  <a:pt x="10982" y="2406"/>
                  <a:pt x="11088" y="2406"/>
                </a:cubicBezTo>
                <a:cubicBezTo>
                  <a:pt x="11096" y="2406"/>
                  <a:pt x="11104" y="2406"/>
                  <a:pt x="11112" y="2406"/>
                </a:cubicBezTo>
              </a:path>
              <a:path w="3226" h="993">
                <a:moveTo>
                  <a:pt x="11311" y="2580"/>
                </a:moveTo>
                <a:cubicBezTo>
                  <a:pt x="11381" y="2580"/>
                  <a:pt x="11386" y="2579"/>
                  <a:pt x="11435" y="2530"/>
                </a:cubicBezTo>
                <a:cubicBezTo>
                  <a:pt x="11472" y="2493"/>
                  <a:pt x="11500" y="2459"/>
                  <a:pt x="11509" y="2406"/>
                </a:cubicBezTo>
                <a:cubicBezTo>
                  <a:pt x="11518" y="2354"/>
                  <a:pt x="11515" y="2313"/>
                  <a:pt x="11460" y="2307"/>
                </a:cubicBezTo>
                <a:cubicBezTo>
                  <a:pt x="11384" y="2299"/>
                  <a:pt x="11398" y="2369"/>
                  <a:pt x="11361" y="2406"/>
                </a:cubicBezTo>
                <a:cubicBezTo>
                  <a:pt x="11332" y="2435"/>
                  <a:pt x="11289" y="2502"/>
                  <a:pt x="11261" y="2555"/>
                </a:cubicBezTo>
                <a:cubicBezTo>
                  <a:pt x="11236" y="2602"/>
                  <a:pt x="11214" y="2702"/>
                  <a:pt x="11237" y="2753"/>
                </a:cubicBezTo>
                <a:cubicBezTo>
                  <a:pt x="11266" y="2820"/>
                  <a:pt x="11310" y="2823"/>
                  <a:pt x="11361" y="2853"/>
                </a:cubicBezTo>
                <a:cubicBezTo>
                  <a:pt x="11406" y="2880"/>
                  <a:pt x="11460" y="2878"/>
                  <a:pt x="11509" y="2853"/>
                </a:cubicBezTo>
                <a:cubicBezTo>
                  <a:pt x="11577" y="2819"/>
                  <a:pt x="11600" y="2770"/>
                  <a:pt x="11633" y="2704"/>
                </a:cubicBezTo>
              </a:path>
              <a:path w="3226" h="993">
                <a:moveTo>
                  <a:pt x="11683" y="2580"/>
                </a:moveTo>
                <a:cubicBezTo>
                  <a:pt x="11667" y="2654"/>
                  <a:pt x="11658" y="2705"/>
                  <a:pt x="11658" y="2778"/>
                </a:cubicBezTo>
                <a:cubicBezTo>
                  <a:pt x="11658" y="2845"/>
                  <a:pt x="11658" y="2741"/>
                  <a:pt x="11658" y="2729"/>
                </a:cubicBezTo>
                <a:cubicBezTo>
                  <a:pt x="11658" y="2669"/>
                  <a:pt x="11615" y="2617"/>
                  <a:pt x="11633" y="2555"/>
                </a:cubicBezTo>
                <a:cubicBezTo>
                  <a:pt x="11651" y="2494"/>
                  <a:pt x="11732" y="2439"/>
                  <a:pt x="11757" y="2406"/>
                </a:cubicBezTo>
                <a:cubicBezTo>
                  <a:pt x="11809" y="2338"/>
                  <a:pt x="11845" y="2318"/>
                  <a:pt x="11906" y="2282"/>
                </a:cubicBezTo>
                <a:cubicBezTo>
                  <a:pt x="11914" y="2274"/>
                  <a:pt x="11923" y="2265"/>
                  <a:pt x="11931" y="2257"/>
                </a:cubicBezTo>
              </a:path>
              <a:path w="3226" h="993">
                <a:moveTo>
                  <a:pt x="11931" y="2604"/>
                </a:moveTo>
                <a:cubicBezTo>
                  <a:pt x="11916" y="2686"/>
                  <a:pt x="11906" y="2729"/>
                  <a:pt x="11906" y="2803"/>
                </a:cubicBezTo>
                <a:cubicBezTo>
                  <a:pt x="11941" y="2756"/>
                  <a:pt x="11931" y="2716"/>
                  <a:pt x="11931" y="2654"/>
                </a:cubicBezTo>
                <a:cubicBezTo>
                  <a:pt x="11931" y="2586"/>
                  <a:pt x="11941" y="2539"/>
                  <a:pt x="11981" y="2480"/>
                </a:cubicBezTo>
                <a:cubicBezTo>
                  <a:pt x="12022" y="2421"/>
                  <a:pt x="12050" y="2403"/>
                  <a:pt x="12105" y="2356"/>
                </a:cubicBezTo>
                <a:cubicBezTo>
                  <a:pt x="12181" y="2395"/>
                  <a:pt x="12155" y="2404"/>
                  <a:pt x="12179" y="2480"/>
                </a:cubicBezTo>
                <a:cubicBezTo>
                  <a:pt x="12204" y="2560"/>
                  <a:pt x="12215" y="2598"/>
                  <a:pt x="12179" y="2679"/>
                </a:cubicBezTo>
                <a:cubicBezTo>
                  <a:pt x="12155" y="2733"/>
                  <a:pt x="12125" y="2747"/>
                  <a:pt x="12105" y="2778"/>
                </a:cubicBezTo>
                <a:cubicBezTo>
                  <a:pt x="12105" y="2786"/>
                  <a:pt x="12105" y="2795"/>
                  <a:pt x="12105" y="2803"/>
                </a:cubicBezTo>
                <a:cubicBezTo>
                  <a:pt x="12105" y="2739"/>
                  <a:pt x="12115" y="2713"/>
                  <a:pt x="12129" y="2654"/>
                </a:cubicBezTo>
                <a:cubicBezTo>
                  <a:pt x="12149" y="2573"/>
                  <a:pt x="12184" y="2561"/>
                  <a:pt x="12229" y="2505"/>
                </a:cubicBezTo>
                <a:cubicBezTo>
                  <a:pt x="12280" y="2442"/>
                  <a:pt x="12291" y="2393"/>
                  <a:pt x="12353" y="2356"/>
                </a:cubicBezTo>
                <a:cubicBezTo>
                  <a:pt x="12361" y="2356"/>
                  <a:pt x="12370" y="2356"/>
                  <a:pt x="12378" y="2356"/>
                </a:cubicBezTo>
                <a:cubicBezTo>
                  <a:pt x="12423" y="2379"/>
                  <a:pt x="12467" y="2418"/>
                  <a:pt x="12477" y="2480"/>
                </a:cubicBezTo>
                <a:cubicBezTo>
                  <a:pt x="12488" y="2545"/>
                  <a:pt x="12477" y="2768"/>
                  <a:pt x="12477" y="2753"/>
                </a:cubicBezTo>
              </a:path>
              <a:path w="3226" h="993">
                <a:moveTo>
                  <a:pt x="12626" y="2480"/>
                </a:moveTo>
                <a:cubicBezTo>
                  <a:pt x="12626" y="2584"/>
                  <a:pt x="12620" y="2654"/>
                  <a:pt x="12601" y="2753"/>
                </a:cubicBezTo>
                <a:cubicBezTo>
                  <a:pt x="12597" y="2772"/>
                  <a:pt x="12601" y="2868"/>
                  <a:pt x="12601" y="2753"/>
                </a:cubicBezTo>
              </a:path>
              <a:path w="3226" h="993">
                <a:moveTo>
                  <a:pt x="12700" y="2158"/>
                </a:moveTo>
                <a:cubicBezTo>
                  <a:pt x="12744" y="2136"/>
                  <a:pt x="12755" y="2123"/>
                  <a:pt x="12774" y="2158"/>
                </a:cubicBezTo>
              </a:path>
              <a:path w="3226" h="993">
                <a:moveTo>
                  <a:pt x="12849" y="2654"/>
                </a:moveTo>
                <a:cubicBezTo>
                  <a:pt x="12849" y="2712"/>
                  <a:pt x="12849" y="2770"/>
                  <a:pt x="12849" y="2828"/>
                </a:cubicBezTo>
                <a:cubicBezTo>
                  <a:pt x="12861" y="2758"/>
                  <a:pt x="12874" y="2701"/>
                  <a:pt x="12874" y="2629"/>
                </a:cubicBezTo>
                <a:cubicBezTo>
                  <a:pt x="12874" y="2555"/>
                  <a:pt x="12901" y="2466"/>
                  <a:pt x="12948" y="2406"/>
                </a:cubicBezTo>
                <a:cubicBezTo>
                  <a:pt x="12958" y="2393"/>
                  <a:pt x="13048" y="2302"/>
                  <a:pt x="13072" y="2307"/>
                </a:cubicBezTo>
                <a:cubicBezTo>
                  <a:pt x="13124" y="2319"/>
                  <a:pt x="13144" y="2355"/>
                  <a:pt x="13146" y="2406"/>
                </a:cubicBezTo>
                <a:cubicBezTo>
                  <a:pt x="13150" y="2507"/>
                  <a:pt x="13143" y="2586"/>
                  <a:pt x="13122" y="2679"/>
                </a:cubicBezTo>
                <a:cubicBezTo>
                  <a:pt x="13112" y="2726"/>
                  <a:pt x="13111" y="2791"/>
                  <a:pt x="13146" y="2803"/>
                </a:cubicBezTo>
              </a:path>
              <a:path w="3226" h="993">
                <a:moveTo>
                  <a:pt x="13494" y="2332"/>
                </a:moveTo>
                <a:cubicBezTo>
                  <a:pt x="13404" y="2332"/>
                  <a:pt x="13365" y="2409"/>
                  <a:pt x="13320" y="2480"/>
                </a:cubicBezTo>
                <a:cubicBezTo>
                  <a:pt x="13291" y="2525"/>
                  <a:pt x="13229" y="2623"/>
                  <a:pt x="13246" y="2679"/>
                </a:cubicBezTo>
                <a:cubicBezTo>
                  <a:pt x="13257" y="2713"/>
                  <a:pt x="13283" y="2749"/>
                  <a:pt x="13320" y="2753"/>
                </a:cubicBezTo>
                <a:cubicBezTo>
                  <a:pt x="13369" y="2758"/>
                  <a:pt x="13376" y="2755"/>
                  <a:pt x="13395" y="2729"/>
                </a:cubicBezTo>
                <a:cubicBezTo>
                  <a:pt x="13439" y="2669"/>
                  <a:pt x="13417" y="2667"/>
                  <a:pt x="13444" y="2604"/>
                </a:cubicBezTo>
                <a:cubicBezTo>
                  <a:pt x="13462" y="2560"/>
                  <a:pt x="13469" y="2533"/>
                  <a:pt x="13469" y="2480"/>
                </a:cubicBezTo>
                <a:cubicBezTo>
                  <a:pt x="13469" y="2537"/>
                  <a:pt x="13482" y="2583"/>
                  <a:pt x="13494" y="2629"/>
                </a:cubicBezTo>
                <a:cubicBezTo>
                  <a:pt x="13504" y="2666"/>
                  <a:pt x="13551" y="2701"/>
                  <a:pt x="13593" y="2704"/>
                </a:cubicBezTo>
                <a:cubicBezTo>
                  <a:pt x="13649" y="2708"/>
                  <a:pt x="13669" y="2682"/>
                  <a:pt x="13717" y="2654"/>
                </a:cubicBezTo>
              </a:path>
              <a:path w="3226" h="993">
                <a:moveTo>
                  <a:pt x="13841" y="1885"/>
                </a:moveTo>
                <a:cubicBezTo>
                  <a:pt x="13841" y="2030"/>
                  <a:pt x="13829" y="2167"/>
                  <a:pt x="13816" y="2307"/>
                </a:cubicBezTo>
                <a:cubicBezTo>
                  <a:pt x="13803" y="2447"/>
                  <a:pt x="13816" y="2820"/>
                  <a:pt x="13816" y="26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26040" y="704880"/>
            <a:ext cx="731880" cy="482400"/>
          </a:xfrm>
          <a:custGeom>
            <a:avLst/>
            <a:gdLst/>
            <a:ahLst/>
            <a:rect l="l" t="t" r="r" b="b"/>
            <a:pathLst>
              <a:path w="2035" h="1340">
                <a:moveTo>
                  <a:pt x="14362" y="2332"/>
                </a:moveTo>
                <a:cubicBezTo>
                  <a:pt x="14362" y="2520"/>
                  <a:pt x="14381" y="2674"/>
                  <a:pt x="14387" y="2853"/>
                </a:cubicBezTo>
                <a:cubicBezTo>
                  <a:pt x="14390" y="2948"/>
                  <a:pt x="14425" y="3035"/>
                  <a:pt x="14436" y="3125"/>
                </a:cubicBezTo>
                <a:cubicBezTo>
                  <a:pt x="14441" y="3166"/>
                  <a:pt x="14447" y="3273"/>
                  <a:pt x="14486" y="3299"/>
                </a:cubicBezTo>
                <a:cubicBezTo>
                  <a:pt x="14527" y="3326"/>
                  <a:pt x="14511" y="3209"/>
                  <a:pt x="14511" y="3200"/>
                </a:cubicBezTo>
              </a:path>
              <a:path w="2035" h="1340">
                <a:moveTo>
                  <a:pt x="14263" y="2406"/>
                </a:moveTo>
                <a:cubicBezTo>
                  <a:pt x="14227" y="2322"/>
                  <a:pt x="14225" y="2335"/>
                  <a:pt x="14288" y="2282"/>
                </a:cubicBezTo>
                <a:cubicBezTo>
                  <a:pt x="14345" y="2235"/>
                  <a:pt x="14466" y="2228"/>
                  <a:pt x="14536" y="2257"/>
                </a:cubicBezTo>
                <a:cubicBezTo>
                  <a:pt x="14664" y="2309"/>
                  <a:pt x="14751" y="2366"/>
                  <a:pt x="14759" y="2505"/>
                </a:cubicBezTo>
                <a:cubicBezTo>
                  <a:pt x="14763" y="2578"/>
                  <a:pt x="14719" y="2597"/>
                  <a:pt x="14660" y="2629"/>
                </a:cubicBezTo>
                <a:cubicBezTo>
                  <a:pt x="14596" y="2663"/>
                  <a:pt x="14530" y="2688"/>
                  <a:pt x="14461" y="2704"/>
                </a:cubicBezTo>
                <a:cubicBezTo>
                  <a:pt x="14397" y="2719"/>
                  <a:pt x="14425" y="2707"/>
                  <a:pt x="14461" y="2679"/>
                </a:cubicBezTo>
              </a:path>
              <a:path w="2035" h="1340">
                <a:moveTo>
                  <a:pt x="14808" y="2406"/>
                </a:moveTo>
                <a:cubicBezTo>
                  <a:pt x="14770" y="2540"/>
                  <a:pt x="14735" y="2560"/>
                  <a:pt x="14784" y="2629"/>
                </a:cubicBezTo>
                <a:cubicBezTo>
                  <a:pt x="14817" y="2655"/>
                  <a:pt x="14861" y="2670"/>
                  <a:pt x="14908" y="2654"/>
                </a:cubicBezTo>
                <a:cubicBezTo>
                  <a:pt x="14945" y="2642"/>
                  <a:pt x="15067" y="2595"/>
                  <a:pt x="15081" y="2555"/>
                </a:cubicBezTo>
                <a:cubicBezTo>
                  <a:pt x="15101" y="2499"/>
                  <a:pt x="15080" y="2381"/>
                  <a:pt x="15056" y="2332"/>
                </a:cubicBezTo>
                <a:cubicBezTo>
                  <a:pt x="15025" y="2269"/>
                  <a:pt x="14966" y="2282"/>
                  <a:pt x="14908" y="2282"/>
                </a:cubicBezTo>
                <a:cubicBezTo>
                  <a:pt x="14857" y="2282"/>
                  <a:pt x="14845" y="2282"/>
                  <a:pt x="14833" y="2332"/>
                </a:cubicBezTo>
                <a:cubicBezTo>
                  <a:pt x="14896" y="2362"/>
                  <a:pt x="14927" y="2370"/>
                  <a:pt x="14982" y="2356"/>
                </a:cubicBezTo>
              </a:path>
              <a:path w="2035" h="1340">
                <a:moveTo>
                  <a:pt x="15354" y="2480"/>
                </a:moveTo>
                <a:cubicBezTo>
                  <a:pt x="15344" y="2526"/>
                  <a:pt x="15306" y="2648"/>
                  <a:pt x="15329" y="2704"/>
                </a:cubicBezTo>
                <a:cubicBezTo>
                  <a:pt x="15360" y="2777"/>
                  <a:pt x="15331" y="2668"/>
                  <a:pt x="15329" y="2654"/>
                </a:cubicBezTo>
              </a:path>
              <a:path w="2035" h="1340">
                <a:moveTo>
                  <a:pt x="15329" y="2158"/>
                </a:moveTo>
                <a:cubicBezTo>
                  <a:pt x="15329" y="2088"/>
                  <a:pt x="15345" y="2108"/>
                  <a:pt x="15404" y="2108"/>
                </a:cubicBezTo>
              </a:path>
              <a:path w="2035" h="1340">
                <a:moveTo>
                  <a:pt x="15528" y="2580"/>
                </a:moveTo>
                <a:cubicBezTo>
                  <a:pt x="15528" y="2640"/>
                  <a:pt x="15528" y="2525"/>
                  <a:pt x="15528" y="2505"/>
                </a:cubicBezTo>
                <a:cubicBezTo>
                  <a:pt x="15528" y="2424"/>
                  <a:pt x="15522" y="2357"/>
                  <a:pt x="15553" y="2282"/>
                </a:cubicBezTo>
                <a:cubicBezTo>
                  <a:pt x="15581" y="2213"/>
                  <a:pt x="15607" y="2189"/>
                  <a:pt x="15677" y="2183"/>
                </a:cubicBezTo>
                <a:cubicBezTo>
                  <a:pt x="15720" y="2179"/>
                  <a:pt x="15767" y="2244"/>
                  <a:pt x="15776" y="2282"/>
                </a:cubicBezTo>
                <a:cubicBezTo>
                  <a:pt x="15799" y="2379"/>
                  <a:pt x="15733" y="2527"/>
                  <a:pt x="15801" y="2604"/>
                </a:cubicBezTo>
                <a:cubicBezTo>
                  <a:pt x="15809" y="2612"/>
                  <a:pt x="15817" y="2621"/>
                  <a:pt x="15825" y="2629"/>
                </a:cubicBezTo>
                <a:cubicBezTo>
                  <a:pt x="15861" y="2594"/>
                  <a:pt x="15882" y="2571"/>
                  <a:pt x="15900" y="2530"/>
                </a:cubicBezTo>
                <a:cubicBezTo>
                  <a:pt x="15908" y="2513"/>
                  <a:pt x="15917" y="2497"/>
                  <a:pt x="15925" y="2480"/>
                </a:cubicBezTo>
              </a:path>
              <a:path w="2035" h="1340">
                <a:moveTo>
                  <a:pt x="16024" y="1960"/>
                </a:moveTo>
                <a:cubicBezTo>
                  <a:pt x="16024" y="2082"/>
                  <a:pt x="16044" y="2188"/>
                  <a:pt x="16049" y="2307"/>
                </a:cubicBezTo>
                <a:cubicBezTo>
                  <a:pt x="16052" y="2376"/>
                  <a:pt x="16063" y="2472"/>
                  <a:pt x="16098" y="2530"/>
                </a:cubicBezTo>
                <a:cubicBezTo>
                  <a:pt x="16121" y="2568"/>
                  <a:pt x="16143" y="2565"/>
                  <a:pt x="16098" y="2580"/>
                </a:cubicBezTo>
              </a:path>
              <a:path w="2035" h="1340">
                <a:moveTo>
                  <a:pt x="15850" y="2307"/>
                </a:moveTo>
                <a:cubicBezTo>
                  <a:pt x="15927" y="2307"/>
                  <a:pt x="15978" y="2315"/>
                  <a:pt x="16049" y="2332"/>
                </a:cubicBezTo>
                <a:cubicBezTo>
                  <a:pt x="16122" y="2349"/>
                  <a:pt x="16224" y="2414"/>
                  <a:pt x="16272" y="2356"/>
                </a:cubicBezTo>
                <a:cubicBezTo>
                  <a:pt x="16272" y="2348"/>
                  <a:pt x="16272" y="2340"/>
                  <a:pt x="16272" y="23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6120" y="1027080"/>
            <a:ext cx="3608640" cy="2581200"/>
          </a:xfrm>
          <a:custGeom>
            <a:avLst/>
            <a:gdLst/>
            <a:ahLst/>
            <a:rect l="l" t="t" r="r" b="b"/>
            <a:pathLst>
              <a:path w="10022" h="7169">
                <a:moveTo>
                  <a:pt x="4614" y="8136"/>
                </a:moveTo>
                <a:cubicBezTo>
                  <a:pt x="4614" y="8196"/>
                  <a:pt x="4605" y="8239"/>
                  <a:pt x="4638" y="8285"/>
                </a:cubicBezTo>
                <a:cubicBezTo>
                  <a:pt x="4682" y="8285"/>
                  <a:pt x="4688" y="8279"/>
                  <a:pt x="4713" y="8260"/>
                </a:cubicBezTo>
                <a:cubicBezTo>
                  <a:pt x="4730" y="8247"/>
                  <a:pt x="4771" y="8182"/>
                  <a:pt x="4762" y="8161"/>
                </a:cubicBezTo>
                <a:cubicBezTo>
                  <a:pt x="4747" y="8126"/>
                  <a:pt x="4729" y="8089"/>
                  <a:pt x="4688" y="8086"/>
                </a:cubicBezTo>
                <a:cubicBezTo>
                  <a:pt x="4640" y="8083"/>
                  <a:pt x="4587" y="8083"/>
                  <a:pt x="4564" y="8136"/>
                </a:cubicBezTo>
                <a:cubicBezTo>
                  <a:pt x="4555" y="8156"/>
                  <a:pt x="4523" y="8207"/>
                  <a:pt x="4539" y="8235"/>
                </a:cubicBezTo>
                <a:cubicBezTo>
                  <a:pt x="4553" y="8259"/>
                  <a:pt x="4598" y="8283"/>
                  <a:pt x="4614" y="8285"/>
                </a:cubicBezTo>
                <a:cubicBezTo>
                  <a:pt x="4687" y="8294"/>
                  <a:pt x="4684" y="8279"/>
                  <a:pt x="4713" y="8235"/>
                </a:cubicBezTo>
                <a:cubicBezTo>
                  <a:pt x="4748" y="8182"/>
                  <a:pt x="4762" y="8219"/>
                  <a:pt x="4762" y="8136"/>
                </a:cubicBezTo>
                <a:cubicBezTo>
                  <a:pt x="4762" y="8104"/>
                  <a:pt x="4745" y="8091"/>
                  <a:pt x="4738" y="8062"/>
                </a:cubicBezTo>
                <a:cubicBezTo>
                  <a:pt x="4690" y="8062"/>
                  <a:pt x="4658" y="8057"/>
                  <a:pt x="4614" y="8086"/>
                </a:cubicBezTo>
                <a:cubicBezTo>
                  <a:pt x="4576" y="8112"/>
                  <a:pt x="4550" y="8193"/>
                  <a:pt x="4539" y="8235"/>
                </a:cubicBezTo>
                <a:cubicBezTo>
                  <a:pt x="4532" y="8263"/>
                  <a:pt x="4557" y="8284"/>
                  <a:pt x="4564" y="8310"/>
                </a:cubicBezTo>
                <a:cubicBezTo>
                  <a:pt x="4621" y="8351"/>
                  <a:pt x="4655" y="8321"/>
                  <a:pt x="4713" y="8310"/>
                </a:cubicBezTo>
                <a:cubicBezTo>
                  <a:pt x="4759" y="8302"/>
                  <a:pt x="4796" y="8271"/>
                  <a:pt x="4812" y="8210"/>
                </a:cubicBezTo>
                <a:cubicBezTo>
                  <a:pt x="4812" y="8194"/>
                  <a:pt x="4812" y="8177"/>
                  <a:pt x="4812" y="8161"/>
                </a:cubicBezTo>
                <a:cubicBezTo>
                  <a:pt x="4774" y="8123"/>
                  <a:pt x="4766" y="8111"/>
                  <a:pt x="4713" y="8111"/>
                </a:cubicBezTo>
                <a:cubicBezTo>
                  <a:pt x="4659" y="8111"/>
                  <a:pt x="4651" y="8123"/>
                  <a:pt x="4638" y="8161"/>
                </a:cubicBezTo>
              </a:path>
              <a:path w="10022" h="7169">
                <a:moveTo>
                  <a:pt x="4762" y="8235"/>
                </a:moveTo>
                <a:cubicBezTo>
                  <a:pt x="4790" y="8218"/>
                  <a:pt x="4757" y="8224"/>
                  <a:pt x="4787" y="8210"/>
                </a:cubicBezTo>
                <a:cubicBezTo>
                  <a:pt x="4821" y="8194"/>
                  <a:pt x="4880" y="8179"/>
                  <a:pt x="4911" y="8161"/>
                </a:cubicBezTo>
                <a:cubicBezTo>
                  <a:pt x="4962" y="8131"/>
                  <a:pt x="5004" y="8086"/>
                  <a:pt x="5060" y="8062"/>
                </a:cubicBezTo>
                <a:cubicBezTo>
                  <a:pt x="5135" y="8031"/>
                  <a:pt x="5212" y="8021"/>
                  <a:pt x="5283" y="7987"/>
                </a:cubicBezTo>
                <a:cubicBezTo>
                  <a:pt x="5366" y="7947"/>
                  <a:pt x="5447" y="7905"/>
                  <a:pt x="5531" y="7863"/>
                </a:cubicBezTo>
                <a:cubicBezTo>
                  <a:pt x="5618" y="7820"/>
                  <a:pt x="5694" y="7759"/>
                  <a:pt x="5779" y="7714"/>
                </a:cubicBezTo>
                <a:cubicBezTo>
                  <a:pt x="5917" y="7640"/>
                  <a:pt x="6060" y="7558"/>
                  <a:pt x="6201" y="7491"/>
                </a:cubicBezTo>
                <a:cubicBezTo>
                  <a:pt x="6319" y="7435"/>
                  <a:pt x="6430" y="7378"/>
                  <a:pt x="6548" y="7317"/>
                </a:cubicBezTo>
                <a:cubicBezTo>
                  <a:pt x="6651" y="7264"/>
                  <a:pt x="6767" y="7223"/>
                  <a:pt x="6871" y="7169"/>
                </a:cubicBezTo>
                <a:cubicBezTo>
                  <a:pt x="7054" y="7075"/>
                  <a:pt x="7229" y="6956"/>
                  <a:pt x="7417" y="6871"/>
                </a:cubicBezTo>
                <a:cubicBezTo>
                  <a:pt x="7547" y="6812"/>
                  <a:pt x="7682" y="6760"/>
                  <a:pt x="7813" y="6697"/>
                </a:cubicBezTo>
                <a:cubicBezTo>
                  <a:pt x="8010" y="6601"/>
                  <a:pt x="8207" y="6481"/>
                  <a:pt x="8409" y="6400"/>
                </a:cubicBezTo>
                <a:cubicBezTo>
                  <a:pt x="8558" y="6340"/>
                  <a:pt x="8707" y="6290"/>
                  <a:pt x="8855" y="6226"/>
                </a:cubicBezTo>
                <a:cubicBezTo>
                  <a:pt x="9045" y="6144"/>
                  <a:pt x="9236" y="6061"/>
                  <a:pt x="9426" y="5978"/>
                </a:cubicBezTo>
                <a:cubicBezTo>
                  <a:pt x="9565" y="5917"/>
                  <a:pt x="9713" y="5865"/>
                  <a:pt x="9847" y="5804"/>
                </a:cubicBezTo>
                <a:cubicBezTo>
                  <a:pt x="9970" y="5748"/>
                  <a:pt x="10087" y="5675"/>
                  <a:pt x="10220" y="5631"/>
                </a:cubicBezTo>
                <a:cubicBezTo>
                  <a:pt x="10306" y="5602"/>
                  <a:pt x="10387" y="5588"/>
                  <a:pt x="10468" y="5556"/>
                </a:cubicBezTo>
                <a:cubicBezTo>
                  <a:pt x="10500" y="5544"/>
                  <a:pt x="10555" y="5512"/>
                  <a:pt x="10567" y="5507"/>
                </a:cubicBezTo>
                <a:cubicBezTo>
                  <a:pt x="10550" y="5501"/>
                  <a:pt x="10573" y="5468"/>
                  <a:pt x="10517" y="5457"/>
                </a:cubicBezTo>
                <a:cubicBezTo>
                  <a:pt x="10463" y="5446"/>
                  <a:pt x="10421" y="5437"/>
                  <a:pt x="10368" y="5432"/>
                </a:cubicBezTo>
                <a:cubicBezTo>
                  <a:pt x="10081" y="5407"/>
                  <a:pt x="9784" y="5431"/>
                  <a:pt x="9500" y="5407"/>
                </a:cubicBezTo>
                <a:cubicBezTo>
                  <a:pt x="9475" y="5407"/>
                  <a:pt x="9467" y="5407"/>
                  <a:pt x="9451" y="5407"/>
                </a:cubicBezTo>
                <a:cubicBezTo>
                  <a:pt x="9489" y="5416"/>
                  <a:pt x="9473" y="5425"/>
                  <a:pt x="9525" y="5432"/>
                </a:cubicBezTo>
                <a:cubicBezTo>
                  <a:pt x="9594" y="5441"/>
                  <a:pt x="9649" y="5452"/>
                  <a:pt x="9723" y="5457"/>
                </a:cubicBezTo>
                <a:cubicBezTo>
                  <a:pt x="9897" y="5469"/>
                  <a:pt x="10071" y="5476"/>
                  <a:pt x="10244" y="5482"/>
                </a:cubicBezTo>
                <a:cubicBezTo>
                  <a:pt x="10387" y="5487"/>
                  <a:pt x="10524" y="5501"/>
                  <a:pt x="10666" y="5507"/>
                </a:cubicBezTo>
                <a:cubicBezTo>
                  <a:pt x="10732" y="5510"/>
                  <a:pt x="10798" y="5505"/>
                  <a:pt x="10864" y="5507"/>
                </a:cubicBezTo>
                <a:cubicBezTo>
                  <a:pt x="10852" y="5536"/>
                  <a:pt x="10856" y="5544"/>
                  <a:pt x="10840" y="5581"/>
                </a:cubicBezTo>
                <a:cubicBezTo>
                  <a:pt x="10820" y="5627"/>
                  <a:pt x="10786" y="5678"/>
                  <a:pt x="10765" y="5730"/>
                </a:cubicBezTo>
                <a:cubicBezTo>
                  <a:pt x="10725" y="5829"/>
                  <a:pt x="10691" y="5911"/>
                  <a:pt x="10641" y="6003"/>
                </a:cubicBezTo>
                <a:cubicBezTo>
                  <a:pt x="10571" y="6132"/>
                  <a:pt x="10513" y="6271"/>
                  <a:pt x="10443" y="6400"/>
                </a:cubicBezTo>
                <a:cubicBezTo>
                  <a:pt x="10410" y="6460"/>
                  <a:pt x="10392" y="6518"/>
                  <a:pt x="10368" y="6573"/>
                </a:cubicBezTo>
                <a:cubicBezTo>
                  <a:pt x="10353" y="6607"/>
                  <a:pt x="10356" y="6588"/>
                  <a:pt x="10344" y="6623"/>
                </a:cubicBezTo>
              </a:path>
              <a:path w="10022" h="7169">
                <a:moveTo>
                  <a:pt x="4713" y="8954"/>
                </a:moveTo>
                <a:cubicBezTo>
                  <a:pt x="4713" y="9058"/>
                  <a:pt x="4700" y="9154"/>
                  <a:pt x="4688" y="9252"/>
                </a:cubicBezTo>
                <a:cubicBezTo>
                  <a:pt x="4674" y="9360"/>
                  <a:pt x="4684" y="9469"/>
                  <a:pt x="4663" y="9575"/>
                </a:cubicBezTo>
                <a:cubicBezTo>
                  <a:pt x="4645" y="9663"/>
                  <a:pt x="4638" y="9763"/>
                  <a:pt x="4614" y="9847"/>
                </a:cubicBezTo>
                <a:cubicBezTo>
                  <a:pt x="4599" y="9898"/>
                  <a:pt x="4577" y="9951"/>
                  <a:pt x="4564" y="9996"/>
                </a:cubicBezTo>
                <a:cubicBezTo>
                  <a:pt x="4564" y="10021"/>
                  <a:pt x="4564" y="10029"/>
                  <a:pt x="4564" y="9996"/>
                </a:cubicBezTo>
              </a:path>
              <a:path w="10022" h="7169">
                <a:moveTo>
                  <a:pt x="4018" y="9277"/>
                </a:moveTo>
                <a:cubicBezTo>
                  <a:pt x="4056" y="9272"/>
                  <a:pt x="4088" y="9271"/>
                  <a:pt x="4118" y="9252"/>
                </a:cubicBezTo>
                <a:cubicBezTo>
                  <a:pt x="4158" y="9227"/>
                  <a:pt x="4182" y="9163"/>
                  <a:pt x="4217" y="9128"/>
                </a:cubicBezTo>
                <a:cubicBezTo>
                  <a:pt x="4274" y="9071"/>
                  <a:pt x="4312" y="9013"/>
                  <a:pt x="4366" y="8954"/>
                </a:cubicBezTo>
                <a:cubicBezTo>
                  <a:pt x="4414" y="8902"/>
                  <a:pt x="4433" y="8873"/>
                  <a:pt x="4490" y="8830"/>
                </a:cubicBezTo>
                <a:cubicBezTo>
                  <a:pt x="4542" y="8791"/>
                  <a:pt x="4538" y="8810"/>
                  <a:pt x="4589" y="8830"/>
                </a:cubicBezTo>
                <a:cubicBezTo>
                  <a:pt x="4641" y="8851"/>
                  <a:pt x="4667" y="8875"/>
                  <a:pt x="4713" y="8905"/>
                </a:cubicBezTo>
                <a:cubicBezTo>
                  <a:pt x="4780" y="8949"/>
                  <a:pt x="4838" y="8992"/>
                  <a:pt x="4911" y="9029"/>
                </a:cubicBezTo>
                <a:cubicBezTo>
                  <a:pt x="4975" y="9061"/>
                  <a:pt x="5049" y="9092"/>
                  <a:pt x="5110" y="9103"/>
                </a:cubicBezTo>
                <a:cubicBezTo>
                  <a:pt x="5160" y="9112"/>
                  <a:pt x="5184" y="9121"/>
                  <a:pt x="5234" y="9128"/>
                </a:cubicBezTo>
              </a:path>
              <a:path w="10022" h="7169">
                <a:moveTo>
                  <a:pt x="11336" y="2853"/>
                </a:moveTo>
                <a:cubicBezTo>
                  <a:pt x="11331" y="2890"/>
                  <a:pt x="11316" y="2925"/>
                  <a:pt x="11311" y="2952"/>
                </a:cubicBezTo>
                <a:cubicBezTo>
                  <a:pt x="11299" y="3025"/>
                  <a:pt x="11289" y="3100"/>
                  <a:pt x="11286" y="3175"/>
                </a:cubicBezTo>
                <a:cubicBezTo>
                  <a:pt x="11283" y="3253"/>
                  <a:pt x="11264" y="3322"/>
                  <a:pt x="11261" y="3398"/>
                </a:cubicBezTo>
                <a:cubicBezTo>
                  <a:pt x="11256" y="3509"/>
                  <a:pt x="11223" y="3611"/>
                  <a:pt x="11212" y="3721"/>
                </a:cubicBezTo>
                <a:cubicBezTo>
                  <a:pt x="11200" y="3843"/>
                  <a:pt x="11205" y="3972"/>
                  <a:pt x="11187" y="4093"/>
                </a:cubicBezTo>
                <a:cubicBezTo>
                  <a:pt x="11168" y="4224"/>
                  <a:pt x="11125" y="4358"/>
                  <a:pt x="11112" y="4490"/>
                </a:cubicBezTo>
                <a:cubicBezTo>
                  <a:pt x="11099" y="4624"/>
                  <a:pt x="11076" y="4754"/>
                  <a:pt x="11063" y="4887"/>
                </a:cubicBezTo>
                <a:cubicBezTo>
                  <a:pt x="11054" y="4978"/>
                  <a:pt x="11043" y="5070"/>
                  <a:pt x="11038" y="5159"/>
                </a:cubicBezTo>
                <a:cubicBezTo>
                  <a:pt x="11036" y="5192"/>
                  <a:pt x="11038" y="5226"/>
                  <a:pt x="11038" y="5259"/>
                </a:cubicBezTo>
                <a:cubicBezTo>
                  <a:pt x="11024" y="5242"/>
                  <a:pt x="11006" y="5215"/>
                  <a:pt x="10988" y="5184"/>
                </a:cubicBezTo>
              </a:path>
              <a:path w="10022" h="7169">
                <a:moveTo>
                  <a:pt x="10765" y="5060"/>
                </a:moveTo>
                <a:cubicBezTo>
                  <a:pt x="10765" y="5110"/>
                  <a:pt x="10776" y="5119"/>
                  <a:pt x="10790" y="5159"/>
                </a:cubicBezTo>
                <a:cubicBezTo>
                  <a:pt x="10802" y="5196"/>
                  <a:pt x="10794" y="5249"/>
                  <a:pt x="10815" y="5283"/>
                </a:cubicBezTo>
                <a:cubicBezTo>
                  <a:pt x="10838" y="5321"/>
                  <a:pt x="10854" y="5349"/>
                  <a:pt x="10889" y="5383"/>
                </a:cubicBezTo>
                <a:cubicBezTo>
                  <a:pt x="10922" y="5415"/>
                  <a:pt x="10916" y="5441"/>
                  <a:pt x="10964" y="5457"/>
                </a:cubicBezTo>
                <a:cubicBezTo>
                  <a:pt x="10996" y="5468"/>
                  <a:pt x="11044" y="5459"/>
                  <a:pt x="11063" y="5432"/>
                </a:cubicBezTo>
                <a:cubicBezTo>
                  <a:pt x="11110" y="5366"/>
                  <a:pt x="11126" y="5336"/>
                  <a:pt x="11187" y="5283"/>
                </a:cubicBezTo>
                <a:cubicBezTo>
                  <a:pt x="11225" y="5250"/>
                  <a:pt x="11257" y="5207"/>
                  <a:pt x="11286" y="5184"/>
                </a:cubicBezTo>
                <a:cubicBezTo>
                  <a:pt x="11302" y="5172"/>
                  <a:pt x="11382" y="5115"/>
                  <a:pt x="11385" y="5110"/>
                </a:cubicBezTo>
                <a:cubicBezTo>
                  <a:pt x="11385" y="5085"/>
                  <a:pt x="11385" y="5077"/>
                  <a:pt x="11385" y="5110"/>
                </a:cubicBezTo>
              </a:path>
              <a:path w="10022" h="7169">
                <a:moveTo>
                  <a:pt x="12229" y="3398"/>
                </a:moveTo>
                <a:cubicBezTo>
                  <a:pt x="12165" y="3471"/>
                  <a:pt x="12137" y="3529"/>
                  <a:pt x="12105" y="3621"/>
                </a:cubicBezTo>
                <a:cubicBezTo>
                  <a:pt x="12064" y="3740"/>
                  <a:pt x="12010" y="3813"/>
                  <a:pt x="12005" y="3944"/>
                </a:cubicBezTo>
                <a:cubicBezTo>
                  <a:pt x="12002" y="4014"/>
                  <a:pt x="12015" y="4107"/>
                  <a:pt x="12055" y="4167"/>
                </a:cubicBezTo>
                <a:cubicBezTo>
                  <a:pt x="12084" y="4210"/>
                  <a:pt x="12130" y="4237"/>
                  <a:pt x="12179" y="4242"/>
                </a:cubicBezTo>
                <a:cubicBezTo>
                  <a:pt x="12236" y="4248"/>
                  <a:pt x="12220" y="4243"/>
                  <a:pt x="12254" y="4192"/>
                </a:cubicBezTo>
              </a:path>
              <a:path w="10022" h="7169">
                <a:moveTo>
                  <a:pt x="12303" y="3994"/>
                </a:moveTo>
                <a:cubicBezTo>
                  <a:pt x="12414" y="3994"/>
                  <a:pt x="12435" y="3986"/>
                  <a:pt x="12526" y="3944"/>
                </a:cubicBezTo>
                <a:cubicBezTo>
                  <a:pt x="12586" y="3916"/>
                  <a:pt x="12665" y="3863"/>
                  <a:pt x="12725" y="3820"/>
                </a:cubicBezTo>
                <a:cubicBezTo>
                  <a:pt x="12771" y="3787"/>
                  <a:pt x="12754" y="3732"/>
                  <a:pt x="12725" y="3696"/>
                </a:cubicBezTo>
                <a:cubicBezTo>
                  <a:pt x="12701" y="3666"/>
                  <a:pt x="12638" y="3658"/>
                  <a:pt x="12601" y="3671"/>
                </a:cubicBezTo>
                <a:cubicBezTo>
                  <a:pt x="12538" y="3693"/>
                  <a:pt x="12484" y="3741"/>
                  <a:pt x="12452" y="3795"/>
                </a:cubicBezTo>
                <a:cubicBezTo>
                  <a:pt x="12405" y="3875"/>
                  <a:pt x="12364" y="3930"/>
                  <a:pt x="12353" y="4018"/>
                </a:cubicBezTo>
                <a:cubicBezTo>
                  <a:pt x="12347" y="4069"/>
                  <a:pt x="12346" y="4106"/>
                  <a:pt x="12378" y="4142"/>
                </a:cubicBezTo>
                <a:cubicBezTo>
                  <a:pt x="12392" y="4158"/>
                  <a:pt x="12458" y="4221"/>
                  <a:pt x="12477" y="4217"/>
                </a:cubicBezTo>
                <a:cubicBezTo>
                  <a:pt x="12527" y="4206"/>
                  <a:pt x="12591" y="4168"/>
                  <a:pt x="12626" y="4118"/>
                </a:cubicBezTo>
                <a:cubicBezTo>
                  <a:pt x="12634" y="4101"/>
                  <a:pt x="12642" y="4085"/>
                  <a:pt x="12650" y="4068"/>
                </a:cubicBezTo>
              </a:path>
              <a:path w="10022" h="7169">
                <a:moveTo>
                  <a:pt x="12774" y="3894"/>
                </a:moveTo>
                <a:cubicBezTo>
                  <a:pt x="12794" y="3964"/>
                  <a:pt x="12805" y="4108"/>
                  <a:pt x="12849" y="4167"/>
                </a:cubicBezTo>
                <a:cubicBezTo>
                  <a:pt x="12823" y="4245"/>
                  <a:pt x="12824" y="4134"/>
                  <a:pt x="12824" y="4093"/>
                </a:cubicBezTo>
                <a:cubicBezTo>
                  <a:pt x="12824" y="4006"/>
                  <a:pt x="12813" y="3917"/>
                  <a:pt x="12849" y="3845"/>
                </a:cubicBezTo>
                <a:cubicBezTo>
                  <a:pt x="12886" y="3772"/>
                  <a:pt x="12888" y="3726"/>
                  <a:pt x="12973" y="3721"/>
                </a:cubicBezTo>
                <a:cubicBezTo>
                  <a:pt x="13062" y="3716"/>
                  <a:pt x="13062" y="3740"/>
                  <a:pt x="13097" y="3820"/>
                </a:cubicBezTo>
                <a:cubicBezTo>
                  <a:pt x="13127" y="3888"/>
                  <a:pt x="13140" y="3969"/>
                  <a:pt x="13146" y="4043"/>
                </a:cubicBezTo>
                <a:cubicBezTo>
                  <a:pt x="13149" y="4088"/>
                  <a:pt x="13143" y="4080"/>
                  <a:pt x="13171" y="4118"/>
                </a:cubicBezTo>
              </a:path>
              <a:path w="10022" h="7169">
                <a:moveTo>
                  <a:pt x="13469" y="3646"/>
                </a:moveTo>
                <a:cubicBezTo>
                  <a:pt x="13477" y="3630"/>
                  <a:pt x="13486" y="3613"/>
                  <a:pt x="13494" y="3597"/>
                </a:cubicBezTo>
                <a:cubicBezTo>
                  <a:pt x="13458" y="3606"/>
                  <a:pt x="13388" y="3667"/>
                  <a:pt x="13370" y="3696"/>
                </a:cubicBezTo>
                <a:cubicBezTo>
                  <a:pt x="13327" y="3768"/>
                  <a:pt x="13299" y="3863"/>
                  <a:pt x="13295" y="3944"/>
                </a:cubicBezTo>
                <a:cubicBezTo>
                  <a:pt x="13291" y="4019"/>
                  <a:pt x="13294" y="4042"/>
                  <a:pt x="13345" y="4093"/>
                </a:cubicBezTo>
                <a:cubicBezTo>
                  <a:pt x="13370" y="4118"/>
                  <a:pt x="13378" y="4126"/>
                  <a:pt x="13395" y="4142"/>
                </a:cubicBezTo>
                <a:cubicBezTo>
                  <a:pt x="13456" y="4127"/>
                  <a:pt x="13455" y="4116"/>
                  <a:pt x="13494" y="4068"/>
                </a:cubicBezTo>
                <a:cubicBezTo>
                  <a:pt x="13571" y="3974"/>
                  <a:pt x="13568" y="3909"/>
                  <a:pt x="13568" y="3795"/>
                </a:cubicBezTo>
                <a:cubicBezTo>
                  <a:pt x="13568" y="3689"/>
                  <a:pt x="13560" y="3596"/>
                  <a:pt x="13543" y="3497"/>
                </a:cubicBezTo>
                <a:cubicBezTo>
                  <a:pt x="13535" y="3451"/>
                  <a:pt x="13543" y="3395"/>
                  <a:pt x="13543" y="3349"/>
                </a:cubicBezTo>
                <a:cubicBezTo>
                  <a:pt x="13543" y="3470"/>
                  <a:pt x="13532" y="3579"/>
                  <a:pt x="13519" y="3696"/>
                </a:cubicBezTo>
                <a:cubicBezTo>
                  <a:pt x="13511" y="3766"/>
                  <a:pt x="13528" y="4105"/>
                  <a:pt x="13543" y="4068"/>
                </a:cubicBezTo>
                <a:cubicBezTo>
                  <a:pt x="13543" y="4043"/>
                  <a:pt x="13543" y="4035"/>
                  <a:pt x="13543" y="4018"/>
                </a:cubicBezTo>
              </a:path>
              <a:path w="10022" h="7169">
                <a:moveTo>
                  <a:pt x="13791" y="3101"/>
                </a:moveTo>
                <a:cubicBezTo>
                  <a:pt x="13900" y="3278"/>
                  <a:pt x="13992" y="3412"/>
                  <a:pt x="14015" y="3621"/>
                </a:cubicBezTo>
                <a:cubicBezTo>
                  <a:pt x="14028" y="3734"/>
                  <a:pt x="14036" y="3833"/>
                  <a:pt x="14015" y="3944"/>
                </a:cubicBezTo>
                <a:cubicBezTo>
                  <a:pt x="14003" y="4006"/>
                  <a:pt x="13966" y="4144"/>
                  <a:pt x="13915" y="4192"/>
                </a:cubicBezTo>
                <a:cubicBezTo>
                  <a:pt x="13881" y="4224"/>
                  <a:pt x="13858" y="4246"/>
                  <a:pt x="13816" y="4266"/>
                </a:cubicBezTo>
                <a:cubicBezTo>
                  <a:pt x="13791" y="4266"/>
                  <a:pt x="13783" y="4266"/>
                  <a:pt x="13791" y="42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57200" y="3776760"/>
            <a:ext cx="2143080" cy="581040"/>
          </a:xfrm>
          <a:custGeom>
            <a:avLst/>
            <a:gdLst/>
            <a:ahLst/>
            <a:rect l="l" t="t" r="r" b="b"/>
            <a:pathLst>
              <a:path w="5954" h="1614">
                <a:moveTo>
                  <a:pt x="3870" y="10864"/>
                </a:moveTo>
                <a:cubicBezTo>
                  <a:pt x="3851" y="10954"/>
                  <a:pt x="3825" y="11046"/>
                  <a:pt x="3820" y="11137"/>
                </a:cubicBezTo>
                <a:cubicBezTo>
                  <a:pt x="3816" y="11206"/>
                  <a:pt x="3812" y="11253"/>
                  <a:pt x="3795" y="11311"/>
                </a:cubicBezTo>
                <a:cubicBezTo>
                  <a:pt x="3795" y="11336"/>
                  <a:pt x="3795" y="11344"/>
                  <a:pt x="3795" y="11361"/>
                </a:cubicBezTo>
                <a:cubicBezTo>
                  <a:pt x="3755" y="11348"/>
                  <a:pt x="3770" y="11342"/>
                  <a:pt x="3770" y="11286"/>
                </a:cubicBezTo>
              </a:path>
              <a:path w="5954" h="1614">
                <a:moveTo>
                  <a:pt x="3820" y="10492"/>
                </a:moveTo>
                <a:cubicBezTo>
                  <a:pt x="3828" y="10492"/>
                  <a:pt x="3837" y="10492"/>
                  <a:pt x="3845" y="10492"/>
                </a:cubicBezTo>
              </a:path>
              <a:path w="5954" h="1614">
                <a:moveTo>
                  <a:pt x="4043" y="11137"/>
                </a:moveTo>
                <a:cubicBezTo>
                  <a:pt x="4039" y="11238"/>
                  <a:pt x="4018" y="11486"/>
                  <a:pt x="4018" y="11385"/>
                </a:cubicBezTo>
                <a:cubicBezTo>
                  <a:pt x="4018" y="11337"/>
                  <a:pt x="4029" y="11280"/>
                  <a:pt x="4043" y="11237"/>
                </a:cubicBezTo>
                <a:cubicBezTo>
                  <a:pt x="4070" y="11157"/>
                  <a:pt x="4125" y="11083"/>
                  <a:pt x="4167" y="11013"/>
                </a:cubicBezTo>
                <a:cubicBezTo>
                  <a:pt x="4204" y="10951"/>
                  <a:pt x="4227" y="10933"/>
                  <a:pt x="4291" y="10914"/>
                </a:cubicBezTo>
                <a:cubicBezTo>
                  <a:pt x="4323" y="10904"/>
                  <a:pt x="4374" y="10963"/>
                  <a:pt x="4390" y="10988"/>
                </a:cubicBezTo>
                <a:cubicBezTo>
                  <a:pt x="4428" y="11047"/>
                  <a:pt x="4437" y="11119"/>
                  <a:pt x="4440" y="11187"/>
                </a:cubicBezTo>
                <a:cubicBezTo>
                  <a:pt x="4442" y="11219"/>
                  <a:pt x="4419" y="11485"/>
                  <a:pt x="4465" y="11485"/>
                </a:cubicBezTo>
                <a:cubicBezTo>
                  <a:pt x="4465" y="11460"/>
                  <a:pt x="4465" y="11452"/>
                  <a:pt x="4490" y="11460"/>
                </a:cubicBezTo>
              </a:path>
              <a:path w="5954" h="1614">
                <a:moveTo>
                  <a:pt x="4787" y="10964"/>
                </a:moveTo>
                <a:cubicBezTo>
                  <a:pt x="4806" y="11120"/>
                  <a:pt x="4795" y="11215"/>
                  <a:pt x="4787" y="11361"/>
                </a:cubicBezTo>
                <a:cubicBezTo>
                  <a:pt x="4786" y="11382"/>
                  <a:pt x="4787" y="11547"/>
                  <a:pt x="4787" y="11485"/>
                </a:cubicBezTo>
                <a:cubicBezTo>
                  <a:pt x="4787" y="11460"/>
                  <a:pt x="4787" y="11452"/>
                  <a:pt x="4787" y="11435"/>
                </a:cubicBezTo>
              </a:path>
              <a:path w="5954" h="1614">
                <a:moveTo>
                  <a:pt x="4812" y="10716"/>
                </a:moveTo>
                <a:cubicBezTo>
                  <a:pt x="4812" y="10666"/>
                  <a:pt x="4812" y="10617"/>
                  <a:pt x="4812" y="10567"/>
                </a:cubicBezTo>
              </a:path>
              <a:path w="5954" h="1614">
                <a:moveTo>
                  <a:pt x="5135" y="10691"/>
                </a:moveTo>
                <a:cubicBezTo>
                  <a:pt x="5146" y="10793"/>
                  <a:pt x="5184" y="10976"/>
                  <a:pt x="5159" y="11088"/>
                </a:cubicBezTo>
                <a:cubicBezTo>
                  <a:pt x="5141" y="11168"/>
                  <a:pt x="5123" y="11249"/>
                  <a:pt x="5135" y="11336"/>
                </a:cubicBezTo>
                <a:cubicBezTo>
                  <a:pt x="5149" y="11436"/>
                  <a:pt x="5160" y="11463"/>
                  <a:pt x="5184" y="11534"/>
                </a:cubicBezTo>
                <a:cubicBezTo>
                  <a:pt x="5201" y="11585"/>
                  <a:pt x="5184" y="11530"/>
                  <a:pt x="5184" y="11509"/>
                </a:cubicBezTo>
              </a:path>
              <a:path w="5954" h="1614">
                <a:moveTo>
                  <a:pt x="4911" y="10988"/>
                </a:moveTo>
                <a:cubicBezTo>
                  <a:pt x="4975" y="10996"/>
                  <a:pt x="5047" y="10999"/>
                  <a:pt x="5110" y="11013"/>
                </a:cubicBezTo>
                <a:cubicBezTo>
                  <a:pt x="5197" y="11032"/>
                  <a:pt x="5268" y="11038"/>
                  <a:pt x="5358" y="11038"/>
                </a:cubicBezTo>
                <a:cubicBezTo>
                  <a:pt x="5432" y="11038"/>
                  <a:pt x="5507" y="11038"/>
                  <a:pt x="5581" y="11038"/>
                </a:cubicBezTo>
                <a:cubicBezTo>
                  <a:pt x="5581" y="11198"/>
                  <a:pt x="5577" y="11354"/>
                  <a:pt x="5606" y="11509"/>
                </a:cubicBezTo>
                <a:cubicBezTo>
                  <a:pt x="5621" y="11586"/>
                  <a:pt x="5594" y="11537"/>
                  <a:pt x="5581" y="11485"/>
                </a:cubicBezTo>
                <a:cubicBezTo>
                  <a:pt x="5581" y="11477"/>
                  <a:pt x="5581" y="11468"/>
                  <a:pt x="5581" y="11460"/>
                </a:cubicBezTo>
              </a:path>
              <a:path w="5954" h="1614">
                <a:moveTo>
                  <a:pt x="5631" y="10864"/>
                </a:moveTo>
                <a:cubicBezTo>
                  <a:pt x="5647" y="10839"/>
                  <a:pt x="5664" y="10815"/>
                  <a:pt x="5680" y="10790"/>
                </a:cubicBezTo>
              </a:path>
              <a:path w="5954" h="1614">
                <a:moveTo>
                  <a:pt x="6127" y="11162"/>
                </a:moveTo>
                <a:cubicBezTo>
                  <a:pt x="6071" y="11233"/>
                  <a:pt x="6017" y="11272"/>
                  <a:pt x="5953" y="11336"/>
                </a:cubicBezTo>
                <a:cubicBezTo>
                  <a:pt x="5892" y="11397"/>
                  <a:pt x="5879" y="11401"/>
                  <a:pt x="5879" y="11485"/>
                </a:cubicBezTo>
                <a:cubicBezTo>
                  <a:pt x="5879" y="11591"/>
                  <a:pt x="5967" y="11609"/>
                  <a:pt x="6052" y="11609"/>
                </a:cubicBezTo>
                <a:cubicBezTo>
                  <a:pt x="6131" y="11609"/>
                  <a:pt x="6137" y="11560"/>
                  <a:pt x="6176" y="11509"/>
                </a:cubicBezTo>
                <a:cubicBezTo>
                  <a:pt x="6188" y="11493"/>
                  <a:pt x="6230" y="11384"/>
                  <a:pt x="6226" y="11361"/>
                </a:cubicBezTo>
                <a:cubicBezTo>
                  <a:pt x="6221" y="11332"/>
                  <a:pt x="6201" y="11303"/>
                  <a:pt x="6201" y="11261"/>
                </a:cubicBezTo>
                <a:cubicBezTo>
                  <a:pt x="6201" y="11220"/>
                  <a:pt x="6192" y="11296"/>
                  <a:pt x="6201" y="11336"/>
                </a:cubicBezTo>
                <a:cubicBezTo>
                  <a:pt x="6218" y="11410"/>
                  <a:pt x="6248" y="11457"/>
                  <a:pt x="6300" y="11509"/>
                </a:cubicBezTo>
                <a:cubicBezTo>
                  <a:pt x="6340" y="11549"/>
                  <a:pt x="6382" y="11543"/>
                  <a:pt x="6424" y="11509"/>
                </a:cubicBezTo>
                <a:cubicBezTo>
                  <a:pt x="6432" y="11501"/>
                  <a:pt x="6441" y="11493"/>
                  <a:pt x="6449" y="11485"/>
                </a:cubicBezTo>
              </a:path>
              <a:path w="5954" h="1614">
                <a:moveTo>
                  <a:pt x="6548" y="10517"/>
                </a:moveTo>
                <a:cubicBezTo>
                  <a:pt x="6589" y="10659"/>
                  <a:pt x="6598" y="10745"/>
                  <a:pt x="6598" y="10889"/>
                </a:cubicBezTo>
                <a:cubicBezTo>
                  <a:pt x="6598" y="11022"/>
                  <a:pt x="6632" y="11187"/>
                  <a:pt x="6623" y="11311"/>
                </a:cubicBezTo>
                <a:cubicBezTo>
                  <a:pt x="6617" y="11392"/>
                  <a:pt x="6623" y="11447"/>
                  <a:pt x="6623" y="11534"/>
                </a:cubicBezTo>
                <a:cubicBezTo>
                  <a:pt x="6623" y="11579"/>
                  <a:pt x="6626" y="11592"/>
                  <a:pt x="6598" y="11609"/>
                </a:cubicBezTo>
              </a:path>
              <a:path w="5954" h="1614">
                <a:moveTo>
                  <a:pt x="7317" y="11261"/>
                </a:moveTo>
                <a:cubicBezTo>
                  <a:pt x="7361" y="11335"/>
                  <a:pt x="7324" y="11358"/>
                  <a:pt x="7317" y="11435"/>
                </a:cubicBezTo>
                <a:cubicBezTo>
                  <a:pt x="7306" y="11559"/>
                  <a:pt x="7306" y="11685"/>
                  <a:pt x="7293" y="11807"/>
                </a:cubicBezTo>
                <a:cubicBezTo>
                  <a:pt x="7285" y="11885"/>
                  <a:pt x="7317" y="11950"/>
                  <a:pt x="7317" y="12030"/>
                </a:cubicBezTo>
                <a:cubicBezTo>
                  <a:pt x="7317" y="12063"/>
                  <a:pt x="7317" y="12113"/>
                  <a:pt x="7317" y="12080"/>
                </a:cubicBezTo>
              </a:path>
              <a:path w="5954" h="1614">
                <a:moveTo>
                  <a:pt x="6995" y="11112"/>
                </a:moveTo>
                <a:cubicBezTo>
                  <a:pt x="7107" y="11098"/>
                  <a:pt x="7190" y="11102"/>
                  <a:pt x="7293" y="11162"/>
                </a:cubicBezTo>
                <a:cubicBezTo>
                  <a:pt x="7404" y="11227"/>
                  <a:pt x="7526" y="11296"/>
                  <a:pt x="7590" y="11410"/>
                </a:cubicBezTo>
                <a:cubicBezTo>
                  <a:pt x="7616" y="11456"/>
                  <a:pt x="7612" y="11526"/>
                  <a:pt x="7565" y="11559"/>
                </a:cubicBezTo>
                <a:cubicBezTo>
                  <a:pt x="7499" y="11605"/>
                  <a:pt x="7444" y="11609"/>
                  <a:pt x="7367" y="11609"/>
                </a:cubicBezTo>
                <a:cubicBezTo>
                  <a:pt x="7321" y="11609"/>
                  <a:pt x="7313" y="11627"/>
                  <a:pt x="7342" y="11584"/>
                </a:cubicBezTo>
              </a:path>
              <a:path w="5954" h="1614">
                <a:moveTo>
                  <a:pt x="7888" y="11261"/>
                </a:moveTo>
                <a:cubicBezTo>
                  <a:pt x="7798" y="11358"/>
                  <a:pt x="7764" y="11367"/>
                  <a:pt x="7764" y="11485"/>
                </a:cubicBezTo>
                <a:cubicBezTo>
                  <a:pt x="7764" y="11599"/>
                  <a:pt x="7876" y="11581"/>
                  <a:pt x="7938" y="11609"/>
                </a:cubicBezTo>
                <a:cubicBezTo>
                  <a:pt x="8002" y="11638"/>
                  <a:pt x="8027" y="11638"/>
                  <a:pt x="8086" y="11584"/>
                </a:cubicBezTo>
                <a:cubicBezTo>
                  <a:pt x="8143" y="11532"/>
                  <a:pt x="8133" y="11476"/>
                  <a:pt x="8111" y="11410"/>
                </a:cubicBezTo>
                <a:cubicBezTo>
                  <a:pt x="8084" y="11331"/>
                  <a:pt x="7995" y="11269"/>
                  <a:pt x="7938" y="11212"/>
                </a:cubicBezTo>
                <a:cubicBezTo>
                  <a:pt x="7898" y="11172"/>
                  <a:pt x="7794" y="11194"/>
                  <a:pt x="7789" y="11137"/>
                </a:cubicBezTo>
                <a:cubicBezTo>
                  <a:pt x="7797" y="11137"/>
                  <a:pt x="7805" y="11137"/>
                  <a:pt x="7813" y="11137"/>
                </a:cubicBezTo>
              </a:path>
              <a:path w="5954" h="1614">
                <a:moveTo>
                  <a:pt x="8409" y="11485"/>
                </a:moveTo>
                <a:cubicBezTo>
                  <a:pt x="8414" y="11579"/>
                  <a:pt x="8434" y="11648"/>
                  <a:pt x="8434" y="11733"/>
                </a:cubicBezTo>
                <a:cubicBezTo>
                  <a:pt x="8465" y="11690"/>
                  <a:pt x="8458" y="11692"/>
                  <a:pt x="8458" y="11633"/>
                </a:cubicBezTo>
              </a:path>
              <a:path w="5954" h="1614">
                <a:moveTo>
                  <a:pt x="8384" y="11088"/>
                </a:moveTo>
                <a:cubicBezTo>
                  <a:pt x="8393" y="11028"/>
                  <a:pt x="8378" y="11027"/>
                  <a:pt x="8434" y="11013"/>
                </a:cubicBezTo>
              </a:path>
              <a:path w="5954" h="1614">
                <a:moveTo>
                  <a:pt x="8607" y="11460"/>
                </a:moveTo>
                <a:cubicBezTo>
                  <a:pt x="8607" y="11526"/>
                  <a:pt x="8607" y="11592"/>
                  <a:pt x="8607" y="11658"/>
                </a:cubicBezTo>
                <a:cubicBezTo>
                  <a:pt x="8549" y="11639"/>
                  <a:pt x="8599" y="11623"/>
                  <a:pt x="8607" y="11584"/>
                </a:cubicBezTo>
                <a:cubicBezTo>
                  <a:pt x="8619" y="11526"/>
                  <a:pt x="8622" y="11463"/>
                  <a:pt x="8657" y="11410"/>
                </a:cubicBezTo>
                <a:cubicBezTo>
                  <a:pt x="8684" y="11369"/>
                  <a:pt x="8705" y="11317"/>
                  <a:pt x="8756" y="11311"/>
                </a:cubicBezTo>
                <a:cubicBezTo>
                  <a:pt x="8783" y="11308"/>
                  <a:pt x="8847" y="11358"/>
                  <a:pt x="8855" y="11385"/>
                </a:cubicBezTo>
                <a:cubicBezTo>
                  <a:pt x="8874" y="11452"/>
                  <a:pt x="8875" y="11518"/>
                  <a:pt x="8905" y="11584"/>
                </a:cubicBezTo>
                <a:cubicBezTo>
                  <a:pt x="8943" y="11669"/>
                  <a:pt x="8941" y="11731"/>
                  <a:pt x="9004" y="11807"/>
                </a:cubicBezTo>
                <a:cubicBezTo>
                  <a:pt x="9058" y="11872"/>
                  <a:pt x="9083" y="11898"/>
                  <a:pt x="9153" y="11857"/>
                </a:cubicBezTo>
              </a:path>
              <a:path w="5954" h="1614">
                <a:moveTo>
                  <a:pt x="9376" y="10988"/>
                </a:moveTo>
                <a:cubicBezTo>
                  <a:pt x="9400" y="11075"/>
                  <a:pt x="9416" y="11172"/>
                  <a:pt x="9426" y="11261"/>
                </a:cubicBezTo>
                <a:cubicBezTo>
                  <a:pt x="9438" y="11367"/>
                  <a:pt x="9456" y="11455"/>
                  <a:pt x="9475" y="11559"/>
                </a:cubicBezTo>
                <a:cubicBezTo>
                  <a:pt x="9489" y="11635"/>
                  <a:pt x="9508" y="11708"/>
                  <a:pt x="9525" y="11782"/>
                </a:cubicBezTo>
                <a:cubicBezTo>
                  <a:pt x="9525" y="11807"/>
                  <a:pt x="9525" y="11815"/>
                  <a:pt x="9525" y="11832"/>
                </a:cubicBezTo>
              </a:path>
              <a:path w="5954" h="1614">
                <a:moveTo>
                  <a:pt x="9153" y="11361"/>
                </a:moveTo>
                <a:cubicBezTo>
                  <a:pt x="9281" y="11340"/>
                  <a:pt x="9398" y="11332"/>
                  <a:pt x="9525" y="11361"/>
                </a:cubicBezTo>
                <a:cubicBezTo>
                  <a:pt x="9594" y="11377"/>
                  <a:pt x="9650" y="11385"/>
                  <a:pt x="9723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72040" y="2901960"/>
            <a:ext cx="1366920" cy="2849400"/>
          </a:xfrm>
          <a:custGeom>
            <a:avLst/>
            <a:gdLst/>
            <a:ahLst/>
            <a:rect l="l" t="t" r="r" b="b"/>
            <a:pathLst>
              <a:path w="3796" h="7913">
                <a:moveTo>
                  <a:pt x="17735" y="12477"/>
                </a:moveTo>
                <a:cubicBezTo>
                  <a:pt x="17706" y="12425"/>
                  <a:pt x="17707" y="12410"/>
                  <a:pt x="17686" y="12378"/>
                </a:cubicBezTo>
                <a:cubicBezTo>
                  <a:pt x="17650" y="12323"/>
                  <a:pt x="17602" y="12282"/>
                  <a:pt x="17562" y="12229"/>
                </a:cubicBezTo>
                <a:cubicBezTo>
                  <a:pt x="17502" y="12150"/>
                  <a:pt x="17450" y="12061"/>
                  <a:pt x="17388" y="11981"/>
                </a:cubicBezTo>
                <a:cubicBezTo>
                  <a:pt x="17275" y="11834"/>
                  <a:pt x="17158" y="11677"/>
                  <a:pt x="17041" y="11534"/>
                </a:cubicBezTo>
                <a:cubicBezTo>
                  <a:pt x="16919" y="11385"/>
                  <a:pt x="16790" y="11240"/>
                  <a:pt x="16669" y="11088"/>
                </a:cubicBezTo>
                <a:cubicBezTo>
                  <a:pt x="16452" y="10816"/>
                  <a:pt x="16240" y="10541"/>
                  <a:pt x="16024" y="10269"/>
                </a:cubicBezTo>
                <a:cubicBezTo>
                  <a:pt x="15886" y="10096"/>
                  <a:pt x="15749" y="9913"/>
                  <a:pt x="15602" y="9748"/>
                </a:cubicBezTo>
                <a:cubicBezTo>
                  <a:pt x="15422" y="9546"/>
                  <a:pt x="15247" y="9343"/>
                  <a:pt x="15081" y="9128"/>
                </a:cubicBezTo>
                <a:cubicBezTo>
                  <a:pt x="14983" y="9002"/>
                  <a:pt x="14858" y="8908"/>
                  <a:pt x="14759" y="8781"/>
                </a:cubicBezTo>
                <a:cubicBezTo>
                  <a:pt x="14685" y="8686"/>
                  <a:pt x="14615" y="8621"/>
                  <a:pt x="14536" y="8533"/>
                </a:cubicBezTo>
                <a:cubicBezTo>
                  <a:pt x="14491" y="8483"/>
                  <a:pt x="14448" y="8407"/>
                  <a:pt x="14412" y="8359"/>
                </a:cubicBezTo>
                <a:cubicBezTo>
                  <a:pt x="14399" y="8388"/>
                  <a:pt x="14376" y="8393"/>
                  <a:pt x="14362" y="8434"/>
                </a:cubicBezTo>
                <a:cubicBezTo>
                  <a:pt x="14343" y="8489"/>
                  <a:pt x="14334" y="8550"/>
                  <a:pt x="14312" y="8607"/>
                </a:cubicBezTo>
                <a:cubicBezTo>
                  <a:pt x="14268" y="8722"/>
                  <a:pt x="14230" y="8839"/>
                  <a:pt x="14188" y="8954"/>
                </a:cubicBezTo>
                <a:cubicBezTo>
                  <a:pt x="14160" y="9030"/>
                  <a:pt x="14135" y="9103"/>
                  <a:pt x="14114" y="9178"/>
                </a:cubicBezTo>
                <a:cubicBezTo>
                  <a:pt x="14105" y="9210"/>
                  <a:pt x="14096" y="9244"/>
                  <a:pt x="14089" y="9277"/>
                </a:cubicBezTo>
                <a:cubicBezTo>
                  <a:pt x="14103" y="9237"/>
                  <a:pt x="14128" y="9192"/>
                  <a:pt x="14139" y="9153"/>
                </a:cubicBezTo>
                <a:cubicBezTo>
                  <a:pt x="14163" y="9066"/>
                  <a:pt x="14166" y="8971"/>
                  <a:pt x="14188" y="8880"/>
                </a:cubicBezTo>
                <a:cubicBezTo>
                  <a:pt x="14216" y="8765"/>
                  <a:pt x="14267" y="8649"/>
                  <a:pt x="14288" y="8533"/>
                </a:cubicBezTo>
                <a:cubicBezTo>
                  <a:pt x="14307" y="8427"/>
                  <a:pt x="14317" y="8313"/>
                  <a:pt x="14337" y="8210"/>
                </a:cubicBezTo>
                <a:cubicBezTo>
                  <a:pt x="14348" y="8152"/>
                  <a:pt x="14345" y="8108"/>
                  <a:pt x="14387" y="8086"/>
                </a:cubicBezTo>
                <a:cubicBezTo>
                  <a:pt x="14469" y="8043"/>
                  <a:pt x="14455" y="8088"/>
                  <a:pt x="14536" y="8111"/>
                </a:cubicBezTo>
                <a:cubicBezTo>
                  <a:pt x="14655" y="8144"/>
                  <a:pt x="14792" y="8192"/>
                  <a:pt x="14908" y="8235"/>
                </a:cubicBezTo>
                <a:cubicBezTo>
                  <a:pt x="15033" y="8282"/>
                  <a:pt x="15150" y="8319"/>
                  <a:pt x="15280" y="8359"/>
                </a:cubicBezTo>
                <a:cubicBezTo>
                  <a:pt x="15369" y="8387"/>
                  <a:pt x="15499" y="8434"/>
                  <a:pt x="15577" y="8434"/>
                </a:cubicBezTo>
                <a:cubicBezTo>
                  <a:pt x="15602" y="8434"/>
                  <a:pt x="15602" y="8407"/>
                  <a:pt x="15627" y="8409"/>
                </a:cubicBezTo>
              </a:path>
              <a:path w="3796" h="7913">
                <a:moveTo>
                  <a:pt x="17835" y="12551"/>
                </a:moveTo>
                <a:cubicBezTo>
                  <a:pt x="17813" y="12521"/>
                  <a:pt x="17796" y="12493"/>
                  <a:pt x="17785" y="12477"/>
                </a:cubicBezTo>
                <a:cubicBezTo>
                  <a:pt x="17742" y="12418"/>
                  <a:pt x="17755" y="12427"/>
                  <a:pt x="17686" y="12427"/>
                </a:cubicBezTo>
                <a:cubicBezTo>
                  <a:pt x="17648" y="12490"/>
                  <a:pt x="17661" y="12500"/>
                  <a:pt x="17711" y="12551"/>
                </a:cubicBezTo>
                <a:cubicBezTo>
                  <a:pt x="17743" y="12584"/>
                  <a:pt x="17765" y="12576"/>
                  <a:pt x="17810" y="12576"/>
                </a:cubicBezTo>
                <a:cubicBezTo>
                  <a:pt x="17818" y="12576"/>
                  <a:pt x="17827" y="12576"/>
                  <a:pt x="17835" y="12576"/>
                </a:cubicBezTo>
                <a:cubicBezTo>
                  <a:pt x="17842" y="12525"/>
                  <a:pt x="17874" y="12481"/>
                  <a:pt x="17810" y="12452"/>
                </a:cubicBezTo>
                <a:cubicBezTo>
                  <a:pt x="17742" y="12422"/>
                  <a:pt x="17691" y="12457"/>
                  <a:pt x="17661" y="12502"/>
                </a:cubicBezTo>
                <a:cubicBezTo>
                  <a:pt x="17692" y="12512"/>
                  <a:pt x="17703" y="12543"/>
                  <a:pt x="17735" y="12576"/>
                </a:cubicBezTo>
                <a:cubicBezTo>
                  <a:pt x="17781" y="12623"/>
                  <a:pt x="17833" y="12602"/>
                  <a:pt x="17884" y="12576"/>
                </a:cubicBezTo>
                <a:cubicBezTo>
                  <a:pt x="17884" y="12514"/>
                  <a:pt x="17883" y="12510"/>
                  <a:pt x="17859" y="12477"/>
                </a:cubicBezTo>
                <a:cubicBezTo>
                  <a:pt x="17837" y="12447"/>
                  <a:pt x="17762" y="12452"/>
                  <a:pt x="17810" y="12452"/>
                </a:cubicBezTo>
              </a:path>
              <a:path w="3796" h="7913">
                <a:moveTo>
                  <a:pt x="14337" y="15974"/>
                </a:moveTo>
                <a:cubicBezTo>
                  <a:pt x="14355" y="15921"/>
                  <a:pt x="14357" y="15884"/>
                  <a:pt x="14387" y="15825"/>
                </a:cubicBezTo>
                <a:cubicBezTo>
                  <a:pt x="14431" y="15739"/>
                  <a:pt x="14481" y="15657"/>
                  <a:pt x="14536" y="15577"/>
                </a:cubicBezTo>
                <a:cubicBezTo>
                  <a:pt x="14598" y="15487"/>
                  <a:pt x="14677" y="15395"/>
                  <a:pt x="14734" y="15304"/>
                </a:cubicBezTo>
                <a:cubicBezTo>
                  <a:pt x="14819" y="15168"/>
                  <a:pt x="14913" y="15028"/>
                  <a:pt x="14982" y="14883"/>
                </a:cubicBezTo>
                <a:cubicBezTo>
                  <a:pt x="15116" y="14604"/>
                  <a:pt x="15269" y="14315"/>
                  <a:pt x="15354" y="14015"/>
                </a:cubicBezTo>
                <a:cubicBezTo>
                  <a:pt x="15411" y="13813"/>
                  <a:pt x="15437" y="13597"/>
                  <a:pt x="15478" y="13395"/>
                </a:cubicBezTo>
                <a:cubicBezTo>
                  <a:pt x="15493" y="13321"/>
                  <a:pt x="15508" y="13241"/>
                  <a:pt x="15528" y="13171"/>
                </a:cubicBezTo>
                <a:cubicBezTo>
                  <a:pt x="15538" y="13136"/>
                  <a:pt x="15568" y="13155"/>
                  <a:pt x="15553" y="13122"/>
                </a:cubicBezTo>
                <a:cubicBezTo>
                  <a:pt x="15553" y="13087"/>
                  <a:pt x="15544" y="13074"/>
                  <a:pt x="15503" y="13072"/>
                </a:cubicBezTo>
              </a:path>
              <a:path w="3796" h="7913">
                <a:moveTo>
                  <a:pt x="15205" y="13097"/>
                </a:moveTo>
                <a:cubicBezTo>
                  <a:pt x="15132" y="13118"/>
                  <a:pt x="15050" y="13142"/>
                  <a:pt x="14982" y="13171"/>
                </a:cubicBezTo>
                <a:cubicBezTo>
                  <a:pt x="14948" y="13186"/>
                  <a:pt x="14912" y="13207"/>
                  <a:pt x="14883" y="13221"/>
                </a:cubicBezTo>
                <a:cubicBezTo>
                  <a:pt x="14927" y="13186"/>
                  <a:pt x="14979" y="13154"/>
                  <a:pt x="15032" y="13122"/>
                </a:cubicBezTo>
                <a:cubicBezTo>
                  <a:pt x="15105" y="13078"/>
                  <a:pt x="15183" y="13041"/>
                  <a:pt x="15255" y="12998"/>
                </a:cubicBezTo>
                <a:cubicBezTo>
                  <a:pt x="15277" y="12985"/>
                  <a:pt x="15383" y="12921"/>
                  <a:pt x="15404" y="12923"/>
                </a:cubicBezTo>
                <a:cubicBezTo>
                  <a:pt x="15446" y="12927"/>
                  <a:pt x="15492" y="13044"/>
                  <a:pt x="15503" y="13072"/>
                </a:cubicBezTo>
                <a:cubicBezTo>
                  <a:pt x="15544" y="13175"/>
                  <a:pt x="15594" y="13274"/>
                  <a:pt x="15652" y="13370"/>
                </a:cubicBezTo>
                <a:cubicBezTo>
                  <a:pt x="15705" y="13457"/>
                  <a:pt x="15770" y="13535"/>
                  <a:pt x="15825" y="13618"/>
                </a:cubicBezTo>
                <a:cubicBezTo>
                  <a:pt x="15857" y="13666"/>
                  <a:pt x="15895" y="13728"/>
                  <a:pt x="15925" y="13767"/>
                </a:cubicBezTo>
                <a:cubicBezTo>
                  <a:pt x="15933" y="13775"/>
                  <a:pt x="15941" y="13783"/>
                  <a:pt x="15949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62040" y="4330800"/>
            <a:ext cx="1386000" cy="625320"/>
          </a:xfrm>
          <a:custGeom>
            <a:avLst/>
            <a:gdLst/>
            <a:ahLst/>
            <a:rect l="l" t="t" r="r" b="b"/>
            <a:pathLst>
              <a:path w="3846" h="1738">
                <a:moveTo>
                  <a:pt x="4738" y="12030"/>
                </a:moveTo>
                <a:cubicBezTo>
                  <a:pt x="4693" y="12129"/>
                  <a:pt x="4627" y="12209"/>
                  <a:pt x="4564" y="12303"/>
                </a:cubicBezTo>
                <a:cubicBezTo>
                  <a:pt x="4491" y="12412"/>
                  <a:pt x="4432" y="12474"/>
                  <a:pt x="4390" y="12601"/>
                </a:cubicBezTo>
                <a:cubicBezTo>
                  <a:pt x="4359" y="12695"/>
                  <a:pt x="4318" y="12797"/>
                  <a:pt x="4341" y="12898"/>
                </a:cubicBezTo>
                <a:cubicBezTo>
                  <a:pt x="4359" y="12977"/>
                  <a:pt x="4411" y="13027"/>
                  <a:pt x="4465" y="13072"/>
                </a:cubicBezTo>
                <a:cubicBezTo>
                  <a:pt x="4506" y="13106"/>
                  <a:pt x="4534" y="13097"/>
                  <a:pt x="4589" y="13097"/>
                </a:cubicBezTo>
              </a:path>
              <a:path w="3846" h="1738">
                <a:moveTo>
                  <a:pt x="5234" y="12576"/>
                </a:moveTo>
                <a:cubicBezTo>
                  <a:pt x="5170" y="12593"/>
                  <a:pt x="5098" y="12615"/>
                  <a:pt x="5035" y="12626"/>
                </a:cubicBezTo>
                <a:cubicBezTo>
                  <a:pt x="4991" y="12634"/>
                  <a:pt x="4915" y="12627"/>
                  <a:pt x="4911" y="12675"/>
                </a:cubicBezTo>
                <a:cubicBezTo>
                  <a:pt x="4905" y="12757"/>
                  <a:pt x="4960" y="12751"/>
                  <a:pt x="5011" y="12799"/>
                </a:cubicBezTo>
                <a:cubicBezTo>
                  <a:pt x="5072" y="12856"/>
                  <a:pt x="5159" y="12908"/>
                  <a:pt x="5209" y="12973"/>
                </a:cubicBezTo>
                <a:cubicBezTo>
                  <a:pt x="5252" y="13028"/>
                  <a:pt x="5293" y="13108"/>
                  <a:pt x="5234" y="13171"/>
                </a:cubicBezTo>
                <a:cubicBezTo>
                  <a:pt x="5191" y="13217"/>
                  <a:pt x="5090" y="13196"/>
                  <a:pt x="5035" y="13196"/>
                </a:cubicBezTo>
                <a:cubicBezTo>
                  <a:pt x="4997" y="13196"/>
                  <a:pt x="4898" y="13157"/>
                  <a:pt x="4936" y="13097"/>
                </a:cubicBezTo>
                <a:cubicBezTo>
                  <a:pt x="4961" y="13072"/>
                  <a:pt x="4986" y="13047"/>
                  <a:pt x="5011" y="13022"/>
                </a:cubicBezTo>
              </a:path>
              <a:path w="3846" h="1738">
                <a:moveTo>
                  <a:pt x="5655" y="12502"/>
                </a:moveTo>
                <a:cubicBezTo>
                  <a:pt x="5655" y="12649"/>
                  <a:pt x="5664" y="12781"/>
                  <a:pt x="5680" y="12923"/>
                </a:cubicBezTo>
                <a:cubicBezTo>
                  <a:pt x="5690" y="13012"/>
                  <a:pt x="5710" y="13087"/>
                  <a:pt x="5730" y="13171"/>
                </a:cubicBezTo>
                <a:cubicBezTo>
                  <a:pt x="5730" y="13196"/>
                  <a:pt x="5730" y="13204"/>
                  <a:pt x="5705" y="13196"/>
                </a:cubicBezTo>
              </a:path>
              <a:path w="3846" h="1738">
                <a:moveTo>
                  <a:pt x="5407" y="12700"/>
                </a:moveTo>
                <a:cubicBezTo>
                  <a:pt x="5495" y="12700"/>
                  <a:pt x="5570" y="12713"/>
                  <a:pt x="5655" y="12725"/>
                </a:cubicBezTo>
                <a:cubicBezTo>
                  <a:pt x="5730" y="12735"/>
                  <a:pt x="5803" y="12744"/>
                  <a:pt x="5879" y="12750"/>
                </a:cubicBezTo>
              </a:path>
              <a:path w="3846" h="1738">
                <a:moveTo>
                  <a:pt x="6400" y="12923"/>
                </a:moveTo>
                <a:cubicBezTo>
                  <a:pt x="6407" y="12940"/>
                  <a:pt x="6424" y="13032"/>
                  <a:pt x="6424" y="12973"/>
                </a:cubicBezTo>
                <a:cubicBezTo>
                  <a:pt x="6397" y="12936"/>
                  <a:pt x="6386" y="12910"/>
                  <a:pt x="6350" y="12874"/>
                </a:cubicBezTo>
                <a:cubicBezTo>
                  <a:pt x="6334" y="12858"/>
                  <a:pt x="6274" y="12814"/>
                  <a:pt x="6251" y="12824"/>
                </a:cubicBezTo>
                <a:cubicBezTo>
                  <a:pt x="6201" y="12846"/>
                  <a:pt x="6158" y="12911"/>
                  <a:pt x="6127" y="12948"/>
                </a:cubicBezTo>
                <a:cubicBezTo>
                  <a:pt x="6089" y="12993"/>
                  <a:pt x="6038" y="13057"/>
                  <a:pt x="6052" y="13122"/>
                </a:cubicBezTo>
                <a:cubicBezTo>
                  <a:pt x="6063" y="13171"/>
                  <a:pt x="6100" y="13242"/>
                  <a:pt x="6152" y="13246"/>
                </a:cubicBezTo>
                <a:cubicBezTo>
                  <a:pt x="6194" y="13249"/>
                  <a:pt x="6267" y="13256"/>
                  <a:pt x="6300" y="13221"/>
                </a:cubicBezTo>
                <a:cubicBezTo>
                  <a:pt x="6348" y="13170"/>
                  <a:pt x="6396" y="13088"/>
                  <a:pt x="6400" y="13022"/>
                </a:cubicBezTo>
                <a:cubicBezTo>
                  <a:pt x="6402" y="12981"/>
                  <a:pt x="6400" y="12907"/>
                  <a:pt x="6400" y="12948"/>
                </a:cubicBezTo>
                <a:cubicBezTo>
                  <a:pt x="6400" y="13023"/>
                  <a:pt x="6394" y="13078"/>
                  <a:pt x="6424" y="13146"/>
                </a:cubicBezTo>
                <a:cubicBezTo>
                  <a:pt x="6453" y="13211"/>
                  <a:pt x="6487" y="13279"/>
                  <a:pt x="6548" y="13320"/>
                </a:cubicBezTo>
                <a:cubicBezTo>
                  <a:pt x="6589" y="13348"/>
                  <a:pt x="6605" y="13345"/>
                  <a:pt x="6648" y="13345"/>
                </a:cubicBezTo>
              </a:path>
              <a:path w="3846" h="1738">
                <a:moveTo>
                  <a:pt x="6722" y="13072"/>
                </a:moveTo>
                <a:cubicBezTo>
                  <a:pt x="6728" y="13140"/>
                  <a:pt x="6729" y="13229"/>
                  <a:pt x="6747" y="13295"/>
                </a:cubicBezTo>
                <a:cubicBezTo>
                  <a:pt x="6768" y="13371"/>
                  <a:pt x="6761" y="13385"/>
                  <a:pt x="6747" y="13320"/>
                </a:cubicBezTo>
                <a:cubicBezTo>
                  <a:pt x="6723" y="13209"/>
                  <a:pt x="6753" y="13068"/>
                  <a:pt x="6772" y="12973"/>
                </a:cubicBezTo>
                <a:cubicBezTo>
                  <a:pt x="6786" y="12901"/>
                  <a:pt x="6827" y="12886"/>
                  <a:pt x="6896" y="12849"/>
                </a:cubicBezTo>
                <a:cubicBezTo>
                  <a:pt x="6968" y="12811"/>
                  <a:pt x="7045" y="12783"/>
                  <a:pt x="7119" y="12750"/>
                </a:cubicBezTo>
              </a:path>
              <a:path w="3846" h="1738">
                <a:moveTo>
                  <a:pt x="7392" y="12551"/>
                </a:moveTo>
                <a:cubicBezTo>
                  <a:pt x="7392" y="12752"/>
                  <a:pt x="7395" y="12950"/>
                  <a:pt x="7417" y="13146"/>
                </a:cubicBezTo>
                <a:cubicBezTo>
                  <a:pt x="7428" y="13242"/>
                  <a:pt x="7446" y="13305"/>
                  <a:pt x="7466" y="13395"/>
                </a:cubicBezTo>
                <a:cubicBezTo>
                  <a:pt x="7466" y="13411"/>
                  <a:pt x="7466" y="13428"/>
                  <a:pt x="7466" y="13444"/>
                </a:cubicBezTo>
              </a:path>
              <a:path w="3846" h="1738">
                <a:moveTo>
                  <a:pt x="7193" y="12973"/>
                </a:moveTo>
                <a:cubicBezTo>
                  <a:pt x="7311" y="13003"/>
                  <a:pt x="7431" y="13007"/>
                  <a:pt x="7541" y="12998"/>
                </a:cubicBezTo>
                <a:cubicBezTo>
                  <a:pt x="7616" y="12998"/>
                  <a:pt x="7642" y="12998"/>
                  <a:pt x="7689" y="12973"/>
                </a:cubicBezTo>
              </a:path>
              <a:path w="3846" h="1738">
                <a:moveTo>
                  <a:pt x="7813" y="12402"/>
                </a:moveTo>
                <a:cubicBezTo>
                  <a:pt x="7925" y="12530"/>
                  <a:pt x="8011" y="12668"/>
                  <a:pt x="8086" y="12824"/>
                </a:cubicBezTo>
                <a:cubicBezTo>
                  <a:pt x="8151" y="12959"/>
                  <a:pt x="8201" y="13144"/>
                  <a:pt x="8186" y="13295"/>
                </a:cubicBezTo>
                <a:cubicBezTo>
                  <a:pt x="8174" y="13416"/>
                  <a:pt x="8140" y="13547"/>
                  <a:pt x="8062" y="13643"/>
                </a:cubicBezTo>
                <a:cubicBezTo>
                  <a:pt x="8009" y="13709"/>
                  <a:pt x="7957" y="13735"/>
                  <a:pt x="7888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67120" y="4456080"/>
            <a:ext cx="1150920" cy="750960"/>
          </a:xfrm>
          <a:custGeom>
            <a:avLst/>
            <a:gdLst/>
            <a:ahLst/>
            <a:rect l="l" t="t" r="r" b="b"/>
            <a:pathLst>
              <a:path w="3201" h="2084">
                <a:moveTo>
                  <a:pt x="13841" y="12402"/>
                </a:moveTo>
                <a:lnTo>
                  <a:pt x="13841" y="12402"/>
                </a:lnTo>
              </a:path>
              <a:path w="3201" h="2084">
                <a:moveTo>
                  <a:pt x="13940" y="12378"/>
                </a:moveTo>
                <a:cubicBezTo>
                  <a:pt x="13908" y="12392"/>
                  <a:pt x="13905" y="12386"/>
                  <a:pt x="13866" y="12402"/>
                </a:cubicBezTo>
                <a:cubicBezTo>
                  <a:pt x="13819" y="12421"/>
                  <a:pt x="13765" y="12457"/>
                  <a:pt x="13717" y="12477"/>
                </a:cubicBezTo>
                <a:cubicBezTo>
                  <a:pt x="13631" y="12514"/>
                  <a:pt x="13553" y="12563"/>
                  <a:pt x="13469" y="12601"/>
                </a:cubicBezTo>
                <a:cubicBezTo>
                  <a:pt x="13341" y="12659"/>
                  <a:pt x="13222" y="12731"/>
                  <a:pt x="13097" y="12799"/>
                </a:cubicBezTo>
                <a:cubicBezTo>
                  <a:pt x="12944" y="12882"/>
                  <a:pt x="12800" y="12982"/>
                  <a:pt x="12650" y="13072"/>
                </a:cubicBezTo>
                <a:cubicBezTo>
                  <a:pt x="12479" y="13174"/>
                  <a:pt x="12322" y="13290"/>
                  <a:pt x="12154" y="13395"/>
                </a:cubicBezTo>
                <a:cubicBezTo>
                  <a:pt x="11968" y="13511"/>
                  <a:pt x="11787" y="13638"/>
                  <a:pt x="11609" y="13767"/>
                </a:cubicBezTo>
                <a:cubicBezTo>
                  <a:pt x="11479" y="13861"/>
                  <a:pt x="11362" y="13966"/>
                  <a:pt x="11237" y="14064"/>
                </a:cubicBezTo>
                <a:cubicBezTo>
                  <a:pt x="11222" y="14076"/>
                  <a:pt x="11132" y="14148"/>
                  <a:pt x="11112" y="14139"/>
                </a:cubicBezTo>
                <a:cubicBezTo>
                  <a:pt x="11105" y="14136"/>
                  <a:pt x="11116" y="14072"/>
                  <a:pt x="11112" y="14064"/>
                </a:cubicBezTo>
              </a:path>
              <a:path w="3201" h="2084">
                <a:moveTo>
                  <a:pt x="11013" y="13965"/>
                </a:moveTo>
                <a:cubicBezTo>
                  <a:pt x="10973" y="14023"/>
                  <a:pt x="10925" y="14080"/>
                  <a:pt x="10889" y="14139"/>
                </a:cubicBezTo>
                <a:cubicBezTo>
                  <a:pt x="10854" y="14196"/>
                  <a:pt x="10821" y="14251"/>
                  <a:pt x="10790" y="14312"/>
                </a:cubicBezTo>
                <a:cubicBezTo>
                  <a:pt x="10762" y="14368"/>
                  <a:pt x="10739" y="14412"/>
                  <a:pt x="10765" y="14412"/>
                </a:cubicBezTo>
                <a:cubicBezTo>
                  <a:pt x="10807" y="14412"/>
                  <a:pt x="10837" y="14387"/>
                  <a:pt x="10889" y="14387"/>
                </a:cubicBezTo>
                <a:cubicBezTo>
                  <a:pt x="10986" y="14387"/>
                  <a:pt x="11069" y="14402"/>
                  <a:pt x="11162" y="14412"/>
                </a:cubicBezTo>
                <a:cubicBezTo>
                  <a:pt x="11249" y="14422"/>
                  <a:pt x="11328" y="14447"/>
                  <a:pt x="11410" y="14461"/>
                </a:cubicBezTo>
                <a:cubicBezTo>
                  <a:pt x="11449" y="14467"/>
                  <a:pt x="11510" y="14471"/>
                  <a:pt x="11534" y="14436"/>
                </a:cubicBezTo>
                <a:cubicBezTo>
                  <a:pt x="11570" y="14385"/>
                  <a:pt x="11598" y="14363"/>
                  <a:pt x="11633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ector is in “standard position” if its initial point is at the origi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73680" y="2500200"/>
            <a:ext cx="3733560" cy="71640"/>
          </a:xfrm>
          <a:custGeom>
            <a:avLst/>
            <a:gdLst/>
            <a:ahLst/>
            <a:rect l="l" t="t" r="r" b="b"/>
            <a:pathLst>
              <a:path w="10369" h="200">
                <a:moveTo>
                  <a:pt x="11038" y="7045"/>
                </a:moveTo>
                <a:cubicBezTo>
                  <a:pt x="11109" y="7045"/>
                  <a:pt x="11179" y="7063"/>
                  <a:pt x="11237" y="7069"/>
                </a:cubicBezTo>
                <a:cubicBezTo>
                  <a:pt x="11320" y="7078"/>
                  <a:pt x="11407" y="7085"/>
                  <a:pt x="11485" y="7094"/>
                </a:cubicBezTo>
                <a:cubicBezTo>
                  <a:pt x="11574" y="7104"/>
                  <a:pt x="11669" y="7113"/>
                  <a:pt x="11757" y="7119"/>
                </a:cubicBezTo>
                <a:cubicBezTo>
                  <a:pt x="11880" y="7128"/>
                  <a:pt x="12013" y="7135"/>
                  <a:pt x="12129" y="7144"/>
                </a:cubicBezTo>
                <a:cubicBezTo>
                  <a:pt x="12424" y="7166"/>
                  <a:pt x="12731" y="7146"/>
                  <a:pt x="13022" y="7119"/>
                </a:cubicBezTo>
                <a:cubicBezTo>
                  <a:pt x="13310" y="7093"/>
                  <a:pt x="13606" y="7121"/>
                  <a:pt x="13891" y="7094"/>
                </a:cubicBezTo>
                <a:cubicBezTo>
                  <a:pt x="14064" y="7078"/>
                  <a:pt x="14240" y="7086"/>
                  <a:pt x="14412" y="7069"/>
                </a:cubicBezTo>
                <a:cubicBezTo>
                  <a:pt x="14535" y="7057"/>
                  <a:pt x="14663" y="7057"/>
                  <a:pt x="14784" y="7045"/>
                </a:cubicBezTo>
                <a:cubicBezTo>
                  <a:pt x="14893" y="7034"/>
                  <a:pt x="14960" y="7015"/>
                  <a:pt x="15056" y="6995"/>
                </a:cubicBezTo>
                <a:cubicBezTo>
                  <a:pt x="15106" y="6985"/>
                  <a:pt x="15213" y="6974"/>
                  <a:pt x="15255" y="6970"/>
                </a:cubicBezTo>
                <a:cubicBezTo>
                  <a:pt x="15307" y="6965"/>
                  <a:pt x="15331" y="6955"/>
                  <a:pt x="15354" y="6945"/>
                </a:cubicBezTo>
              </a:path>
              <a:path w="10369" h="200">
                <a:moveTo>
                  <a:pt x="16743" y="7094"/>
                </a:moveTo>
                <a:cubicBezTo>
                  <a:pt x="16871" y="7094"/>
                  <a:pt x="16993" y="7081"/>
                  <a:pt x="17115" y="7069"/>
                </a:cubicBezTo>
                <a:cubicBezTo>
                  <a:pt x="18029" y="6983"/>
                  <a:pt x="19059" y="7018"/>
                  <a:pt x="19968" y="7094"/>
                </a:cubicBezTo>
                <a:cubicBezTo>
                  <a:pt x="20232" y="7116"/>
                  <a:pt x="20501" y="7090"/>
                  <a:pt x="20762" y="7119"/>
                </a:cubicBezTo>
                <a:cubicBezTo>
                  <a:pt x="20899" y="7134"/>
                  <a:pt x="21051" y="7131"/>
                  <a:pt x="21183" y="7144"/>
                </a:cubicBezTo>
                <a:cubicBezTo>
                  <a:pt x="21264" y="7152"/>
                  <a:pt x="21340" y="7147"/>
                  <a:pt x="21406" y="7119"/>
                </a:cubicBezTo>
                <a:cubicBezTo>
                  <a:pt x="21398" y="7119"/>
                  <a:pt x="21390" y="7119"/>
                  <a:pt x="21382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38960" y="3232080"/>
            <a:ext cx="1116000" cy="590760"/>
          </a:xfrm>
          <a:custGeom>
            <a:avLst/>
            <a:gdLst/>
            <a:ahLst/>
            <a:rect l="l" t="t" r="r" b="b"/>
            <a:pathLst>
              <a:path w="3102" h="1638">
                <a:moveTo>
                  <a:pt x="18355" y="8979"/>
                </a:moveTo>
                <a:cubicBezTo>
                  <a:pt x="18308" y="8991"/>
                  <a:pt x="18297" y="9027"/>
                  <a:pt x="18256" y="9054"/>
                </a:cubicBezTo>
                <a:cubicBezTo>
                  <a:pt x="18168" y="9111"/>
                  <a:pt x="18093" y="9190"/>
                  <a:pt x="18033" y="9277"/>
                </a:cubicBezTo>
                <a:cubicBezTo>
                  <a:pt x="17994" y="9334"/>
                  <a:pt x="17923" y="9459"/>
                  <a:pt x="17909" y="9525"/>
                </a:cubicBezTo>
                <a:cubicBezTo>
                  <a:pt x="17894" y="9596"/>
                  <a:pt x="17868" y="9698"/>
                  <a:pt x="17884" y="9773"/>
                </a:cubicBezTo>
                <a:cubicBezTo>
                  <a:pt x="17901" y="9856"/>
                  <a:pt x="17935" y="9917"/>
                  <a:pt x="17959" y="9996"/>
                </a:cubicBezTo>
                <a:cubicBezTo>
                  <a:pt x="17967" y="10023"/>
                  <a:pt x="17978" y="10081"/>
                  <a:pt x="18008" y="10096"/>
                </a:cubicBezTo>
                <a:cubicBezTo>
                  <a:pt x="18016" y="10096"/>
                  <a:pt x="18025" y="10096"/>
                  <a:pt x="18033" y="10096"/>
                </a:cubicBezTo>
              </a:path>
              <a:path w="3102" h="1638">
                <a:moveTo>
                  <a:pt x="18678" y="9475"/>
                </a:moveTo>
                <a:cubicBezTo>
                  <a:pt x="18657" y="9532"/>
                  <a:pt x="18617" y="9591"/>
                  <a:pt x="18604" y="9649"/>
                </a:cubicBezTo>
                <a:cubicBezTo>
                  <a:pt x="18589" y="9716"/>
                  <a:pt x="18579" y="9776"/>
                  <a:pt x="18579" y="9847"/>
                </a:cubicBezTo>
                <a:cubicBezTo>
                  <a:pt x="18579" y="9937"/>
                  <a:pt x="18577" y="10016"/>
                  <a:pt x="18628" y="10096"/>
                </a:cubicBezTo>
                <a:cubicBezTo>
                  <a:pt x="18677" y="10172"/>
                  <a:pt x="18750" y="10170"/>
                  <a:pt x="18827" y="10170"/>
                </a:cubicBezTo>
                <a:cubicBezTo>
                  <a:pt x="18890" y="10170"/>
                  <a:pt x="18951" y="10136"/>
                  <a:pt x="19000" y="10096"/>
                </a:cubicBezTo>
                <a:cubicBezTo>
                  <a:pt x="19064" y="10043"/>
                  <a:pt x="19109" y="9980"/>
                  <a:pt x="19124" y="9897"/>
                </a:cubicBezTo>
                <a:cubicBezTo>
                  <a:pt x="19137" y="9825"/>
                  <a:pt x="19147" y="9771"/>
                  <a:pt x="19124" y="9699"/>
                </a:cubicBezTo>
                <a:cubicBezTo>
                  <a:pt x="19097" y="9615"/>
                  <a:pt x="19063" y="9598"/>
                  <a:pt x="19000" y="9550"/>
                </a:cubicBezTo>
                <a:cubicBezTo>
                  <a:pt x="18946" y="9509"/>
                  <a:pt x="18878" y="9453"/>
                  <a:pt x="18802" y="9475"/>
                </a:cubicBezTo>
                <a:cubicBezTo>
                  <a:pt x="18735" y="9495"/>
                  <a:pt x="18703" y="9526"/>
                  <a:pt x="18653" y="9575"/>
                </a:cubicBezTo>
                <a:cubicBezTo>
                  <a:pt x="18615" y="9613"/>
                  <a:pt x="18588" y="9667"/>
                  <a:pt x="18604" y="9723"/>
                </a:cubicBezTo>
                <a:cubicBezTo>
                  <a:pt x="18612" y="9740"/>
                  <a:pt x="18620" y="9756"/>
                  <a:pt x="18628" y="9773"/>
                </a:cubicBezTo>
              </a:path>
              <a:path w="3102" h="1638">
                <a:moveTo>
                  <a:pt x="19447" y="10096"/>
                </a:moveTo>
                <a:cubicBezTo>
                  <a:pt x="19447" y="10160"/>
                  <a:pt x="19442" y="10213"/>
                  <a:pt x="19422" y="10269"/>
                </a:cubicBezTo>
                <a:cubicBezTo>
                  <a:pt x="19404" y="10320"/>
                  <a:pt x="19386" y="10373"/>
                  <a:pt x="19372" y="10418"/>
                </a:cubicBezTo>
                <a:cubicBezTo>
                  <a:pt x="19363" y="10446"/>
                  <a:pt x="19328" y="10555"/>
                  <a:pt x="19372" y="10443"/>
                </a:cubicBezTo>
              </a:path>
              <a:path w="3102" h="1638">
                <a:moveTo>
                  <a:pt x="19844" y="9624"/>
                </a:moveTo>
                <a:cubicBezTo>
                  <a:pt x="19836" y="9683"/>
                  <a:pt x="19821" y="9716"/>
                  <a:pt x="19794" y="9773"/>
                </a:cubicBezTo>
                <a:cubicBezTo>
                  <a:pt x="19770" y="9824"/>
                  <a:pt x="19749" y="9892"/>
                  <a:pt x="19745" y="9947"/>
                </a:cubicBezTo>
                <a:cubicBezTo>
                  <a:pt x="19742" y="9995"/>
                  <a:pt x="19765" y="10060"/>
                  <a:pt x="19794" y="10096"/>
                </a:cubicBezTo>
                <a:cubicBezTo>
                  <a:pt x="19836" y="10147"/>
                  <a:pt x="19884" y="10145"/>
                  <a:pt x="19943" y="10145"/>
                </a:cubicBezTo>
                <a:cubicBezTo>
                  <a:pt x="20040" y="10145"/>
                  <a:pt x="20075" y="10151"/>
                  <a:pt x="20166" y="10096"/>
                </a:cubicBezTo>
                <a:cubicBezTo>
                  <a:pt x="20207" y="10071"/>
                  <a:pt x="20238" y="9992"/>
                  <a:pt x="20241" y="9947"/>
                </a:cubicBezTo>
                <a:cubicBezTo>
                  <a:pt x="20246" y="9875"/>
                  <a:pt x="20245" y="9813"/>
                  <a:pt x="20216" y="9748"/>
                </a:cubicBezTo>
                <a:cubicBezTo>
                  <a:pt x="20203" y="9719"/>
                  <a:pt x="20153" y="9634"/>
                  <a:pt x="20117" y="9624"/>
                </a:cubicBezTo>
                <a:cubicBezTo>
                  <a:pt x="20041" y="9602"/>
                  <a:pt x="20021" y="9606"/>
                  <a:pt x="19943" y="9624"/>
                </a:cubicBezTo>
                <a:cubicBezTo>
                  <a:pt x="19886" y="9637"/>
                  <a:pt x="19861" y="9658"/>
                  <a:pt x="19819" y="9699"/>
                </a:cubicBezTo>
                <a:cubicBezTo>
                  <a:pt x="19779" y="9738"/>
                  <a:pt x="19769" y="9770"/>
                  <a:pt x="19769" y="9823"/>
                </a:cubicBezTo>
                <a:cubicBezTo>
                  <a:pt x="19769" y="9856"/>
                  <a:pt x="19769" y="9889"/>
                  <a:pt x="19769" y="9922"/>
                </a:cubicBezTo>
              </a:path>
              <a:path w="3102" h="1638">
                <a:moveTo>
                  <a:pt x="20414" y="9153"/>
                </a:moveTo>
                <a:cubicBezTo>
                  <a:pt x="20517" y="9204"/>
                  <a:pt x="20554" y="9288"/>
                  <a:pt x="20638" y="9376"/>
                </a:cubicBezTo>
                <a:cubicBezTo>
                  <a:pt x="20735" y="9478"/>
                  <a:pt x="20790" y="9580"/>
                  <a:pt x="20861" y="9699"/>
                </a:cubicBezTo>
                <a:cubicBezTo>
                  <a:pt x="20917" y="9793"/>
                  <a:pt x="20971" y="9933"/>
                  <a:pt x="20985" y="10046"/>
                </a:cubicBezTo>
                <a:cubicBezTo>
                  <a:pt x="20996" y="10134"/>
                  <a:pt x="20981" y="10236"/>
                  <a:pt x="20960" y="10319"/>
                </a:cubicBezTo>
                <a:cubicBezTo>
                  <a:pt x="20945" y="10379"/>
                  <a:pt x="20891" y="10492"/>
                  <a:pt x="20836" y="10517"/>
                </a:cubicBezTo>
                <a:cubicBezTo>
                  <a:pt x="20779" y="10543"/>
                  <a:pt x="20764" y="10542"/>
                  <a:pt x="20712" y="10592"/>
                </a:cubicBezTo>
                <a:cubicBezTo>
                  <a:pt x="20689" y="10614"/>
                  <a:pt x="20684" y="10622"/>
                  <a:pt x="20662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219320"/>
            <a:ext cx="4492440" cy="4610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89680" y="1544760"/>
            <a:ext cx="393480" cy="339480"/>
          </a:xfrm>
          <a:custGeom>
            <a:avLst/>
            <a:gdLst/>
            <a:ahLst/>
            <a:rect l="l" t="t" r="r" b="b"/>
            <a:pathLst>
              <a:path w="1092" h="944">
                <a:moveTo>
                  <a:pt x="14139" y="5234"/>
                </a:moveTo>
                <a:cubicBezTo>
                  <a:pt x="14158" y="5209"/>
                  <a:pt x="14155" y="5191"/>
                  <a:pt x="14188" y="5159"/>
                </a:cubicBezTo>
                <a:cubicBezTo>
                  <a:pt x="14244" y="5104"/>
                  <a:pt x="14292" y="5048"/>
                  <a:pt x="14362" y="5011"/>
                </a:cubicBezTo>
                <a:cubicBezTo>
                  <a:pt x="14432" y="4975"/>
                  <a:pt x="14481" y="4918"/>
                  <a:pt x="14536" y="4862"/>
                </a:cubicBezTo>
                <a:cubicBezTo>
                  <a:pt x="14614" y="4784"/>
                  <a:pt x="14684" y="4729"/>
                  <a:pt x="14759" y="4663"/>
                </a:cubicBezTo>
                <a:cubicBezTo>
                  <a:pt x="14817" y="4612"/>
                  <a:pt x="14910" y="4545"/>
                  <a:pt x="14957" y="4490"/>
                </a:cubicBezTo>
                <a:cubicBezTo>
                  <a:pt x="14992" y="4449"/>
                  <a:pt x="15016" y="4406"/>
                  <a:pt x="15056" y="4366"/>
                </a:cubicBezTo>
                <a:cubicBezTo>
                  <a:pt x="15073" y="4349"/>
                  <a:pt x="15102" y="4333"/>
                  <a:pt x="15131" y="4316"/>
                </a:cubicBezTo>
                <a:cubicBezTo>
                  <a:pt x="15163" y="4298"/>
                  <a:pt x="15106" y="4325"/>
                  <a:pt x="15081" y="4341"/>
                </a:cubicBezTo>
                <a:cubicBezTo>
                  <a:pt x="15048" y="4362"/>
                  <a:pt x="14997" y="4370"/>
                  <a:pt x="14957" y="4390"/>
                </a:cubicBezTo>
                <a:cubicBezTo>
                  <a:pt x="14901" y="4418"/>
                  <a:pt x="14837" y="4413"/>
                  <a:pt x="14784" y="4440"/>
                </a:cubicBezTo>
                <a:cubicBezTo>
                  <a:pt x="14761" y="4463"/>
                  <a:pt x="14757" y="4471"/>
                  <a:pt x="14734" y="4465"/>
                </a:cubicBezTo>
                <a:cubicBezTo>
                  <a:pt x="14770" y="4429"/>
                  <a:pt x="14799" y="4420"/>
                  <a:pt x="14833" y="4390"/>
                </a:cubicBezTo>
                <a:cubicBezTo>
                  <a:pt x="14862" y="4364"/>
                  <a:pt x="14896" y="4349"/>
                  <a:pt x="14932" y="4341"/>
                </a:cubicBezTo>
                <a:cubicBezTo>
                  <a:pt x="14992" y="4328"/>
                  <a:pt x="15048" y="4338"/>
                  <a:pt x="15106" y="4316"/>
                </a:cubicBezTo>
                <a:cubicBezTo>
                  <a:pt x="15158" y="4296"/>
                  <a:pt x="15177" y="4296"/>
                  <a:pt x="15230" y="4291"/>
                </a:cubicBezTo>
                <a:cubicBezTo>
                  <a:pt x="15225" y="4330"/>
                  <a:pt x="15211" y="4360"/>
                  <a:pt x="15205" y="4390"/>
                </a:cubicBezTo>
                <a:cubicBezTo>
                  <a:pt x="15192" y="4453"/>
                  <a:pt x="15213" y="4511"/>
                  <a:pt x="15230" y="45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01920" y="1839960"/>
            <a:ext cx="1635120" cy="1224000"/>
          </a:xfrm>
          <a:custGeom>
            <a:avLst/>
            <a:gdLst/>
            <a:ahLst/>
            <a:rect l="l" t="t" r="r" b="b"/>
            <a:pathLst>
              <a:path w="4541" h="3399">
                <a:moveTo>
                  <a:pt x="7764" y="5135"/>
                </a:moveTo>
                <a:cubicBezTo>
                  <a:pt x="7731" y="5151"/>
                  <a:pt x="7740" y="5133"/>
                  <a:pt x="7714" y="5159"/>
                </a:cubicBezTo>
                <a:cubicBezTo>
                  <a:pt x="7674" y="5198"/>
                  <a:pt x="7611" y="5251"/>
                  <a:pt x="7565" y="5283"/>
                </a:cubicBezTo>
                <a:cubicBezTo>
                  <a:pt x="7485" y="5340"/>
                  <a:pt x="7395" y="5371"/>
                  <a:pt x="7317" y="5432"/>
                </a:cubicBezTo>
                <a:cubicBezTo>
                  <a:pt x="7235" y="5496"/>
                  <a:pt x="7135" y="5553"/>
                  <a:pt x="7045" y="5606"/>
                </a:cubicBezTo>
                <a:cubicBezTo>
                  <a:pt x="6934" y="5672"/>
                  <a:pt x="6824" y="5726"/>
                  <a:pt x="6722" y="5804"/>
                </a:cubicBezTo>
                <a:cubicBezTo>
                  <a:pt x="6689" y="5829"/>
                  <a:pt x="6688" y="5851"/>
                  <a:pt x="6672" y="5879"/>
                </a:cubicBezTo>
                <a:cubicBezTo>
                  <a:pt x="6738" y="5879"/>
                  <a:pt x="6785" y="5877"/>
                  <a:pt x="6846" y="5904"/>
                </a:cubicBezTo>
                <a:cubicBezTo>
                  <a:pt x="6924" y="5938"/>
                  <a:pt x="6991" y="5952"/>
                  <a:pt x="7069" y="5978"/>
                </a:cubicBezTo>
                <a:cubicBezTo>
                  <a:pt x="7173" y="6013"/>
                  <a:pt x="7267" y="6051"/>
                  <a:pt x="7367" y="6077"/>
                </a:cubicBezTo>
                <a:cubicBezTo>
                  <a:pt x="7448" y="6098"/>
                  <a:pt x="7513" y="6146"/>
                  <a:pt x="7590" y="6176"/>
                </a:cubicBezTo>
                <a:cubicBezTo>
                  <a:pt x="7630" y="6192"/>
                  <a:pt x="7671" y="6196"/>
                  <a:pt x="7714" y="6201"/>
                </a:cubicBezTo>
              </a:path>
              <a:path w="4541" h="3399">
                <a:moveTo>
                  <a:pt x="8682" y="6102"/>
                </a:moveTo>
                <a:cubicBezTo>
                  <a:pt x="8675" y="6154"/>
                  <a:pt x="8672" y="6226"/>
                  <a:pt x="8657" y="6276"/>
                </a:cubicBezTo>
                <a:cubicBezTo>
                  <a:pt x="8646" y="6312"/>
                  <a:pt x="8625" y="6395"/>
                  <a:pt x="8607" y="6424"/>
                </a:cubicBezTo>
                <a:cubicBezTo>
                  <a:pt x="8588" y="6455"/>
                  <a:pt x="8579" y="6470"/>
                  <a:pt x="8558" y="6499"/>
                </a:cubicBezTo>
              </a:path>
              <a:path w="4541" h="3399">
                <a:moveTo>
                  <a:pt x="10393" y="5159"/>
                </a:moveTo>
                <a:cubicBezTo>
                  <a:pt x="10420" y="5186"/>
                  <a:pt x="10449" y="5204"/>
                  <a:pt x="10468" y="5234"/>
                </a:cubicBezTo>
                <a:cubicBezTo>
                  <a:pt x="10509" y="5299"/>
                  <a:pt x="10559" y="5333"/>
                  <a:pt x="10616" y="5383"/>
                </a:cubicBezTo>
                <a:cubicBezTo>
                  <a:pt x="10696" y="5453"/>
                  <a:pt x="10759" y="5529"/>
                  <a:pt x="10840" y="5606"/>
                </a:cubicBezTo>
                <a:cubicBezTo>
                  <a:pt x="10904" y="5668"/>
                  <a:pt x="10958" y="5725"/>
                  <a:pt x="11013" y="5779"/>
                </a:cubicBezTo>
                <a:cubicBezTo>
                  <a:pt x="11028" y="5794"/>
                  <a:pt x="11140" y="5873"/>
                  <a:pt x="11162" y="5879"/>
                </a:cubicBezTo>
                <a:cubicBezTo>
                  <a:pt x="11205" y="5891"/>
                  <a:pt x="11224" y="5879"/>
                  <a:pt x="11212" y="5879"/>
                </a:cubicBezTo>
                <a:cubicBezTo>
                  <a:pt x="11164" y="5879"/>
                  <a:pt x="11149" y="5874"/>
                  <a:pt x="11112" y="5904"/>
                </a:cubicBezTo>
                <a:cubicBezTo>
                  <a:pt x="11071" y="5937"/>
                  <a:pt x="11026" y="5967"/>
                  <a:pt x="10988" y="6003"/>
                </a:cubicBezTo>
                <a:cubicBezTo>
                  <a:pt x="10908" y="6077"/>
                  <a:pt x="10812" y="6131"/>
                  <a:pt x="10716" y="6176"/>
                </a:cubicBezTo>
                <a:cubicBezTo>
                  <a:pt x="10648" y="6208"/>
                  <a:pt x="10587" y="6231"/>
                  <a:pt x="10517" y="6251"/>
                </a:cubicBezTo>
                <a:cubicBezTo>
                  <a:pt x="10500" y="6256"/>
                  <a:pt x="10376" y="6264"/>
                  <a:pt x="10368" y="6276"/>
                </a:cubicBezTo>
                <a:cubicBezTo>
                  <a:pt x="10368" y="6300"/>
                  <a:pt x="10368" y="6308"/>
                  <a:pt x="10393" y="6300"/>
                </a:cubicBezTo>
              </a:path>
              <a:path w="4541" h="3399">
                <a:moveTo>
                  <a:pt x="8954" y="8359"/>
                </a:moveTo>
                <a:cubicBezTo>
                  <a:pt x="8937" y="8306"/>
                  <a:pt x="8912" y="8352"/>
                  <a:pt x="8880" y="8384"/>
                </a:cubicBezTo>
                <a:cubicBezTo>
                  <a:pt x="8848" y="8416"/>
                  <a:pt x="8811" y="8439"/>
                  <a:pt x="8806" y="8483"/>
                </a:cubicBezTo>
                <a:cubicBezTo>
                  <a:pt x="8806" y="8491"/>
                  <a:pt x="8806" y="8500"/>
                  <a:pt x="8806" y="8508"/>
                </a:cubicBezTo>
                <a:cubicBezTo>
                  <a:pt x="8867" y="8508"/>
                  <a:pt x="8932" y="8521"/>
                  <a:pt x="8979" y="8483"/>
                </a:cubicBezTo>
                <a:cubicBezTo>
                  <a:pt x="9011" y="8457"/>
                  <a:pt x="9051" y="8425"/>
                  <a:pt x="9054" y="8384"/>
                </a:cubicBezTo>
                <a:cubicBezTo>
                  <a:pt x="9058" y="8330"/>
                  <a:pt x="9065" y="8302"/>
                  <a:pt x="9029" y="8285"/>
                </a:cubicBezTo>
                <a:cubicBezTo>
                  <a:pt x="8959" y="8253"/>
                  <a:pt x="8937" y="8278"/>
                  <a:pt x="8880" y="8310"/>
                </a:cubicBezTo>
                <a:cubicBezTo>
                  <a:pt x="8819" y="8344"/>
                  <a:pt x="8841" y="8336"/>
                  <a:pt x="8806" y="8384"/>
                </a:cubicBezTo>
                <a:cubicBezTo>
                  <a:pt x="8840" y="8396"/>
                  <a:pt x="8830" y="8428"/>
                  <a:pt x="8880" y="8434"/>
                </a:cubicBezTo>
                <a:cubicBezTo>
                  <a:pt x="8922" y="8439"/>
                  <a:pt x="8975" y="8415"/>
                  <a:pt x="8979" y="8384"/>
                </a:cubicBezTo>
                <a:cubicBezTo>
                  <a:pt x="8982" y="8362"/>
                  <a:pt x="8967" y="8290"/>
                  <a:pt x="8954" y="8285"/>
                </a:cubicBezTo>
                <a:cubicBezTo>
                  <a:pt x="8909" y="8268"/>
                  <a:pt x="8690" y="8285"/>
                  <a:pt x="8731" y="8285"/>
                </a:cubicBezTo>
              </a:path>
              <a:path w="4541" h="3399">
                <a:moveTo>
                  <a:pt x="7689" y="5531"/>
                </a:moveTo>
                <a:cubicBezTo>
                  <a:pt x="7702" y="5494"/>
                  <a:pt x="7712" y="5502"/>
                  <a:pt x="7739" y="5482"/>
                </a:cubicBezTo>
                <a:cubicBezTo>
                  <a:pt x="7774" y="5456"/>
                  <a:pt x="7807" y="5427"/>
                  <a:pt x="7838" y="5407"/>
                </a:cubicBezTo>
                <a:cubicBezTo>
                  <a:pt x="7870" y="5386"/>
                  <a:pt x="7899" y="5361"/>
                  <a:pt x="7938" y="5358"/>
                </a:cubicBezTo>
                <a:cubicBezTo>
                  <a:pt x="8010" y="5353"/>
                  <a:pt x="8053" y="5364"/>
                  <a:pt x="8111" y="5383"/>
                </a:cubicBezTo>
                <a:cubicBezTo>
                  <a:pt x="8149" y="5396"/>
                  <a:pt x="8136" y="5412"/>
                  <a:pt x="8136" y="5457"/>
                </a:cubicBezTo>
                <a:cubicBezTo>
                  <a:pt x="8136" y="5511"/>
                  <a:pt x="8120" y="5539"/>
                  <a:pt x="8111" y="5581"/>
                </a:cubicBezTo>
                <a:cubicBezTo>
                  <a:pt x="8100" y="5634"/>
                  <a:pt x="8083" y="5678"/>
                  <a:pt x="8062" y="5730"/>
                </a:cubicBezTo>
                <a:cubicBezTo>
                  <a:pt x="8040" y="5785"/>
                  <a:pt x="8010" y="5859"/>
                  <a:pt x="7987" y="5904"/>
                </a:cubicBezTo>
                <a:cubicBezTo>
                  <a:pt x="7955" y="5967"/>
                  <a:pt x="7905" y="5982"/>
                  <a:pt x="7863" y="6028"/>
                </a:cubicBezTo>
                <a:cubicBezTo>
                  <a:pt x="7818" y="6077"/>
                  <a:pt x="7787" y="6129"/>
                  <a:pt x="7739" y="6176"/>
                </a:cubicBezTo>
                <a:cubicBezTo>
                  <a:pt x="7708" y="6207"/>
                  <a:pt x="7609" y="6221"/>
                  <a:pt x="7640" y="6251"/>
                </a:cubicBezTo>
                <a:cubicBezTo>
                  <a:pt x="7654" y="6264"/>
                  <a:pt x="7692" y="6208"/>
                  <a:pt x="7714" y="6201"/>
                </a:cubicBezTo>
                <a:cubicBezTo>
                  <a:pt x="7747" y="6190"/>
                  <a:pt x="7805" y="6184"/>
                  <a:pt x="7838" y="6176"/>
                </a:cubicBezTo>
                <a:cubicBezTo>
                  <a:pt x="7910" y="6158"/>
                  <a:pt x="7973" y="6185"/>
                  <a:pt x="8037" y="6201"/>
                </a:cubicBezTo>
                <a:cubicBezTo>
                  <a:pt x="8097" y="6216"/>
                  <a:pt x="8181" y="6214"/>
                  <a:pt x="8235" y="6226"/>
                </a:cubicBezTo>
                <a:cubicBezTo>
                  <a:pt x="8277" y="6226"/>
                  <a:pt x="8293" y="6234"/>
                  <a:pt x="8285" y="6201"/>
                </a:cubicBezTo>
              </a:path>
              <a:path w="4541" h="3399">
                <a:moveTo>
                  <a:pt x="9351" y="5606"/>
                </a:moveTo>
                <a:cubicBezTo>
                  <a:pt x="9351" y="5545"/>
                  <a:pt x="9352" y="5539"/>
                  <a:pt x="9376" y="5507"/>
                </a:cubicBezTo>
                <a:cubicBezTo>
                  <a:pt x="9410" y="5463"/>
                  <a:pt x="9455" y="5426"/>
                  <a:pt x="9500" y="5407"/>
                </a:cubicBezTo>
                <a:cubicBezTo>
                  <a:pt x="9560" y="5382"/>
                  <a:pt x="9613" y="5363"/>
                  <a:pt x="9674" y="5358"/>
                </a:cubicBezTo>
                <a:cubicBezTo>
                  <a:pt x="9711" y="5355"/>
                  <a:pt x="9778" y="5345"/>
                  <a:pt x="9798" y="5383"/>
                </a:cubicBezTo>
                <a:cubicBezTo>
                  <a:pt x="9815" y="5416"/>
                  <a:pt x="9792" y="5460"/>
                  <a:pt x="9773" y="5482"/>
                </a:cubicBezTo>
                <a:cubicBezTo>
                  <a:pt x="9743" y="5516"/>
                  <a:pt x="9724" y="5565"/>
                  <a:pt x="9699" y="5606"/>
                </a:cubicBezTo>
                <a:cubicBezTo>
                  <a:pt x="9637" y="5709"/>
                  <a:pt x="9575" y="5812"/>
                  <a:pt x="9500" y="5904"/>
                </a:cubicBezTo>
                <a:cubicBezTo>
                  <a:pt x="9460" y="5953"/>
                  <a:pt x="9395" y="6039"/>
                  <a:pt x="9351" y="6077"/>
                </a:cubicBezTo>
                <a:cubicBezTo>
                  <a:pt x="9317" y="6107"/>
                  <a:pt x="9248" y="6129"/>
                  <a:pt x="9227" y="6176"/>
                </a:cubicBezTo>
                <a:cubicBezTo>
                  <a:pt x="9216" y="6200"/>
                  <a:pt x="9209" y="6225"/>
                  <a:pt x="9203" y="6251"/>
                </a:cubicBezTo>
                <a:cubicBezTo>
                  <a:pt x="9234" y="6227"/>
                  <a:pt x="9288" y="6205"/>
                  <a:pt x="9327" y="6201"/>
                </a:cubicBezTo>
                <a:cubicBezTo>
                  <a:pt x="9417" y="6191"/>
                  <a:pt x="9490" y="6214"/>
                  <a:pt x="9575" y="6226"/>
                </a:cubicBezTo>
                <a:cubicBezTo>
                  <a:pt x="9649" y="6237"/>
                  <a:pt x="9740" y="6135"/>
                  <a:pt x="9773" y="6201"/>
                </a:cubicBezTo>
                <a:cubicBezTo>
                  <a:pt x="9773" y="6209"/>
                  <a:pt x="9773" y="6218"/>
                  <a:pt x="9773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57800" y="2232000"/>
            <a:ext cx="1635120" cy="1206360"/>
          </a:xfrm>
          <a:custGeom>
            <a:avLst/>
            <a:gdLst/>
            <a:ahLst/>
            <a:rect l="l" t="t" r="r" b="b"/>
            <a:pathLst>
              <a:path w="4540" h="3350">
                <a:moveTo>
                  <a:pt x="12129" y="9327"/>
                </a:moveTo>
                <a:cubicBezTo>
                  <a:pt x="12147" y="9388"/>
                  <a:pt x="12141" y="9371"/>
                  <a:pt x="12129" y="9401"/>
                </a:cubicBezTo>
                <a:cubicBezTo>
                  <a:pt x="12150" y="9360"/>
                  <a:pt x="12169" y="9322"/>
                  <a:pt x="12179" y="9277"/>
                </a:cubicBezTo>
                <a:cubicBezTo>
                  <a:pt x="12191" y="9219"/>
                  <a:pt x="12200" y="9185"/>
                  <a:pt x="12229" y="9128"/>
                </a:cubicBezTo>
                <a:cubicBezTo>
                  <a:pt x="12262" y="9064"/>
                  <a:pt x="12260" y="8997"/>
                  <a:pt x="12278" y="8930"/>
                </a:cubicBezTo>
                <a:cubicBezTo>
                  <a:pt x="12302" y="8844"/>
                  <a:pt x="12347" y="8765"/>
                  <a:pt x="12378" y="8682"/>
                </a:cubicBezTo>
                <a:cubicBezTo>
                  <a:pt x="12411" y="8593"/>
                  <a:pt x="12432" y="8493"/>
                  <a:pt x="12477" y="8409"/>
                </a:cubicBezTo>
                <a:cubicBezTo>
                  <a:pt x="12538" y="8294"/>
                  <a:pt x="12596" y="8180"/>
                  <a:pt x="12650" y="8062"/>
                </a:cubicBezTo>
                <a:cubicBezTo>
                  <a:pt x="12690" y="7974"/>
                  <a:pt x="12751" y="7897"/>
                  <a:pt x="12799" y="7813"/>
                </a:cubicBezTo>
                <a:cubicBezTo>
                  <a:pt x="12843" y="7737"/>
                  <a:pt x="12844" y="7661"/>
                  <a:pt x="12874" y="7590"/>
                </a:cubicBezTo>
                <a:cubicBezTo>
                  <a:pt x="12896" y="7538"/>
                  <a:pt x="12961" y="7469"/>
                  <a:pt x="12973" y="7417"/>
                </a:cubicBezTo>
                <a:cubicBezTo>
                  <a:pt x="12979" y="7390"/>
                  <a:pt x="12973" y="7346"/>
                  <a:pt x="12973" y="7317"/>
                </a:cubicBezTo>
                <a:cubicBezTo>
                  <a:pt x="12965" y="7349"/>
                  <a:pt x="12971" y="7319"/>
                  <a:pt x="12948" y="7342"/>
                </a:cubicBezTo>
                <a:cubicBezTo>
                  <a:pt x="12929" y="7361"/>
                  <a:pt x="12925" y="7384"/>
                  <a:pt x="12898" y="7417"/>
                </a:cubicBezTo>
                <a:cubicBezTo>
                  <a:pt x="12858" y="7466"/>
                  <a:pt x="12806" y="7488"/>
                  <a:pt x="12750" y="7516"/>
                </a:cubicBezTo>
                <a:cubicBezTo>
                  <a:pt x="12668" y="7557"/>
                  <a:pt x="12573" y="7630"/>
                  <a:pt x="12502" y="7689"/>
                </a:cubicBezTo>
                <a:cubicBezTo>
                  <a:pt x="12464" y="7720"/>
                  <a:pt x="12441" y="7740"/>
                  <a:pt x="12402" y="7764"/>
                </a:cubicBezTo>
                <a:cubicBezTo>
                  <a:pt x="12416" y="7750"/>
                  <a:pt x="12455" y="7719"/>
                  <a:pt x="12477" y="7689"/>
                </a:cubicBezTo>
                <a:cubicBezTo>
                  <a:pt x="12516" y="7634"/>
                  <a:pt x="12553" y="7592"/>
                  <a:pt x="12601" y="7541"/>
                </a:cubicBezTo>
                <a:cubicBezTo>
                  <a:pt x="12655" y="7484"/>
                  <a:pt x="12713" y="7434"/>
                  <a:pt x="12774" y="7392"/>
                </a:cubicBezTo>
                <a:cubicBezTo>
                  <a:pt x="12813" y="7365"/>
                  <a:pt x="12827" y="7315"/>
                  <a:pt x="12874" y="7317"/>
                </a:cubicBezTo>
                <a:cubicBezTo>
                  <a:pt x="12925" y="7320"/>
                  <a:pt x="12937" y="7326"/>
                  <a:pt x="12973" y="7367"/>
                </a:cubicBezTo>
                <a:cubicBezTo>
                  <a:pt x="13006" y="7404"/>
                  <a:pt x="13044" y="7450"/>
                  <a:pt x="13072" y="7491"/>
                </a:cubicBezTo>
                <a:cubicBezTo>
                  <a:pt x="13113" y="7552"/>
                  <a:pt x="13142" y="7566"/>
                  <a:pt x="13196" y="7615"/>
                </a:cubicBezTo>
                <a:cubicBezTo>
                  <a:pt x="13245" y="7660"/>
                  <a:pt x="13370" y="7677"/>
                  <a:pt x="13345" y="7739"/>
                </a:cubicBezTo>
                <a:cubicBezTo>
                  <a:pt x="13332" y="7771"/>
                  <a:pt x="13279" y="7726"/>
                  <a:pt x="13246" y="7714"/>
                </a:cubicBezTo>
              </a:path>
              <a:path w="4540" h="3350">
                <a:moveTo>
                  <a:pt x="13990" y="8210"/>
                </a:moveTo>
                <a:cubicBezTo>
                  <a:pt x="13962" y="8247"/>
                  <a:pt x="13951" y="8274"/>
                  <a:pt x="13915" y="8310"/>
                </a:cubicBezTo>
                <a:cubicBezTo>
                  <a:pt x="13867" y="8358"/>
                  <a:pt x="13819" y="8394"/>
                  <a:pt x="13767" y="8434"/>
                </a:cubicBezTo>
                <a:cubicBezTo>
                  <a:pt x="13707" y="8480"/>
                  <a:pt x="13648" y="8531"/>
                  <a:pt x="13593" y="8582"/>
                </a:cubicBezTo>
                <a:cubicBezTo>
                  <a:pt x="13555" y="8617"/>
                  <a:pt x="13505" y="8678"/>
                  <a:pt x="13469" y="8706"/>
                </a:cubicBezTo>
                <a:cubicBezTo>
                  <a:pt x="13434" y="8733"/>
                  <a:pt x="13425" y="8739"/>
                  <a:pt x="13395" y="8781"/>
                </a:cubicBezTo>
                <a:cubicBezTo>
                  <a:pt x="13407" y="8820"/>
                  <a:pt x="13416" y="8809"/>
                  <a:pt x="13444" y="8830"/>
                </a:cubicBezTo>
                <a:cubicBezTo>
                  <a:pt x="13488" y="8863"/>
                  <a:pt x="13544" y="8871"/>
                  <a:pt x="13593" y="8905"/>
                </a:cubicBezTo>
                <a:cubicBezTo>
                  <a:pt x="13660" y="8952"/>
                  <a:pt x="13717" y="8955"/>
                  <a:pt x="13791" y="8979"/>
                </a:cubicBezTo>
                <a:cubicBezTo>
                  <a:pt x="13851" y="8998"/>
                  <a:pt x="13912" y="9038"/>
                  <a:pt x="13965" y="9054"/>
                </a:cubicBezTo>
                <a:cubicBezTo>
                  <a:pt x="14011" y="9068"/>
                  <a:pt x="14024" y="9031"/>
                  <a:pt x="14039" y="9079"/>
                </a:cubicBezTo>
              </a:path>
              <a:path w="4540" h="3350">
                <a:moveTo>
                  <a:pt x="15131" y="9128"/>
                </a:moveTo>
                <a:cubicBezTo>
                  <a:pt x="15131" y="9210"/>
                  <a:pt x="15119" y="9275"/>
                  <a:pt x="15106" y="9351"/>
                </a:cubicBezTo>
                <a:cubicBezTo>
                  <a:pt x="15097" y="9404"/>
                  <a:pt x="15086" y="9454"/>
                  <a:pt x="15081" y="9500"/>
                </a:cubicBezTo>
                <a:cubicBezTo>
                  <a:pt x="15080" y="9508"/>
                  <a:pt x="15081" y="9592"/>
                  <a:pt x="15081" y="9525"/>
                </a:cubicBezTo>
              </a:path>
              <a:path w="4540" h="3350">
                <a:moveTo>
                  <a:pt x="15850" y="8235"/>
                </a:moveTo>
                <a:cubicBezTo>
                  <a:pt x="15883" y="8254"/>
                  <a:pt x="15913" y="8287"/>
                  <a:pt x="15949" y="8310"/>
                </a:cubicBezTo>
                <a:cubicBezTo>
                  <a:pt x="16012" y="8350"/>
                  <a:pt x="16077" y="8382"/>
                  <a:pt x="16148" y="8409"/>
                </a:cubicBezTo>
                <a:cubicBezTo>
                  <a:pt x="16258" y="8451"/>
                  <a:pt x="16364" y="8482"/>
                  <a:pt x="16470" y="8533"/>
                </a:cubicBezTo>
                <a:cubicBezTo>
                  <a:pt x="16526" y="8560"/>
                  <a:pt x="16584" y="8563"/>
                  <a:pt x="16644" y="8582"/>
                </a:cubicBezTo>
                <a:cubicBezTo>
                  <a:pt x="16601" y="8625"/>
                  <a:pt x="16585" y="8694"/>
                  <a:pt x="16545" y="8731"/>
                </a:cubicBezTo>
                <a:cubicBezTo>
                  <a:pt x="16473" y="8797"/>
                  <a:pt x="16421" y="8837"/>
                  <a:pt x="16371" y="8930"/>
                </a:cubicBezTo>
                <a:cubicBezTo>
                  <a:pt x="16335" y="8998"/>
                  <a:pt x="16284" y="9029"/>
                  <a:pt x="16247" y="9103"/>
                </a:cubicBezTo>
                <a:cubicBezTo>
                  <a:pt x="16215" y="9166"/>
                  <a:pt x="16208" y="9168"/>
                  <a:pt x="16148" y="9203"/>
                </a:cubicBezTo>
              </a:path>
              <a:path w="4540" h="3350">
                <a:moveTo>
                  <a:pt x="12105" y="9451"/>
                </a:moveTo>
                <a:lnTo>
                  <a:pt x="12105" y="9451"/>
                </a:lnTo>
              </a:path>
              <a:path w="4540" h="3350">
                <a:moveTo>
                  <a:pt x="14660" y="8458"/>
                </a:moveTo>
                <a:cubicBezTo>
                  <a:pt x="14650" y="8527"/>
                  <a:pt x="14635" y="8587"/>
                  <a:pt x="14635" y="8657"/>
                </a:cubicBezTo>
                <a:cubicBezTo>
                  <a:pt x="14635" y="8802"/>
                  <a:pt x="14661" y="9025"/>
                  <a:pt x="14610" y="9128"/>
                </a:cubicBezTo>
                <a:cubicBezTo>
                  <a:pt x="14592" y="9165"/>
                  <a:pt x="14615" y="9135"/>
                  <a:pt x="14635" y="9128"/>
                </a:cubicBezTo>
              </a:path>
              <a:path w="4540" h="3350">
                <a:moveTo>
                  <a:pt x="15577" y="8657"/>
                </a:moveTo>
                <a:cubicBezTo>
                  <a:pt x="15609" y="8639"/>
                  <a:pt x="15669" y="8589"/>
                  <a:pt x="15701" y="8582"/>
                </a:cubicBezTo>
                <a:cubicBezTo>
                  <a:pt x="15767" y="8568"/>
                  <a:pt x="15823" y="8590"/>
                  <a:pt x="15875" y="8607"/>
                </a:cubicBezTo>
                <a:cubicBezTo>
                  <a:pt x="15918" y="8621"/>
                  <a:pt x="15942" y="8594"/>
                  <a:pt x="15949" y="8657"/>
                </a:cubicBezTo>
                <a:cubicBezTo>
                  <a:pt x="15956" y="8720"/>
                  <a:pt x="15903" y="8738"/>
                  <a:pt x="15875" y="8781"/>
                </a:cubicBezTo>
                <a:cubicBezTo>
                  <a:pt x="15843" y="8829"/>
                  <a:pt x="15817" y="8864"/>
                  <a:pt x="15776" y="8905"/>
                </a:cubicBezTo>
                <a:cubicBezTo>
                  <a:pt x="15738" y="8943"/>
                  <a:pt x="15704" y="8983"/>
                  <a:pt x="15677" y="9029"/>
                </a:cubicBezTo>
                <a:cubicBezTo>
                  <a:pt x="15654" y="9067"/>
                  <a:pt x="15615" y="9115"/>
                  <a:pt x="15602" y="9153"/>
                </a:cubicBezTo>
                <a:cubicBezTo>
                  <a:pt x="15589" y="9191"/>
                  <a:pt x="15577" y="9174"/>
                  <a:pt x="15577" y="9227"/>
                </a:cubicBezTo>
                <a:cubicBezTo>
                  <a:pt x="15577" y="9235"/>
                  <a:pt x="15577" y="9244"/>
                  <a:pt x="15577" y="9252"/>
                </a:cubicBezTo>
                <a:cubicBezTo>
                  <a:pt x="15630" y="9252"/>
                  <a:pt x="15647" y="9232"/>
                  <a:pt x="15701" y="9227"/>
                </a:cubicBezTo>
                <a:cubicBezTo>
                  <a:pt x="15730" y="9225"/>
                  <a:pt x="15991" y="9215"/>
                  <a:pt x="15974" y="9203"/>
                </a:cubicBezTo>
                <a:cubicBezTo>
                  <a:pt x="15966" y="9203"/>
                  <a:pt x="15957" y="9203"/>
                  <a:pt x="15949" y="9203"/>
                </a:cubicBezTo>
              </a:path>
              <a:path w="4540" h="3350">
                <a:moveTo>
                  <a:pt x="13122" y="6325"/>
                </a:moveTo>
                <a:cubicBezTo>
                  <a:pt x="13161" y="6312"/>
                  <a:pt x="13132" y="6313"/>
                  <a:pt x="13171" y="6300"/>
                </a:cubicBezTo>
                <a:cubicBezTo>
                  <a:pt x="13209" y="6313"/>
                  <a:pt x="13192" y="6325"/>
                  <a:pt x="13246" y="6325"/>
                </a:cubicBezTo>
                <a:cubicBezTo>
                  <a:pt x="13511" y="6325"/>
                  <a:pt x="14088" y="6571"/>
                  <a:pt x="13990" y="6325"/>
                </a:cubicBezTo>
                <a:cubicBezTo>
                  <a:pt x="13978" y="6294"/>
                  <a:pt x="13946" y="6262"/>
                  <a:pt x="13940" y="6251"/>
                </a:cubicBezTo>
                <a:cubicBezTo>
                  <a:pt x="13925" y="6221"/>
                  <a:pt x="13909" y="6212"/>
                  <a:pt x="13866" y="6201"/>
                </a:cubicBezTo>
                <a:cubicBezTo>
                  <a:pt x="13905" y="6231"/>
                  <a:pt x="13952" y="6226"/>
                  <a:pt x="13990" y="6251"/>
                </a:cubicBezTo>
                <a:cubicBezTo>
                  <a:pt x="14003" y="6260"/>
                  <a:pt x="14087" y="6273"/>
                  <a:pt x="14089" y="6276"/>
                </a:cubicBezTo>
                <a:cubicBezTo>
                  <a:pt x="14108" y="6299"/>
                  <a:pt x="14114" y="6307"/>
                  <a:pt x="14114" y="6350"/>
                </a:cubicBezTo>
                <a:cubicBezTo>
                  <a:pt x="14114" y="6388"/>
                  <a:pt x="14079" y="6381"/>
                  <a:pt x="14064" y="6424"/>
                </a:cubicBezTo>
                <a:cubicBezTo>
                  <a:pt x="14048" y="6473"/>
                  <a:pt x="14003" y="6531"/>
                  <a:pt x="13965" y="6573"/>
                </a:cubicBezTo>
                <a:cubicBezTo>
                  <a:pt x="13939" y="6601"/>
                  <a:pt x="13918" y="6621"/>
                  <a:pt x="13915" y="6648"/>
                </a:cubicBezTo>
                <a:cubicBezTo>
                  <a:pt x="13915" y="6672"/>
                  <a:pt x="13915" y="6680"/>
                  <a:pt x="13915" y="6648"/>
                </a:cubicBezTo>
              </a:path>
              <a:path w="4540" h="3350">
                <a:moveTo>
                  <a:pt x="15131" y="7342"/>
                </a:moveTo>
                <a:cubicBezTo>
                  <a:pt x="15131" y="7367"/>
                  <a:pt x="15131" y="7375"/>
                  <a:pt x="15131" y="7392"/>
                </a:cubicBezTo>
                <a:cubicBezTo>
                  <a:pt x="15131" y="7310"/>
                  <a:pt x="15132" y="7239"/>
                  <a:pt x="15156" y="7169"/>
                </a:cubicBezTo>
                <a:cubicBezTo>
                  <a:pt x="15171" y="7126"/>
                  <a:pt x="15136" y="7085"/>
                  <a:pt x="15131" y="7045"/>
                </a:cubicBezTo>
                <a:cubicBezTo>
                  <a:pt x="15122" y="6972"/>
                  <a:pt x="15156" y="6942"/>
                  <a:pt x="15156" y="6871"/>
                </a:cubicBezTo>
                <a:cubicBezTo>
                  <a:pt x="15156" y="6779"/>
                  <a:pt x="15161" y="6709"/>
                  <a:pt x="15180" y="6623"/>
                </a:cubicBezTo>
                <a:cubicBezTo>
                  <a:pt x="15195" y="6556"/>
                  <a:pt x="15180" y="6469"/>
                  <a:pt x="15180" y="6400"/>
                </a:cubicBezTo>
                <a:cubicBezTo>
                  <a:pt x="15141" y="6431"/>
                  <a:pt x="15090" y="6451"/>
                  <a:pt x="15056" y="6474"/>
                </a:cubicBezTo>
                <a:cubicBezTo>
                  <a:pt x="15015" y="6502"/>
                  <a:pt x="14971" y="6543"/>
                  <a:pt x="14932" y="6573"/>
                </a:cubicBezTo>
                <a:cubicBezTo>
                  <a:pt x="14895" y="6601"/>
                  <a:pt x="14873" y="6628"/>
                  <a:pt x="14858" y="6598"/>
                </a:cubicBezTo>
                <a:cubicBezTo>
                  <a:pt x="14891" y="6573"/>
                  <a:pt x="14920" y="6548"/>
                  <a:pt x="14957" y="6524"/>
                </a:cubicBezTo>
                <a:cubicBezTo>
                  <a:pt x="15009" y="6491"/>
                  <a:pt x="15011" y="6469"/>
                  <a:pt x="15056" y="6424"/>
                </a:cubicBezTo>
                <a:cubicBezTo>
                  <a:pt x="15075" y="6406"/>
                  <a:pt x="15111" y="6314"/>
                  <a:pt x="15156" y="6350"/>
                </a:cubicBezTo>
                <a:cubicBezTo>
                  <a:pt x="15174" y="6364"/>
                  <a:pt x="15179" y="6396"/>
                  <a:pt x="15205" y="6424"/>
                </a:cubicBezTo>
                <a:cubicBezTo>
                  <a:pt x="15265" y="6491"/>
                  <a:pt x="15310" y="6514"/>
                  <a:pt x="15379" y="6548"/>
                </a:cubicBezTo>
                <a:cubicBezTo>
                  <a:pt x="15404" y="6573"/>
                  <a:pt x="15412" y="6581"/>
                  <a:pt x="15429" y="65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4960" y="2276640"/>
            <a:ext cx="3475080" cy="2573280"/>
          </a:xfrm>
          <a:custGeom>
            <a:avLst/>
            <a:gdLst/>
            <a:ahLst/>
            <a:rect l="l" t="t" r="r" b="b"/>
            <a:pathLst>
              <a:path w="9650" h="7145">
                <a:moveTo>
                  <a:pt x="12030" y="9327"/>
                </a:moveTo>
                <a:cubicBezTo>
                  <a:pt x="12030" y="9404"/>
                  <a:pt x="12027" y="9386"/>
                  <a:pt x="12080" y="9426"/>
                </a:cubicBezTo>
                <a:cubicBezTo>
                  <a:pt x="12112" y="9418"/>
                  <a:pt x="12163" y="9387"/>
                  <a:pt x="12179" y="9351"/>
                </a:cubicBezTo>
                <a:cubicBezTo>
                  <a:pt x="12189" y="9329"/>
                  <a:pt x="12164" y="9259"/>
                  <a:pt x="12154" y="9252"/>
                </a:cubicBezTo>
                <a:cubicBezTo>
                  <a:pt x="12120" y="9229"/>
                  <a:pt x="12028" y="9256"/>
                  <a:pt x="12005" y="9277"/>
                </a:cubicBezTo>
                <a:cubicBezTo>
                  <a:pt x="11972" y="9307"/>
                  <a:pt x="11981" y="9334"/>
                  <a:pt x="11981" y="9376"/>
                </a:cubicBezTo>
                <a:cubicBezTo>
                  <a:pt x="11981" y="9412"/>
                  <a:pt x="12002" y="9448"/>
                  <a:pt x="12030" y="9451"/>
                </a:cubicBezTo>
                <a:cubicBezTo>
                  <a:pt x="12062" y="9455"/>
                  <a:pt x="12112" y="9461"/>
                  <a:pt x="12129" y="9426"/>
                </a:cubicBezTo>
                <a:cubicBezTo>
                  <a:pt x="12145" y="9394"/>
                  <a:pt x="12154" y="9367"/>
                  <a:pt x="12154" y="9327"/>
                </a:cubicBezTo>
                <a:cubicBezTo>
                  <a:pt x="12154" y="9303"/>
                  <a:pt x="12104" y="9247"/>
                  <a:pt x="12080" y="9252"/>
                </a:cubicBezTo>
                <a:cubicBezTo>
                  <a:pt x="12057" y="9257"/>
                  <a:pt x="11993" y="9301"/>
                  <a:pt x="11981" y="9327"/>
                </a:cubicBezTo>
                <a:cubicBezTo>
                  <a:pt x="11966" y="9361"/>
                  <a:pt x="12015" y="9396"/>
                  <a:pt x="12030" y="9401"/>
                </a:cubicBezTo>
              </a:path>
              <a:path w="9650" h="7145">
                <a:moveTo>
                  <a:pt x="12080" y="9475"/>
                </a:moveTo>
                <a:cubicBezTo>
                  <a:pt x="12064" y="9491"/>
                  <a:pt x="12039" y="9526"/>
                  <a:pt x="12005" y="9550"/>
                </a:cubicBezTo>
                <a:cubicBezTo>
                  <a:pt x="11979" y="9568"/>
                  <a:pt x="11964" y="9568"/>
                  <a:pt x="11931" y="9599"/>
                </a:cubicBezTo>
                <a:cubicBezTo>
                  <a:pt x="11915" y="9614"/>
                  <a:pt x="11893" y="9662"/>
                  <a:pt x="11881" y="9674"/>
                </a:cubicBezTo>
                <a:cubicBezTo>
                  <a:pt x="11817" y="9738"/>
                  <a:pt x="11766" y="9806"/>
                  <a:pt x="11708" y="9872"/>
                </a:cubicBezTo>
                <a:cubicBezTo>
                  <a:pt x="11656" y="9930"/>
                  <a:pt x="11604" y="9983"/>
                  <a:pt x="11559" y="10046"/>
                </a:cubicBezTo>
                <a:cubicBezTo>
                  <a:pt x="11503" y="10125"/>
                  <a:pt x="11441" y="10201"/>
                  <a:pt x="11385" y="10269"/>
                </a:cubicBezTo>
                <a:cubicBezTo>
                  <a:pt x="11330" y="10336"/>
                  <a:pt x="11282" y="10419"/>
                  <a:pt x="11237" y="10492"/>
                </a:cubicBezTo>
                <a:cubicBezTo>
                  <a:pt x="11190" y="10568"/>
                  <a:pt x="11142" y="10646"/>
                  <a:pt x="11088" y="10716"/>
                </a:cubicBezTo>
                <a:cubicBezTo>
                  <a:pt x="11022" y="10801"/>
                  <a:pt x="10967" y="10874"/>
                  <a:pt x="10914" y="10964"/>
                </a:cubicBezTo>
                <a:cubicBezTo>
                  <a:pt x="10846" y="11079"/>
                  <a:pt x="10764" y="11190"/>
                  <a:pt x="10716" y="11311"/>
                </a:cubicBezTo>
                <a:cubicBezTo>
                  <a:pt x="10665" y="11438"/>
                  <a:pt x="10586" y="11564"/>
                  <a:pt x="10517" y="11683"/>
                </a:cubicBezTo>
                <a:cubicBezTo>
                  <a:pt x="10458" y="11784"/>
                  <a:pt x="10403" y="11882"/>
                  <a:pt x="10344" y="11981"/>
                </a:cubicBezTo>
                <a:cubicBezTo>
                  <a:pt x="10287" y="12077"/>
                  <a:pt x="10224" y="12174"/>
                  <a:pt x="10170" y="12278"/>
                </a:cubicBezTo>
                <a:cubicBezTo>
                  <a:pt x="10139" y="12337"/>
                  <a:pt x="10103" y="12366"/>
                  <a:pt x="10071" y="12402"/>
                </a:cubicBezTo>
                <a:cubicBezTo>
                  <a:pt x="10006" y="12475"/>
                  <a:pt x="10048" y="12401"/>
                  <a:pt x="10046" y="12402"/>
                </a:cubicBezTo>
              </a:path>
              <a:path w="9650" h="7145">
                <a:moveTo>
                  <a:pt x="9947" y="12179"/>
                </a:moveTo>
                <a:cubicBezTo>
                  <a:pt x="9947" y="12154"/>
                  <a:pt x="9947" y="12146"/>
                  <a:pt x="9922" y="12154"/>
                </a:cubicBezTo>
                <a:cubicBezTo>
                  <a:pt x="9922" y="12222"/>
                  <a:pt x="9908" y="12273"/>
                  <a:pt x="9897" y="12328"/>
                </a:cubicBezTo>
                <a:cubicBezTo>
                  <a:pt x="9887" y="12378"/>
                  <a:pt x="9856" y="12409"/>
                  <a:pt x="9847" y="12452"/>
                </a:cubicBezTo>
                <a:cubicBezTo>
                  <a:pt x="9847" y="12469"/>
                  <a:pt x="9847" y="12485"/>
                  <a:pt x="9847" y="12502"/>
                </a:cubicBezTo>
                <a:cubicBezTo>
                  <a:pt x="9912" y="12502"/>
                  <a:pt x="9968" y="12488"/>
                  <a:pt x="10021" y="12477"/>
                </a:cubicBezTo>
                <a:cubicBezTo>
                  <a:pt x="10089" y="12463"/>
                  <a:pt x="10178" y="12461"/>
                  <a:pt x="10244" y="12452"/>
                </a:cubicBezTo>
                <a:cubicBezTo>
                  <a:pt x="10315" y="12443"/>
                  <a:pt x="10399" y="12431"/>
                  <a:pt x="10468" y="12427"/>
                </a:cubicBezTo>
                <a:cubicBezTo>
                  <a:pt x="10500" y="12425"/>
                  <a:pt x="10534" y="12427"/>
                  <a:pt x="10567" y="12427"/>
                </a:cubicBezTo>
              </a:path>
              <a:path w="9650" h="7145">
                <a:moveTo>
                  <a:pt x="13072" y="13469"/>
                </a:moveTo>
                <a:cubicBezTo>
                  <a:pt x="13067" y="13428"/>
                  <a:pt x="13084" y="13435"/>
                  <a:pt x="13072" y="13395"/>
                </a:cubicBezTo>
                <a:cubicBezTo>
                  <a:pt x="13054" y="13334"/>
                  <a:pt x="13067" y="13341"/>
                  <a:pt x="13047" y="13271"/>
                </a:cubicBezTo>
                <a:cubicBezTo>
                  <a:pt x="13036" y="13231"/>
                  <a:pt x="13031" y="13194"/>
                  <a:pt x="13022" y="13146"/>
                </a:cubicBezTo>
                <a:cubicBezTo>
                  <a:pt x="13017" y="13122"/>
                  <a:pt x="13005" y="13078"/>
                  <a:pt x="12998" y="13047"/>
                </a:cubicBezTo>
                <a:cubicBezTo>
                  <a:pt x="12984" y="12982"/>
                  <a:pt x="12986" y="12916"/>
                  <a:pt x="12973" y="12849"/>
                </a:cubicBezTo>
                <a:cubicBezTo>
                  <a:pt x="12962" y="12792"/>
                  <a:pt x="12959" y="12716"/>
                  <a:pt x="12948" y="12650"/>
                </a:cubicBezTo>
                <a:cubicBezTo>
                  <a:pt x="12938" y="12588"/>
                  <a:pt x="12934" y="12517"/>
                  <a:pt x="12923" y="12452"/>
                </a:cubicBezTo>
                <a:cubicBezTo>
                  <a:pt x="12911" y="12378"/>
                  <a:pt x="12907" y="12307"/>
                  <a:pt x="12898" y="12229"/>
                </a:cubicBezTo>
                <a:cubicBezTo>
                  <a:pt x="12887" y="12138"/>
                  <a:pt x="12885" y="12047"/>
                  <a:pt x="12874" y="11956"/>
                </a:cubicBezTo>
                <a:cubicBezTo>
                  <a:pt x="12862" y="11858"/>
                  <a:pt x="12864" y="11757"/>
                  <a:pt x="12849" y="11658"/>
                </a:cubicBezTo>
                <a:cubicBezTo>
                  <a:pt x="12830" y="11527"/>
                  <a:pt x="12826" y="11389"/>
                  <a:pt x="12799" y="11261"/>
                </a:cubicBezTo>
                <a:cubicBezTo>
                  <a:pt x="12772" y="11130"/>
                  <a:pt x="12738" y="10992"/>
                  <a:pt x="12700" y="10864"/>
                </a:cubicBezTo>
                <a:cubicBezTo>
                  <a:pt x="12672" y="10768"/>
                  <a:pt x="12647" y="10666"/>
                  <a:pt x="12626" y="10567"/>
                </a:cubicBezTo>
                <a:cubicBezTo>
                  <a:pt x="12601" y="10452"/>
                  <a:pt x="12582" y="10332"/>
                  <a:pt x="12551" y="10220"/>
                </a:cubicBezTo>
                <a:cubicBezTo>
                  <a:pt x="12530" y="10144"/>
                  <a:pt x="12522" y="10069"/>
                  <a:pt x="12502" y="9996"/>
                </a:cubicBezTo>
                <a:cubicBezTo>
                  <a:pt x="12481" y="9922"/>
                  <a:pt x="12470" y="9865"/>
                  <a:pt x="12452" y="9798"/>
                </a:cubicBezTo>
                <a:cubicBezTo>
                  <a:pt x="12439" y="9750"/>
                  <a:pt x="12440" y="9697"/>
                  <a:pt x="12427" y="9649"/>
                </a:cubicBezTo>
                <a:cubicBezTo>
                  <a:pt x="12417" y="9609"/>
                  <a:pt x="12391" y="9576"/>
                  <a:pt x="12378" y="9550"/>
                </a:cubicBezTo>
                <a:cubicBezTo>
                  <a:pt x="12365" y="9525"/>
                  <a:pt x="12321" y="9472"/>
                  <a:pt x="12303" y="9475"/>
                </a:cubicBezTo>
                <a:cubicBezTo>
                  <a:pt x="12257" y="9482"/>
                  <a:pt x="12281" y="9513"/>
                  <a:pt x="12254" y="9550"/>
                </a:cubicBezTo>
                <a:cubicBezTo>
                  <a:pt x="12220" y="9596"/>
                  <a:pt x="12191" y="9656"/>
                  <a:pt x="12154" y="9699"/>
                </a:cubicBezTo>
                <a:cubicBezTo>
                  <a:pt x="12120" y="9738"/>
                  <a:pt x="12059" y="9771"/>
                  <a:pt x="12030" y="9823"/>
                </a:cubicBezTo>
                <a:cubicBezTo>
                  <a:pt x="12015" y="9848"/>
                  <a:pt x="12005" y="9940"/>
                  <a:pt x="11956" y="9922"/>
                </a:cubicBezTo>
                <a:cubicBezTo>
                  <a:pt x="11950" y="9920"/>
                  <a:pt x="11965" y="9930"/>
                  <a:pt x="11981" y="9872"/>
                </a:cubicBezTo>
                <a:cubicBezTo>
                  <a:pt x="11993" y="9828"/>
                  <a:pt x="12012" y="9796"/>
                  <a:pt x="12030" y="9748"/>
                </a:cubicBezTo>
                <a:cubicBezTo>
                  <a:pt x="12048" y="9701"/>
                  <a:pt x="12061" y="9643"/>
                  <a:pt x="12080" y="9599"/>
                </a:cubicBezTo>
                <a:cubicBezTo>
                  <a:pt x="12097" y="9560"/>
                  <a:pt x="12137" y="9516"/>
                  <a:pt x="12154" y="9475"/>
                </a:cubicBezTo>
                <a:cubicBezTo>
                  <a:pt x="12154" y="9467"/>
                  <a:pt x="12154" y="9459"/>
                  <a:pt x="12154" y="9451"/>
                </a:cubicBezTo>
                <a:cubicBezTo>
                  <a:pt x="12191" y="9468"/>
                  <a:pt x="12218" y="9477"/>
                  <a:pt x="12254" y="9500"/>
                </a:cubicBezTo>
                <a:cubicBezTo>
                  <a:pt x="12304" y="9532"/>
                  <a:pt x="12347" y="9573"/>
                  <a:pt x="12402" y="9599"/>
                </a:cubicBezTo>
                <a:cubicBezTo>
                  <a:pt x="12455" y="9624"/>
                  <a:pt x="12515" y="9649"/>
                  <a:pt x="12576" y="9674"/>
                </a:cubicBezTo>
                <a:cubicBezTo>
                  <a:pt x="12627" y="9694"/>
                  <a:pt x="12672" y="9713"/>
                  <a:pt x="12725" y="9723"/>
                </a:cubicBezTo>
                <a:cubicBezTo>
                  <a:pt x="12750" y="9723"/>
                  <a:pt x="12758" y="9723"/>
                  <a:pt x="12774" y="9723"/>
                </a:cubicBezTo>
              </a:path>
              <a:path w="9650" h="7145">
                <a:moveTo>
                  <a:pt x="8954" y="8359"/>
                </a:moveTo>
                <a:cubicBezTo>
                  <a:pt x="8972" y="8334"/>
                  <a:pt x="9013" y="8303"/>
                  <a:pt x="9029" y="8285"/>
                </a:cubicBezTo>
                <a:cubicBezTo>
                  <a:pt x="9051" y="8260"/>
                  <a:pt x="9068" y="8215"/>
                  <a:pt x="9103" y="8186"/>
                </a:cubicBezTo>
                <a:cubicBezTo>
                  <a:pt x="9163" y="8136"/>
                  <a:pt x="9220" y="8092"/>
                  <a:pt x="9277" y="8037"/>
                </a:cubicBezTo>
                <a:cubicBezTo>
                  <a:pt x="9334" y="7982"/>
                  <a:pt x="9394" y="7943"/>
                  <a:pt x="9451" y="7888"/>
                </a:cubicBezTo>
                <a:cubicBezTo>
                  <a:pt x="9546" y="7796"/>
                  <a:pt x="9628" y="7677"/>
                  <a:pt x="9723" y="7590"/>
                </a:cubicBezTo>
                <a:cubicBezTo>
                  <a:pt x="9791" y="7527"/>
                  <a:pt x="9872" y="7451"/>
                  <a:pt x="9947" y="7392"/>
                </a:cubicBezTo>
                <a:cubicBezTo>
                  <a:pt x="10031" y="7326"/>
                  <a:pt x="10117" y="7267"/>
                  <a:pt x="10195" y="7193"/>
                </a:cubicBezTo>
                <a:cubicBezTo>
                  <a:pt x="10290" y="7103"/>
                  <a:pt x="10338" y="6978"/>
                  <a:pt x="10443" y="6896"/>
                </a:cubicBezTo>
                <a:cubicBezTo>
                  <a:pt x="10537" y="6822"/>
                  <a:pt x="10641" y="6744"/>
                  <a:pt x="10716" y="6648"/>
                </a:cubicBezTo>
                <a:cubicBezTo>
                  <a:pt x="10752" y="6601"/>
                  <a:pt x="10777" y="6546"/>
                  <a:pt x="10815" y="6499"/>
                </a:cubicBezTo>
                <a:cubicBezTo>
                  <a:pt x="10847" y="6459"/>
                  <a:pt x="10888" y="6407"/>
                  <a:pt x="10914" y="6375"/>
                </a:cubicBezTo>
                <a:cubicBezTo>
                  <a:pt x="10939" y="6375"/>
                  <a:pt x="10947" y="6375"/>
                  <a:pt x="10939" y="6350"/>
                </a:cubicBezTo>
                <a:cubicBezTo>
                  <a:pt x="10914" y="6364"/>
                  <a:pt x="10906" y="6390"/>
                  <a:pt x="10889" y="6400"/>
                </a:cubicBezTo>
                <a:cubicBezTo>
                  <a:pt x="10843" y="6426"/>
                  <a:pt x="10768" y="6449"/>
                  <a:pt x="10716" y="6474"/>
                </a:cubicBezTo>
                <a:cubicBezTo>
                  <a:pt x="10635" y="6514"/>
                  <a:pt x="10577" y="6570"/>
                  <a:pt x="10492" y="6598"/>
                </a:cubicBezTo>
                <a:cubicBezTo>
                  <a:pt x="10431" y="6618"/>
                  <a:pt x="10354" y="6626"/>
                  <a:pt x="10294" y="6648"/>
                </a:cubicBezTo>
                <a:cubicBezTo>
                  <a:pt x="10274" y="6655"/>
                  <a:pt x="10310" y="6650"/>
                  <a:pt x="10344" y="6623"/>
                </a:cubicBezTo>
                <a:cubicBezTo>
                  <a:pt x="10372" y="6601"/>
                  <a:pt x="10445" y="6590"/>
                  <a:pt x="10468" y="6573"/>
                </a:cubicBezTo>
                <a:cubicBezTo>
                  <a:pt x="10533" y="6525"/>
                  <a:pt x="10587" y="6459"/>
                  <a:pt x="10666" y="6424"/>
                </a:cubicBezTo>
                <a:cubicBezTo>
                  <a:pt x="10715" y="6402"/>
                  <a:pt x="10766" y="6374"/>
                  <a:pt x="10815" y="6350"/>
                </a:cubicBezTo>
                <a:cubicBezTo>
                  <a:pt x="10836" y="6340"/>
                  <a:pt x="10910" y="6317"/>
                  <a:pt x="10939" y="6325"/>
                </a:cubicBezTo>
                <a:cubicBezTo>
                  <a:pt x="10987" y="6338"/>
                  <a:pt x="10972" y="6375"/>
                  <a:pt x="10988" y="6424"/>
                </a:cubicBezTo>
                <a:cubicBezTo>
                  <a:pt x="11000" y="6461"/>
                  <a:pt x="11002" y="6509"/>
                  <a:pt x="11013" y="6548"/>
                </a:cubicBezTo>
                <a:cubicBezTo>
                  <a:pt x="11028" y="6601"/>
                  <a:pt x="11044" y="6625"/>
                  <a:pt x="11063" y="6672"/>
                </a:cubicBezTo>
                <a:cubicBezTo>
                  <a:pt x="11077" y="6706"/>
                  <a:pt x="11098" y="6737"/>
                  <a:pt x="11112" y="6772"/>
                </a:cubicBezTo>
                <a:cubicBezTo>
                  <a:pt x="11112" y="6780"/>
                  <a:pt x="11112" y="6788"/>
                  <a:pt x="11112" y="6796"/>
                </a:cubicBezTo>
              </a:path>
              <a:path w="9650" h="7145">
                <a:moveTo>
                  <a:pt x="14288" y="11460"/>
                </a:moveTo>
                <a:cubicBezTo>
                  <a:pt x="14280" y="11526"/>
                  <a:pt x="14285" y="11552"/>
                  <a:pt x="14238" y="11609"/>
                </a:cubicBezTo>
                <a:cubicBezTo>
                  <a:pt x="14184" y="11674"/>
                  <a:pt x="14136" y="11734"/>
                  <a:pt x="14064" y="11782"/>
                </a:cubicBezTo>
                <a:cubicBezTo>
                  <a:pt x="13973" y="11843"/>
                  <a:pt x="13854" y="11948"/>
                  <a:pt x="13791" y="12005"/>
                </a:cubicBezTo>
                <a:cubicBezTo>
                  <a:pt x="13771" y="12023"/>
                  <a:pt x="13716" y="12070"/>
                  <a:pt x="13742" y="12105"/>
                </a:cubicBezTo>
                <a:cubicBezTo>
                  <a:pt x="13756" y="12124"/>
                  <a:pt x="13839" y="12163"/>
                  <a:pt x="13866" y="12179"/>
                </a:cubicBezTo>
                <a:cubicBezTo>
                  <a:pt x="13951" y="12230"/>
                  <a:pt x="14033" y="12274"/>
                  <a:pt x="14114" y="12328"/>
                </a:cubicBezTo>
                <a:cubicBezTo>
                  <a:pt x="14179" y="12372"/>
                  <a:pt x="14266" y="12391"/>
                  <a:pt x="14337" y="12427"/>
                </a:cubicBezTo>
                <a:cubicBezTo>
                  <a:pt x="14393" y="12455"/>
                  <a:pt x="14456" y="12486"/>
                  <a:pt x="14511" y="12502"/>
                </a:cubicBezTo>
                <a:cubicBezTo>
                  <a:pt x="14519" y="12502"/>
                  <a:pt x="14528" y="12502"/>
                  <a:pt x="14536" y="12502"/>
                </a:cubicBezTo>
              </a:path>
              <a:path w="9650" h="7145">
                <a:moveTo>
                  <a:pt x="15900" y="12502"/>
                </a:moveTo>
                <a:cubicBezTo>
                  <a:pt x="15908" y="12502"/>
                  <a:pt x="15917" y="12502"/>
                  <a:pt x="15925" y="12502"/>
                </a:cubicBezTo>
                <a:cubicBezTo>
                  <a:pt x="15925" y="12570"/>
                  <a:pt x="15911" y="12620"/>
                  <a:pt x="15900" y="12675"/>
                </a:cubicBezTo>
                <a:cubicBezTo>
                  <a:pt x="15889" y="12730"/>
                  <a:pt x="15875" y="12764"/>
                  <a:pt x="15875" y="12824"/>
                </a:cubicBezTo>
              </a:path>
              <a:path w="9650" h="7145">
                <a:moveTo>
                  <a:pt x="16669" y="11633"/>
                </a:moveTo>
                <a:cubicBezTo>
                  <a:pt x="16783" y="11727"/>
                  <a:pt x="16867" y="11788"/>
                  <a:pt x="16991" y="11857"/>
                </a:cubicBezTo>
                <a:cubicBezTo>
                  <a:pt x="17092" y="11913"/>
                  <a:pt x="17221" y="11966"/>
                  <a:pt x="17314" y="12030"/>
                </a:cubicBezTo>
                <a:cubicBezTo>
                  <a:pt x="17378" y="12074"/>
                  <a:pt x="17440" y="12146"/>
                  <a:pt x="17512" y="12179"/>
                </a:cubicBezTo>
                <a:cubicBezTo>
                  <a:pt x="17578" y="12209"/>
                  <a:pt x="17581" y="12198"/>
                  <a:pt x="17636" y="12204"/>
                </a:cubicBezTo>
                <a:cubicBezTo>
                  <a:pt x="17595" y="12286"/>
                  <a:pt x="17569" y="12333"/>
                  <a:pt x="17487" y="12378"/>
                </a:cubicBezTo>
                <a:cubicBezTo>
                  <a:pt x="17435" y="12407"/>
                  <a:pt x="17325" y="12518"/>
                  <a:pt x="17289" y="12576"/>
                </a:cubicBezTo>
                <a:cubicBezTo>
                  <a:pt x="17265" y="12648"/>
                  <a:pt x="17258" y="12671"/>
                  <a:pt x="17214" y="12700"/>
                </a:cubicBezTo>
              </a:path>
              <a:path w="9650" h="7145">
                <a:moveTo>
                  <a:pt x="14511" y="11981"/>
                </a:moveTo>
                <a:cubicBezTo>
                  <a:pt x="14560" y="11981"/>
                  <a:pt x="14597" y="11998"/>
                  <a:pt x="14635" y="12005"/>
                </a:cubicBezTo>
                <a:cubicBezTo>
                  <a:pt x="14712" y="12020"/>
                  <a:pt x="14776" y="12030"/>
                  <a:pt x="14858" y="12030"/>
                </a:cubicBezTo>
              </a:path>
              <a:path w="9650" h="7145">
                <a:moveTo>
                  <a:pt x="15205" y="11633"/>
                </a:moveTo>
                <a:cubicBezTo>
                  <a:pt x="15258" y="11651"/>
                  <a:pt x="15209" y="11679"/>
                  <a:pt x="15205" y="11733"/>
                </a:cubicBezTo>
                <a:cubicBezTo>
                  <a:pt x="15200" y="11809"/>
                  <a:pt x="15218" y="11862"/>
                  <a:pt x="15230" y="11931"/>
                </a:cubicBezTo>
                <a:cubicBezTo>
                  <a:pt x="15244" y="12017"/>
                  <a:pt x="15245" y="12119"/>
                  <a:pt x="15255" y="12204"/>
                </a:cubicBezTo>
                <a:cubicBezTo>
                  <a:pt x="15263" y="12269"/>
                  <a:pt x="15297" y="12350"/>
                  <a:pt x="15255" y="12378"/>
                </a:cubicBezTo>
              </a:path>
              <a:path w="9650" h="7145">
                <a:moveTo>
                  <a:pt x="16049" y="11832"/>
                </a:moveTo>
                <a:cubicBezTo>
                  <a:pt x="16033" y="11890"/>
                  <a:pt x="16005" y="11953"/>
                  <a:pt x="15999" y="12005"/>
                </a:cubicBezTo>
                <a:cubicBezTo>
                  <a:pt x="15993" y="12057"/>
                  <a:pt x="16014" y="12060"/>
                  <a:pt x="16024" y="12080"/>
                </a:cubicBezTo>
                <a:cubicBezTo>
                  <a:pt x="16035" y="12102"/>
                  <a:pt x="16063" y="12118"/>
                  <a:pt x="16098" y="12129"/>
                </a:cubicBezTo>
                <a:cubicBezTo>
                  <a:pt x="16144" y="12144"/>
                  <a:pt x="16199" y="12167"/>
                  <a:pt x="16247" y="12179"/>
                </a:cubicBezTo>
                <a:cubicBezTo>
                  <a:pt x="16298" y="12192"/>
                  <a:pt x="16359" y="12184"/>
                  <a:pt x="16396" y="12154"/>
                </a:cubicBezTo>
                <a:cubicBezTo>
                  <a:pt x="16404" y="12146"/>
                  <a:pt x="16413" y="12137"/>
                  <a:pt x="16421" y="12129"/>
                </a:cubicBezTo>
              </a:path>
              <a:path w="9650" h="7145">
                <a:moveTo>
                  <a:pt x="16446" y="11683"/>
                </a:moveTo>
                <a:cubicBezTo>
                  <a:pt x="16410" y="11813"/>
                  <a:pt x="16413" y="11923"/>
                  <a:pt x="16421" y="12055"/>
                </a:cubicBezTo>
                <a:cubicBezTo>
                  <a:pt x="16428" y="12166"/>
                  <a:pt x="16440" y="12269"/>
                  <a:pt x="16446" y="12378"/>
                </a:cubicBezTo>
                <a:cubicBezTo>
                  <a:pt x="16450" y="12447"/>
                  <a:pt x="16455" y="12478"/>
                  <a:pt x="16446" y="12551"/>
                </a:cubicBezTo>
              </a:path>
              <a:path w="9650" h="7145">
                <a:moveTo>
                  <a:pt x="8607" y="10021"/>
                </a:moveTo>
                <a:cubicBezTo>
                  <a:pt x="8598" y="10058"/>
                  <a:pt x="8585" y="10091"/>
                  <a:pt x="8558" y="10120"/>
                </a:cubicBezTo>
                <a:cubicBezTo>
                  <a:pt x="8480" y="10204"/>
                  <a:pt x="8395" y="10274"/>
                  <a:pt x="8310" y="10344"/>
                </a:cubicBezTo>
                <a:cubicBezTo>
                  <a:pt x="8242" y="10400"/>
                  <a:pt x="8174" y="10454"/>
                  <a:pt x="8111" y="10517"/>
                </a:cubicBezTo>
                <a:cubicBezTo>
                  <a:pt x="8071" y="10557"/>
                  <a:pt x="8039" y="10576"/>
                  <a:pt x="8012" y="10616"/>
                </a:cubicBezTo>
                <a:cubicBezTo>
                  <a:pt x="7990" y="10648"/>
                  <a:pt x="7981" y="10675"/>
                  <a:pt x="8012" y="10691"/>
                </a:cubicBezTo>
                <a:cubicBezTo>
                  <a:pt x="8063" y="10717"/>
                  <a:pt x="8133" y="10722"/>
                  <a:pt x="8186" y="10740"/>
                </a:cubicBezTo>
                <a:cubicBezTo>
                  <a:pt x="8260" y="10765"/>
                  <a:pt x="8340" y="10784"/>
                  <a:pt x="8409" y="10815"/>
                </a:cubicBezTo>
                <a:cubicBezTo>
                  <a:pt x="8450" y="10833"/>
                  <a:pt x="8518" y="10883"/>
                  <a:pt x="8533" y="10889"/>
                </a:cubicBezTo>
                <a:cubicBezTo>
                  <a:pt x="8577" y="10908"/>
                  <a:pt x="8582" y="10906"/>
                  <a:pt x="8632" y="10914"/>
                </a:cubicBezTo>
              </a:path>
              <a:path w="9650" h="7145">
                <a:moveTo>
                  <a:pt x="9451" y="10864"/>
                </a:moveTo>
                <a:cubicBezTo>
                  <a:pt x="9459" y="10950"/>
                  <a:pt x="9475" y="11023"/>
                  <a:pt x="9475" y="11112"/>
                </a:cubicBezTo>
                <a:cubicBezTo>
                  <a:pt x="9475" y="11145"/>
                  <a:pt x="9475" y="11162"/>
                  <a:pt x="9475" y="11187"/>
                </a:cubicBezTo>
              </a:path>
              <a:path w="9650" h="7145">
                <a:moveTo>
                  <a:pt x="10021" y="10294"/>
                </a:moveTo>
                <a:cubicBezTo>
                  <a:pt x="10087" y="10314"/>
                  <a:pt x="10158" y="10324"/>
                  <a:pt x="10220" y="10344"/>
                </a:cubicBezTo>
                <a:cubicBezTo>
                  <a:pt x="10294" y="10368"/>
                  <a:pt x="10403" y="10390"/>
                  <a:pt x="10468" y="10418"/>
                </a:cubicBezTo>
                <a:cubicBezTo>
                  <a:pt x="10507" y="10435"/>
                  <a:pt x="10558" y="10467"/>
                  <a:pt x="10592" y="10492"/>
                </a:cubicBezTo>
                <a:cubicBezTo>
                  <a:pt x="10581" y="10549"/>
                  <a:pt x="10536" y="10626"/>
                  <a:pt x="10492" y="10666"/>
                </a:cubicBezTo>
                <a:cubicBezTo>
                  <a:pt x="10399" y="10751"/>
                  <a:pt x="10318" y="10833"/>
                  <a:pt x="10244" y="10939"/>
                </a:cubicBezTo>
                <a:cubicBezTo>
                  <a:pt x="10218" y="10975"/>
                  <a:pt x="10150" y="11043"/>
                  <a:pt x="10145" y="11088"/>
                </a:cubicBezTo>
                <a:cubicBezTo>
                  <a:pt x="10145" y="11096"/>
                  <a:pt x="10145" y="11104"/>
                  <a:pt x="10145" y="11112"/>
                </a:cubicBezTo>
              </a:path>
              <a:path w="9650" h="7145">
                <a:moveTo>
                  <a:pt x="8334" y="10641"/>
                </a:moveTo>
                <a:cubicBezTo>
                  <a:pt x="8413" y="10641"/>
                  <a:pt x="8468" y="10644"/>
                  <a:pt x="8533" y="10666"/>
                </a:cubicBezTo>
                <a:cubicBezTo>
                  <a:pt x="8568" y="10678"/>
                  <a:pt x="8582" y="10660"/>
                  <a:pt x="8607" y="10641"/>
                </a:cubicBezTo>
              </a:path>
              <a:path w="9650" h="7145">
                <a:moveTo>
                  <a:pt x="8682" y="10418"/>
                </a:moveTo>
                <a:cubicBezTo>
                  <a:pt x="8807" y="10340"/>
                  <a:pt x="8791" y="10314"/>
                  <a:pt x="8880" y="10344"/>
                </a:cubicBezTo>
                <a:cubicBezTo>
                  <a:pt x="8922" y="10358"/>
                  <a:pt x="8936" y="10338"/>
                  <a:pt x="8954" y="10393"/>
                </a:cubicBezTo>
                <a:cubicBezTo>
                  <a:pt x="8964" y="10423"/>
                  <a:pt x="8943" y="10472"/>
                  <a:pt x="8930" y="10492"/>
                </a:cubicBezTo>
                <a:cubicBezTo>
                  <a:pt x="8897" y="10541"/>
                  <a:pt x="8901" y="10591"/>
                  <a:pt x="8855" y="10641"/>
                </a:cubicBezTo>
                <a:cubicBezTo>
                  <a:pt x="8814" y="10685"/>
                  <a:pt x="8784" y="10723"/>
                  <a:pt x="8756" y="10765"/>
                </a:cubicBezTo>
                <a:cubicBezTo>
                  <a:pt x="8730" y="10805"/>
                  <a:pt x="8731" y="10815"/>
                  <a:pt x="8731" y="10864"/>
                </a:cubicBezTo>
                <a:cubicBezTo>
                  <a:pt x="8780" y="10864"/>
                  <a:pt x="8817" y="10881"/>
                  <a:pt x="8855" y="10889"/>
                </a:cubicBezTo>
                <a:cubicBezTo>
                  <a:pt x="8907" y="10899"/>
                  <a:pt x="8976" y="10889"/>
                  <a:pt x="9029" y="10889"/>
                </a:cubicBezTo>
              </a:path>
              <a:path w="9650" h="7145">
                <a:moveTo>
                  <a:pt x="9401" y="10641"/>
                </a:moveTo>
                <a:cubicBezTo>
                  <a:pt x="9442" y="10641"/>
                  <a:pt x="9484" y="10641"/>
                  <a:pt x="9525" y="10641"/>
                </a:cubicBezTo>
              </a:path>
              <a:path w="9650" h="7145">
                <a:moveTo>
                  <a:pt x="9649" y="10418"/>
                </a:moveTo>
                <a:cubicBezTo>
                  <a:pt x="9719" y="10392"/>
                  <a:pt x="9753" y="10390"/>
                  <a:pt x="9823" y="10418"/>
                </a:cubicBezTo>
                <a:cubicBezTo>
                  <a:pt x="9866" y="10436"/>
                  <a:pt x="9950" y="10468"/>
                  <a:pt x="9971" y="10517"/>
                </a:cubicBezTo>
                <a:cubicBezTo>
                  <a:pt x="9979" y="10536"/>
                  <a:pt x="9940" y="10607"/>
                  <a:pt x="9922" y="10616"/>
                </a:cubicBezTo>
                <a:cubicBezTo>
                  <a:pt x="9895" y="10629"/>
                  <a:pt x="9852" y="10656"/>
                  <a:pt x="9823" y="10666"/>
                </a:cubicBezTo>
                <a:cubicBezTo>
                  <a:pt x="9798" y="10666"/>
                  <a:pt x="9790" y="10666"/>
                  <a:pt x="9773" y="10666"/>
                </a:cubicBezTo>
                <a:cubicBezTo>
                  <a:pt x="9780" y="10688"/>
                  <a:pt x="9815" y="10705"/>
                  <a:pt x="9847" y="10716"/>
                </a:cubicBezTo>
                <a:cubicBezTo>
                  <a:pt x="9895" y="10732"/>
                  <a:pt x="9952" y="10735"/>
                  <a:pt x="9996" y="10765"/>
                </a:cubicBezTo>
                <a:cubicBezTo>
                  <a:pt x="10034" y="10791"/>
                  <a:pt x="10060" y="10871"/>
                  <a:pt x="10071" y="10914"/>
                </a:cubicBezTo>
                <a:cubicBezTo>
                  <a:pt x="10078" y="10941"/>
                  <a:pt x="10048" y="11025"/>
                  <a:pt x="10021" y="11038"/>
                </a:cubicBezTo>
                <a:cubicBezTo>
                  <a:pt x="9982" y="11058"/>
                  <a:pt x="9946" y="11063"/>
                  <a:pt x="9897" y="11063"/>
                </a:cubicBezTo>
                <a:cubicBezTo>
                  <a:pt x="9834" y="11063"/>
                  <a:pt x="9800" y="11054"/>
                  <a:pt x="9748" y="11038"/>
                </a:cubicBezTo>
                <a:cubicBezTo>
                  <a:pt x="9721" y="11030"/>
                  <a:pt x="9677" y="11038"/>
                  <a:pt x="9649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2:43Z</dcterms:created>
  <dc:creator>jnewman</dc:creator>
  <dc:description/>
  <dc:language>en-US</dc:language>
  <cp:lastModifiedBy>abeason</cp:lastModifiedBy>
  <dcterms:modified xsi:type="dcterms:W3CDTF">2009-02-18T19:04:12Z</dcterms:modified>
  <cp:revision>6</cp:revision>
  <dc:subject/>
  <dc:title>Lesson 6.3 part one</dc:title>
</cp:coreProperties>
</file>